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6A4-49BC-473E-965D-1B8BB519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383-757A-4FC8-885D-C1FB3341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F4D-5D2C-4A91-A958-59CB67AB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962-1283-4E63-A07E-406E0273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2383-CBBF-4911-BA5C-DAAEE9E1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A1BC-F055-4DFF-8E3F-1FC9EBBA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7DD1-C2E9-4F36-AFB1-6A57DFC4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120B-EBB2-476B-98B2-87D1EE85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3731-8146-4F89-A551-F33C6BAC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8110-7C9B-438B-A7B0-B672FCAA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253C-F4CE-4615-8128-C8BF0F59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A57-66A1-45E0-BBBE-5B14D05F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3A92-7092-4C39-93E6-BCDA07C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A71C-87AD-489F-8AF3-C5608E5D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5D36-1D60-4E34-9B65-8EB1D527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F3A1-2F50-4E24-891F-524DAC99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AAAD-8619-408D-921B-73F19AEA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540-4906-4C4C-B645-FE22398C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6EE-751B-4642-8F87-6DCB7A4B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4AE-9E55-453F-B947-88BB7409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2E8-5B36-48E7-81EF-19A3FE00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C7D-DC0E-45E3-BEEC-70A6F201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7C2-84AE-4C28-9191-6DE7B5C4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448-C642-475E-A299-C1EC004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231B-AE0E-43E0-BCC6-9100F6CA33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CC07-5029-49E7-80C2-EE511E9362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Interviews FAQ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Damian Gord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Further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Decide on an order of questions that easily flows one to the n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Try to use language that is easy to understand and relevant to the interviewe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void Leading ques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Try to stop the interviewee using qualifi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dd a few control questions into the interview for valid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void smalltalk during the intervie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LISTEN, LISTEN, LIS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What books should I read about interview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Anything and everything by Steinar Kv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Interpreting Qualitative Data” by David Silver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Research Design” by John Cres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What types of interviews are ther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Structured Interview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Fixed and predetermined questions and sequence of questions. No new questions added during interview, and questions given to interviewee by interview begi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Semi-Structured Interview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Some interview questions fully decided, others might not be fixed, and the other of questions in not fixed. The researcher has leeway in asking followup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Unstructured Interview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Researcher has a small set of self prompts to investigate research question. One question can lead to a number of followup questions depending on the response. They tend to be more like conversations than interview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Do I need to record the interview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Yes, definitely, you can 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Pen-and-pap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udio recor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Video recor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But whichever you use, you must do a verbatim recording of the interview, both questions and answ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How do I think of questions for the intervie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There really should be two 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ll questions need to come from the research question of the experi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If you find literature with a sufficiently similar research topic, you can use or adapt those ques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How many people should I intervie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  <a:ea typeface="Arial"/>
              </a:rPr>
              <a:t>±</a:t>
            </a:r>
            <a:r>
              <a:rPr b="0" lang="en-IE" sz="4800" spc="-1" strike="noStrike">
                <a:solidFill>
                  <a:srgbClr val="003366"/>
                </a:solidFill>
                <a:latin typeface="Arial"/>
              </a:rPr>
              <a:t>10 people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is a good rule-of thum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re there situations where I shouldn’t use interview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Yes, loads of situations, e.g. electoral voting behaviour, or capturing a person’s attitudes and interactions with their environ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When should I do the interview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Typically there are two times to do interview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s part of the requirements gathering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s part of the evaluation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re there software packages that can help me ?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Loa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TLAS.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nV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MaxQ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NUD*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Hyper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But, do not underestimate the power of Excel, it’s a brilliant tool when used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9:17:23Z</dcterms:created>
  <dc:creator>dgordon</dc:creator>
  <dc:description/>
  <dc:language>en-US</dc:language>
  <cp:lastModifiedBy>Dept of Maths</cp:lastModifiedBy>
  <dcterms:modified xsi:type="dcterms:W3CDTF">2009-07-06T13:57:20Z</dcterms:modified>
  <cp:revision>3</cp:revision>
  <dc:subject/>
  <dc:title>Interviews FAQ</dc:title>
</cp:coreProperties>
</file>