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B1A-393F-4630-B806-2703401E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0A0-8831-4FF3-8C60-A41166CF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E36-0C71-471D-B9BB-FBB1A2A0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FEA-5678-45F4-9B3A-111E9286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495-0614-472F-84DC-18CFF070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975-4031-4F71-AC71-722CF63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5B28-E9BB-44DF-A117-EE7147F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C429-1D09-4C33-A1B9-B649BB8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5F4-E787-44B4-8784-0EB9AAE1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3EE5-6F20-48C3-8C7B-69AA90FC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BED9-3C7A-4AAC-A85E-9EEA811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313-99B4-4E49-B791-9A832B41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E13A-F017-4469-81C7-EAFD38B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4C23-667A-4CC0-BCA7-0D38C6B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A628-68C6-43E7-BE70-E322010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3A8D-0A4D-4EDB-BE13-5D9F8057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73C-2642-47B8-9A66-923487A6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707-717B-4AD1-A75D-117CB4A8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A99-6446-450A-B538-F5F9F866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BF8-D291-4D5F-8708-93C7439A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3D7-050C-4EE4-B8AD-E182A2C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2AC-8856-4996-96BD-3AF415E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7A9-01B0-49AD-BDEF-F1C1F6D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A19-C701-4F4F-8AC1-96DB8110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20BF-A41A-46C6-9170-C62DF2B9F4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76A6-36A0-4C5F-8BCC-B719DB2A38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Analysis of Interview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Meaning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Meaning Co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dding tags or keywords to text segments that represent the main themes of the intervie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Meaning Conden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Summarising larger sentences into short, simple senten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Meaning Interpre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Adding more details, background and context to specific parts of the inter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Languag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Linguistical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Looking at the linguistics and gramm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onversation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reating the interview as a convers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Narrative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reating the interview as a s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Discourse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ry to evaluate the truth of the respon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Deco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aking the interview apart and putting together ag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Eclectic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Bricol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Using a collection of techniques as a coll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Theoretical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Creating your own reading on the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17:23Z</dcterms:created>
  <dc:creator>dgordon</dc:creator>
  <dc:description/>
  <dc:language>en-US</dc:language>
  <cp:lastModifiedBy>dgordon</cp:lastModifiedBy>
  <dcterms:modified xsi:type="dcterms:W3CDTF">2009-06-30T21:19:45Z</dcterms:modified>
  <cp:revision>4</cp:revision>
  <dc:subject/>
  <dc:title>Interviews FAQ</dc:title>
</cp:coreProperties>
</file>