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B7B-A44E-47D4-A6BD-42EC7291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9EB-2FE9-41FA-B860-F2417C79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412-D94B-463A-BEDC-8BE6504F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F94-5E13-4227-B53D-DBDBB8AF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DF27-6C6E-4CBC-BA9B-36BEA928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93C5-1EBD-41C0-9249-CED9FAB7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8CF3-5D9D-4708-928B-5B51CF6E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44AF-43FF-4FC1-9DBB-1778084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CB67-3CB4-4E89-9F8E-2B0E5FFD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9B96-4CBD-48D5-BC6F-142986C2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1539-746C-4C9F-A179-AF9A4902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708-B737-4369-A8A9-11A93F47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266D-EB47-4080-AF22-D6359286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60D3-3154-4953-9FEC-772392B0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9EC6-B374-4484-801D-31B44D08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BC90-B090-4CCF-8080-9B36E935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DA5D-0B97-4DDD-B7F6-332A8BAC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F30-41FB-4EF9-83ED-B69E0D7B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95A-2642-474A-BFAE-BB757E85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166-BA7B-415B-9457-8EE41F02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4AB-8138-4908-80AE-9BD0C04B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B04-F4CD-4BE9-A6C1-2BD12FBB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240-B24D-40FC-AB16-129E994A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45E-CA5C-490C-B17E-85B50CA7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91A8-0502-4C6C-AA84-54CA42DA8D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3587-3017-4895-8873-565E641800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Introduction to Interview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Damian Gord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The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27400" y="3097080"/>
            <a:ext cx="2857320" cy="227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42360" y="38815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Interview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16280"/>
            <a:ext cx="1513080" cy="64944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9440" y="38815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Interview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3716280"/>
            <a:ext cx="1512720" cy="64944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2520" y="61866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Intervie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6021360"/>
            <a:ext cx="1512720" cy="64944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4076640"/>
            <a:ext cx="5763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4076640"/>
            <a:ext cx="57636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5084640"/>
            <a:ext cx="0" cy="936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Kvale’s Seven Stag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288880"/>
            <a:ext cx="76932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Themaz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What is the theme of the interview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Desig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How will the intended knowledge be obtain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Interview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Conduct the interviews careful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Transcrib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Converting interview into written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Analyz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Based on the appropriate type of investig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Verif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Checking that validity, reliability, and generalizibility of the findin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Communicate findings in a scientific and ethical manne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Interview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288880"/>
            <a:ext cx="76932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Introductory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Warm up ques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Followup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Listen for “Red Lights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Unlimited scope ques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Specifying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Exact inform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Direct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Introducing a new top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Indirect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Projective ques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Structuring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Transitioning to new topic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Interpreting Ques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3366"/>
                </a:solidFill>
                <a:latin typeface="Arial"/>
              </a:rPr>
              <a:t>Clarifying ques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3366"/>
                </a:solidFill>
                <a:latin typeface="Arial"/>
              </a:rPr>
              <a:t>Silen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9:17:23Z</dcterms:created>
  <dc:creator>dgordon</dc:creator>
  <dc:description/>
  <dc:language>en-US</dc:language>
  <cp:lastModifiedBy>dgordon</cp:lastModifiedBy>
  <dcterms:modified xsi:type="dcterms:W3CDTF">2009-06-30T20:40:29Z</dcterms:modified>
  <cp:revision>5</cp:revision>
  <dc:subject/>
  <dc:title>Interviews FAQ</dc:title>
</cp:coreProperties>
</file>