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C3A5-A0B0-4EE5-9299-A9F378A4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96D0-4B1F-4784-BC31-3A5AE093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E4987-29AC-4E77-9B62-EA7D364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1FE62D-38D3-43D2-8B87-E1BF46B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CFD25-0C5B-4546-B4CC-92D9D71B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1433F-0865-4E9C-A629-8A6084CE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ED6FB-61B5-463D-8B54-40B022D6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0C65F-94BF-465F-8AE5-691C53FC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31D9F-A15F-4C3B-82D6-B1DAFDDD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E1120-D8DD-4D94-8568-9653868B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E9C28-C537-4F7E-B83A-304C7F4D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C06-7E33-42A1-866E-DD9CC73B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662A-3A10-4385-86E1-23E8F2F80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B5EC-FFDE-48E3-833F-F0E267C6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FEC4-C332-4D62-8951-8C4050F2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D5FC-7E01-452A-9630-89EF1A83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E2E7-9A4F-4B43-BC27-11AE85E0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C4EE-670F-4659-8936-36816010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1A68-38B6-443D-86B6-B249EC6A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4EEE-ED6A-4447-8AB8-C4DF2A2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552-FED9-4C94-AE9E-81EA7CBF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B193-B381-4B32-8276-6EAB509C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070D-92C2-4539-AED2-9C3FDCBF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CB08-8BFF-4E79-A5F3-4258A51A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0BAB-8E6C-440A-91F5-B6EA012A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0C58-4021-4D6D-99EF-845178088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D3CF-0B94-4235-8C24-F58A6638B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4A826-DDA8-4CE5-822F-7F5232E2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90AE-4B7A-44DC-8743-FADBAEDE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7311B-84D9-4925-9E0B-15918052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36EFE-5372-41DF-AE7E-8126835FC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0387-83F9-4732-B46E-E0A40E0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D7ECF-36C0-4DE4-B13C-64E01C2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5200-E321-4678-A213-2F592126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D176-9790-4BF0-8628-31A310F8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AA7B0-2E22-4C8B-A1BD-F9D59322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CEA63-0150-48F1-B36F-22519EC4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DE20B-7D7C-4C6B-946B-1674222D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55ADE-02CF-4360-BDDD-DD4FC204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4D32-FBC2-4EB0-B197-7FB0CFA7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F2C4E-81B0-4359-A4A0-A7283D61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5A8B4-EE9B-4351-B7B4-EA4691C3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615F-F51B-47C1-AB05-2868B09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F3B3-194E-4F93-B350-C28FF578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FC52-2E24-490D-88D7-CF495AAE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6AC94-4CDB-466C-977B-69C96C8F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4C74-8F88-402A-A152-1907F4C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12F67-B7A6-480E-8FCB-AA8BFC9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B8989-A3A4-4C00-9194-80BDAAFB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77F54-114D-4F1E-8752-D941012C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66F1B-9AF1-410A-8887-E636E8DC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AD0B9-79A3-4C85-AE4C-A14CF3A5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9F59B-39D9-44F6-BDB8-A6C75566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33F-0772-4347-8AF6-D90BEE3B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179EC-E9D2-44ED-8486-708D5891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F79BD-96E2-4451-B55A-C90E198B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F2941-327C-4C5D-800E-0FE4D8A02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6E489-9D84-40CF-B7E4-80EB925A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694A-3016-4C35-A416-0E87E3C4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8BE6-8A47-4FBF-98B7-FEEC6635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FB53-504E-40AD-9B07-D6C1F17B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B71A-639A-4223-97C0-B548E9D9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AB26-824D-4E1B-86B3-DA794145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538FD-FC6E-4F0E-9132-E9C09B025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FC27-D453-45F5-8C5A-EB975A21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98BD3-30D7-4136-91D7-CF596A2E1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66155-0C6A-4BF0-8618-0A9C791E0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2DDC7-DCA8-407F-B280-DDCBC6B7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E8487-C538-4EAB-B9C6-1405EA26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C222D-BAD6-4E34-8570-7D38B55E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43F0A-8CFB-41F9-ACAC-F81BC685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859BD-AD5B-438B-9CD7-87A6C228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DC283-30FD-4AE7-8B51-39BA72BC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FD21B-8B08-4F23-B506-6A7C1DA5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CB9C2-E8BE-4478-A7A2-C5B1972A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1DB-D149-4FD4-B816-873B6FC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8FC61-58FB-49C2-B301-371C49DD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A9C34-5252-4BE0-A176-BBA83C872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4F8E0-7B31-4A49-97F7-827782A7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8D7AA-1666-4CEB-867B-13A05FC6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6949B-6376-4E1A-A0B9-CDAA5C85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AC3B-899E-4361-93D8-3A3BAC37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B6A39-118F-4452-99EC-755A63AE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B8142-3C27-4C1D-9C68-7F20ED59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2139B-88C5-4A10-BCE2-80D27E50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18C39-0EB6-4FC7-B80C-E957A66D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500E-8E91-406E-85B4-98C060A5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E3AA9-DDB8-4AD9-B616-3F558484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4413A-B44B-4966-B2F1-4B990A91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D8ECB-551A-4F43-917B-79E2335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9A0AE-6334-461A-A6CF-1563C7F3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EE807-D84E-4A69-A8F7-29EBFB74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343BF-FCE5-472C-B3E7-6560779F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FCB5-318C-44D8-AE2A-73FF5358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8D681-0FFB-413C-B469-F897FE64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4FE99-BE58-42BF-A271-52E5E7A6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A231A-77C2-4EE2-8044-8EEA5098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9E5B-1D20-43E1-8A0B-043C813C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11C89-EF57-4E9A-96BA-112D8289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1A59D-FB9A-4F74-B2AE-7D2004B6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EF108-F506-4660-BFA4-542BA19B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3D06A-1311-4EE4-8825-E2BFA4FC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B6EA6-DAED-4A15-9B24-95AE4D2D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FFB37-D4C8-45A2-92DF-5D992F50D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EFFC-248B-4CDE-833B-EEC64C41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D6DC4-9557-4363-BEA4-6D971DFFA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B5C3FB-6D24-46C1-9BFF-63116656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040C6-F1A4-4AEB-9433-0A56F55E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194D-64E0-483D-A9A8-B8416826B4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D16D-7007-4944-8450-A6A824A608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7A40-6BBE-4DD5-A489-C4656A1567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8187-869F-4505-AF26-A8A9D645B7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1B9E-CF9E-4ACE-9FE1-93878408F1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F6A9-6F92-4EEB-98CB-75A5EA8EF3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F5F7-C085-4BAE-8F3E-C6E5BDB39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BE1C-D055-44D5-A37F-011AAF99F2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2088-3F45-4CC6-8F3C-954D415FD2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Damian Gord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rmal testing might entail building a usability testing lab, equipping it with an array of computers, audio-video equipment, then staffing it with psychologists, technicians, and human-computer interaction speciali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formal approach: No fancy lab or expensive equipmen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 simple test plan and task list are prepared, notepad and penci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ticipants are observed by an impartial moderato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advantage is that informal testing looks at what people actually do when they are doing real work in an ordinary setting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41" name="Object 7"/>
          <p:cNvGraphicFramePr/>
          <p:nvPr/>
        </p:nvGraphicFramePr>
        <p:xfrm>
          <a:off x="3505320" y="1873080"/>
          <a:ext cx="1635120" cy="397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05320" y="1873080"/>
                    <a:ext cx="1635120" cy="39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 a test pl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simple testing, prepare a list of ques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r more detailed testing, have a script prepar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 Plan is important because you can create a framework for your testing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allows you to communicate your goals with the client &amp; align expect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Task Lis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lists of tasks or questions that a typical user should be able to complete in an hou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sks should not be too simple nor too difficult to accomplis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e.g., 1. Find a concert show you want to se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2. Purchase tickets on lin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3. Find directions to the venue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rmal usability tests only require a pencil, paper, computer and brows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might use a video camera and record each ses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imes watched by development tea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ften usability tests can be conducted within the user’s own environ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a printed version of the site for note taking, and then watch and learn . . 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llenging  aspect in usability testing is finding suitable participa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mportant to gather on ongoing user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 outside the team—testing with people who are not associated with your company or your Web 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ior to conducting sessions with participant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 out your test plan beforehand with co-workers or friends that have an acceptable degree of Web user exper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irst usability test should be fun, informative, and low-str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e yourself, explain the process to the us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r will be asked to perform a set of pre-defined tasks (but do not tell them how many or how long each will tak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 the user feel comfortab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ak only to give a new task and take notes during th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ce the usability test session is over, prepare a short summary of the session and the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tline specific problem areas and any unexpected resul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clude any personal observ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mary and Relevance of topic pap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finition of Usability Tes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l vs. Informal methods of testin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sting Basic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ive step proces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llect basic data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uld the user complete the task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id they need help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rack how much time it took them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te any stumbling blocks (problems/obstacle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verall observations, commentar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brief the user, allow user to speak their min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epare a post-test surve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st-Test Survey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repare a survey online or in paper form for the user to fill out after they have completed the testing proces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uestions should include what the user thought the Web site was like: graphics, logic, content,  navigation, and their overall satisfactio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Gather data about overall effectiveness of the site in relation to the goals of each task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ile and summarize da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fer handwritten notes to compu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your reports while they are fresh in your mind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e a summary after testing is complete, into a table that shows the results of each test, include problem areas, comments and user feedback from the surv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difficulties and problem are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why there was difficulty or the source of any problems (specific factors such as navigation, text, graphics, etc.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dentify any specific task-oriented iss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ile and recomme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ather all your compiled information and translate into recommendation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centrate on high-level functionality firs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n focus on recommendations for improved user experience (what works and what does not work well for users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termine the implementation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rite up a formal repo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aper used in this presentation describes a practical methodology to perform usability testing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cifically, how usability testing can be applied to improve a user’s experience with navigating, finding information, and interacting with a Web s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now your goal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identify the problem areas of your software [Web site] by testing to solve those problems, (and always keep your tests and analysis simple!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Is a measure of how easy it is to use somethin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How easy will the use of the software be for a typical user to understand, learn, and opera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914400" indent="-4572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.g., “user-friendliness”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Rectangle 2" descr=""/>
          <p:cNvPicPr/>
          <p:nvPr/>
        </p:nvPicPr>
        <p:blipFill>
          <a:blip r:embed="rId1"/>
          <a:stretch/>
        </p:blipFill>
        <p:spPr>
          <a:xfrm>
            <a:off x="225360" y="128520"/>
            <a:ext cx="84679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..the extent to which a product can be used by specified users to achieve specified goals with effectiveness, efficiency and satisfaction in a specified context of use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231840" y="311040"/>
            <a:ext cx="862632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testing is an effort to ascertain the degree to which software has met the usability needs of its intended user ba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is difficult to evaluate and meas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ability Testing  is an attempt to quantify software user-friendliness according to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kill needed to learn the softwa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ime required to become efficient in using the softwa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measured increase in user productivit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 subjective assessment of a user’s attitude toward using the softwa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he idea is to place users in front of some version of the software under test and watch how these users try to use it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be expensive depending on what tasks you have users try and on what you are watching for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ot cost-effective if done too late in dev cycl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n uncover usability problems that  design guidelines and inspections may have missed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1T00:45:26Z</dcterms:created>
  <dc:creator>MyName</dc:creator>
  <dc:description/>
  <dc:language>en-US</dc:language>
  <cp:lastModifiedBy>dgordon</cp:lastModifiedBy>
  <dcterms:modified xsi:type="dcterms:W3CDTF">2011-11-04T10:59:13Z</dcterms:modified>
  <cp:revision>57</cp:revision>
  <dc:subject/>
  <dc:title>Presentation: Usability Testing</dc:title>
</cp:coreProperties>
</file>