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F9F-2B2D-43BB-BF8F-62B2C923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CB9-9D3D-4C17-AF8C-114AC70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CA17C-D3FC-4EA4-B91C-8636E05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F0C72-3BCD-4D18-975B-B8D02EA2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31AB7-23E8-40C3-9866-5DDA8DC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12797-FCB6-4E7A-A8A2-2A0B90C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E71C7-A811-4B94-8E40-5A3ED48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45680-5424-46D6-A3AD-6B3FB38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30B03-DF93-4EB1-997E-45C01ADC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12F45-A582-4117-8256-A1F10EEA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95A9-F7B2-4045-9CAD-CB961533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92B-42D6-4602-A748-EB826B07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D73-1806-4435-B75E-1BD2BC03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78F-2D7B-4F5A-80E4-E6384EBC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4F39-BECD-413C-878B-9D3C855F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C97-8757-4EAE-9975-D91E6C5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069A-6BE5-4453-B5D6-262E0BF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113C-61B6-4CE4-8A46-04F354F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03F3-3FF1-4495-9D40-6300837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1EE-A1D0-4765-80ED-FD84722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A56-4A3D-403D-B73D-92F961E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3B19-D115-4EC3-AF44-BFAB459E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8871-83E8-4048-8E27-4324C4D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84DD-0F76-4412-88C2-529021B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B937-B45C-448B-AA95-D02829CE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EDBC-67C9-44FE-A447-1B7759FA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ECC0-B5D9-4235-94B7-3BCB5EB8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BC40-A2BB-4A11-BB9E-C56E7772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F68B-0F7F-416A-B145-BA3BF6F7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F104-4BB7-45C2-91E5-32203F18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8178-32F9-451E-AEAB-252911D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78E-BDAA-40E7-B430-F983E8A7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E5FE-6A82-48B9-9231-F33387BE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D10F-F633-4243-BA69-14E8531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247D-3785-49DD-8797-B28ED5C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5172-14EC-4218-9084-D58C2ED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F5E1-E2DE-42CA-874D-E2D92257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AB67-4191-426C-8272-B36DA91C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AF2E-025F-4B3C-AA3E-B4C5E639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6232-720F-4D41-AC35-70C6495D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7618-FC7F-4A29-9C3C-EA8E955C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80E0-A608-4B37-984C-9B7733BC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6AD-318B-4648-8E97-FE8E99D6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112B-4103-4731-981D-9F61349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1C88-2C82-4147-B979-0A1A4832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8DAC-26B0-426F-B8A8-6CB3506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B718-8EF2-4DD9-9829-67480EC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37F1-2D2E-486C-B798-DFD2303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14F2-2580-4B33-8FC0-3D4B6461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211A-733F-43B6-BD1F-1C165CA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9C22-8772-4070-8897-EC376ADB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9DE05-627D-4E27-BB0A-B1F2F7FE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EA49-FB2E-4BAB-8628-BD247F9C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575-0635-4CDE-99F6-4222F70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19B9-4296-4D4D-AA95-E6F926FA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E095C-4694-4783-AAB2-7176A08B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EC7D-4515-464A-92A0-06254007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E54DF-6C7F-444F-ABDE-BB30DC6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83B1-129F-4F81-B3E4-839E053B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BC1B-FE35-46BA-BF29-1590D171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4C6C-2933-44D8-953D-05FFFCD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0AB5-1926-4681-9D9F-09173F5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498A-AEA9-48A7-A3FF-6AFC64F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D271-4335-433E-8BF0-440A9179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038-ACFF-437B-A41E-AACCC933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91ED-E0C4-4A90-BA53-006C60D6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1C9C-D05E-4E4C-84A9-7E2421D4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FAE8-FCC9-486E-95B3-555CD0F8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111E-DF0A-4B17-92AD-581ED8D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354C-5CA7-480E-AD78-230F8E0F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0180D-2EAC-4556-980C-3DDB3CF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9457-677E-47CE-A277-38CABA7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B683-D356-4E2C-AD80-E6B55E5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3FF0-3F9D-4EDC-B76C-B76FC72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857C3-6FDB-4C7C-8303-0A6E87B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0D1-7AC2-42E1-916C-F305BB96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6EC6-E214-4DC5-9292-9C1C9220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7EC5F-78AE-4CC6-BB15-C0FA829D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7864B-5C97-41BF-9DF6-E33C8E1D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F6BD9-A3C0-4132-8202-F2CFF994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1B46-06B5-41F0-813C-6615C47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253E-2E57-46E6-B5EC-744119F7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D2A4-583F-491C-AC71-C8B4165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B0CE6-4DF4-4E9B-A78A-3C00BAE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DEE52-6FAD-4679-8D57-8F80F5FF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7ABCC-E1A1-49DB-8461-0ACD1E2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00B-20DF-4911-8FB3-4C5E439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21FD-9F18-49DF-871F-000504C1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DEC3-D2EA-42FE-9053-691FD474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9950A-C74F-4C9F-B3A9-0A73B4C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B48EE-34AB-4EB4-BAAC-0625FE0E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9F0B-690F-4132-957F-F6697E5E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C6EB-975C-4A21-9D44-DDA603F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81B93-8D3C-4E83-AD8C-B9EED554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2DF6-CDA6-4244-B5C8-EE0C8879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065EE-7407-475E-B5F1-C16ED68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DAE4-0A54-4C62-867A-62577DAF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06A-9A49-474E-A59B-15FDE45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3BD9-8BD7-460D-A462-90B7CB4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1A85-486A-42EA-840C-67AF0842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0618-60B4-4A4B-9CDB-3F35896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5D96-261B-4F90-991F-CF9636A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5D4E-A766-40F4-84D7-EEAAFD9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D21C-74CF-4EA0-98E5-9C1394D7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B68E9-47CA-491F-BEB6-B3606103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8577-BC62-4602-AAF4-0BCD4684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6EE7E-024D-4E16-A17B-9848D4A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CFC0F-7224-46D1-B948-3C7E437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7F6-71D0-4758-BBC3-7EA7D7C924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065-5CA3-481C-8D41-BC7856DA53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5B2-886C-487D-A434-99F3CE59FE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D5DD-FEBB-44D4-8225-8E5CB5EE04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4ECC-5D54-48E6-8981-2881DCF922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C26-0329-4F80-BDCD-98C7B0C219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33B-5FB8-4A48-95A0-6FA7AC6897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34B8-855F-4587-A763-F77D8232B3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0D7-E8BA-4927-81DC-FD7FBF97F7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amian Gor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l testing might entail building a usability testing lab, equipping it with an array of computers, audio-video equipment, then staffing it with psychologists, technicians, and human-computer interaction specia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ormal approach: No fancy lab or expensive equi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simple test plan and task list are prepared, notepad and penci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ticipants are observed by an impartial mod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dvantage is that informal testing looks at what people actually do when they are doing real work in an ordinary set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41" name="Object 7"/>
          <p:cNvGraphicFramePr/>
          <p:nvPr/>
        </p:nvGraphicFramePr>
        <p:xfrm>
          <a:off x="3505320" y="1873080"/>
          <a:ext cx="163512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873080"/>
                    <a:ext cx="16351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 a test pl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simple testing, prepare a list of ques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more detailed testing, have a script prepa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 Plan is important because you can create a framework for your testing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allows you to communicate your goals with the client &amp; align expect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Task Lis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lists of tasks or questions that a typical user should be able to complete in an h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sks should not be too simple nor too difficult to accompli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, 1. Find a concert show you want to s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. Purchase tickets on li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. Find directions to the venu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l usability tests only require a pencil, paper, computer and brows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might use a video camera and record each s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watched by development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ten usability tests can be conducted within the user’s own 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a printed version of the site for note taking, and then watch and learn . .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llenging  aspect in usability testing is finding suitable particip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ortant to gather on ongoing user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 outside the team—testing with people who are not associated with your company or your Web 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or to conducting sessions with participa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 out your test plan beforehand with co-workers or friends that have an acceptable degree of Web user exper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rst usability test should be fun, informative, and low-str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e yourself, explain the process to the us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r will be asked to perform a set of pre-defined tasks (but do not tell them how many or how long each will ta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the user feel comfort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ak only to give a new task and take notes during th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ce the usability test session is over, prepare a short summary of the session and the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tline specific problem areas and any unexpected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lude any personal observ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mary and Relevance of topic pap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 of Usability Te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l vs. Informal methods of tes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ing Bas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ve step proc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llect basic dat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uld the user complete the task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d they need help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ck how much time it took th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 any stumbling blocks (problems/obstacl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all observations, commenta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brief the user, allow user to speak their mi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pare a post-test surve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st-Test Surve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are a survey online or in paper form for the user to fill out after they have completed the test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estions should include what the user thought the Web site was like: graphics, logic, content,  navigation, and their overall satisfa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ather data about overall effectiveness of the site in relation to the goals of each tas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ile and summarize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fer handwritten notes to compu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your reports while they are fresh in your mind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summary after testing is complete, into a table that shows the results of each test, include problem areas, comments and user feedback from the surv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difficulties and problem ar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why there was difficulty or the source of any problems (specific factors such as navigation, text, graphics, 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any specific task-oriented iss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ile and recomm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ther all your compiled information and translate into recommendatio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centrate on high-level functionality fir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n focus on recommendations for improved user experience (what works and what does not work well for users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rmine the implementation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up a formal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aper used in this presentation describes a practical methodology to perform usability test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ally, how usability testing can be applied to improve a user’s experience with navigating, finding information, and interacting with a Web 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now your goal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identify the problem areas of your software [Web site] by testing to solve those problems, (and always keep your tests and analysis simple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Is a measure of how easy it is to use someth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easy will the use of the software be for a typical user to understand, learn, and oper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, “user-friendlines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4679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the extent to which a product can be used by specified users to achieve specified goals with effectiveness, efficiency and satisfaction in a specified context of use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1840" y="311040"/>
            <a:ext cx="86263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testing is an effort to ascertain the degree to which software has met the usability needs of its intended user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is difficult to evaluate and meas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Testing  is an attempt to quantify software user-friendliness according to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kill needed to learn the softwa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ime required to become efficient in using the softwa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measured increase in user producti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ubjective assessment of a user’s attitude toward using the softwa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idea is to place users in front of some version of the software under test and watch how these users try to use 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be expensive depending on what tasks you have users try and on what you are watching fo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 cost-effective if done too late in dev cyc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uncover usability problems that  design guidelines and inspections may have mis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00:45:26Z</dcterms:created>
  <dc:creator>MyName</dc:creator>
  <dc:description/>
  <dc:language>en-US</dc:language>
  <cp:lastModifiedBy>dgordon</cp:lastModifiedBy>
  <dcterms:modified xsi:type="dcterms:W3CDTF">2011-11-04T10:59:13Z</dcterms:modified>
  <cp:revision>57</cp:revision>
  <dc:subject/>
  <dc:title>Presentation: Usability Testing</dc:title>
</cp:coreProperties>
</file>