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5A9-AC80-4796-BA04-A093846B7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E60D-535C-43AD-BBEC-6A5017DB6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9FF-1265-4041-B6D5-BC8F919B5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9D9-A237-43B1-90E0-BD956706A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B405-0184-4B9E-AB78-F6F1EC42EC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0A2-608E-4900-87AF-30176DF91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1E7-CC09-4536-936D-412E004DDC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D3F-5DE5-4C00-82C5-A3D9A49618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5A7C-D7AF-4552-BD5C-B9817A682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DFD6-DEBC-4E05-8873-A31375C8D9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842-383A-4220-A72B-4FF08F2B9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B84-B740-49D1-AF30-A1AE4827FC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DD59-6C08-4D4C-A267-19405E818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8A8E-41DC-4619-B350-51E7AB2BA0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A6D3-3860-4D72-94AC-AA1DD14025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C921-071B-4005-9EDC-755A33DA9F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009-F9AF-43B4-9FA7-32C612BF61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B27-B011-4AC9-A44C-CD3B670517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D2AE-29E7-481B-A077-42139D0EE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358-1CA2-4D2A-913B-9A3BDD8ED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2D1-57B1-45E8-8ECD-8E1FBD82F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178-1680-4C72-972E-BAF7E63D5D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588B-76A3-4E92-9C42-0A4E62F42B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204B-3AF6-4687-8B8A-BB2E859F94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B80-BE39-444C-81C9-718FC86CA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C92-B79C-4586-8AAC-7CE4B64F6B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7A1-BD7E-42BA-A662-D21F178D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5DB-B947-48D9-AAB9-0212BCA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B04-B41D-461E-8303-40DF180C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B0E-7C73-4DF7-A62D-BC155C0A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F70-F02C-4D65-8CEC-706509B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849-FE9B-49EA-9196-46AA273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200-D8D9-401C-BF34-2FD7A9AD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051-1E16-4898-BF1F-6901214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85C-2200-46D6-BDD2-B3B4C5E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CC2-7BE4-4225-92CA-CD8A495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FCD-6A70-4D7B-9834-F4F2564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06F-0D64-4B19-9707-D69C461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24B-68E2-48AE-A019-31DA9FB6AA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lobalwarmingrecent"/>
          <p:cNvPicPr/>
          <p:nvPr/>
        </p:nvPicPr>
        <p:blipFill>
          <a:blip r:embed="rId1"/>
          <a:stretch/>
        </p:blipFill>
        <p:spPr>
          <a:xfrm>
            <a:off x="395280" y="836640"/>
            <a:ext cx="8369280" cy="5968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838080" y="44280"/>
            <a:ext cx="7981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 key words and print using upper or lower case letter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ch word/image must be alone and sitting on its own lin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lines must be connected, starting from the central image. The central lines are thicker, organic and flowing, becoming thinner as they radiate out from the centr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proving-memory-mindmap"/>
          <p:cNvPicPr/>
          <p:nvPr/>
        </p:nvPicPr>
        <p:blipFill>
          <a:blip r:embed="rId1"/>
          <a:stretch/>
        </p:blipFill>
        <p:spPr>
          <a:xfrm>
            <a:off x="34920" y="44280"/>
            <a:ext cx="905832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e the lines the same length as the word/imag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olours – your own code – throughout the Mind Map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 your own personal style of Mind Mapping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emphasis and show associations in your Mind Map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000" y="1773000"/>
            <a:ext cx="7661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 the Mind Map clear by using Radiant hierarchy, numerical order or outlines to embrace your branch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mindmap"/>
          <p:cNvPicPr/>
          <p:nvPr/>
        </p:nvPicPr>
        <p:blipFill>
          <a:blip r:embed="rId1"/>
          <a:stretch/>
        </p:blipFill>
        <p:spPr>
          <a:xfrm>
            <a:off x="304920" y="44280"/>
            <a:ext cx="858816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hat is a Mind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ndMap is a visual form of note-making that can be done either individually or as part of a group. At its heart is a central image or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nd Map is a powerful graphic technique which provides a universal key to unlock the potential of the br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Benefits of Mind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as the branches are all connected, so all the ideas are all related to each other, this gives MindMaps an additional depth that a simple list can never achieve. By working from the centre outwards, a MindMap encourages learner’s thoughts to grow outwards. Soon the learner’s ideas will expand and radiate creative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Benefits of Mind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dMaps are an effective thinking tool because they work with the brain and encourage it to develop associations between ideas: each branch of the MindMap is associated with the previous branch. This is a visual map which complements how the brain works and can lead to significant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M---principles"/>
          <p:cNvPicPr/>
          <p:nvPr/>
        </p:nvPicPr>
        <p:blipFill>
          <a:blip r:embed="rId1"/>
          <a:stretch/>
        </p:blipFill>
        <p:spPr>
          <a:xfrm>
            <a:off x="88920" y="260280"/>
            <a:ext cx="8964720" cy="63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Uses of Mind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s in Comp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g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sebox Archite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brainst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 and debug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roblemSolving"/>
          <p:cNvPicPr/>
          <p:nvPr/>
        </p:nvPicPr>
        <p:blipFill>
          <a:blip r:embed="rId1"/>
          <a:stretch/>
        </p:blipFill>
        <p:spPr>
          <a:xfrm>
            <a:off x="34920" y="704880"/>
            <a:ext cx="903924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hat is a Mind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nd Map can be applied to every aspect of life where improved learning and clearer thinking will enhance your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rnesses the full range of cortical skills – word, image, number, logic, rhythm, colour and spatial awareness – in a single, uniquely powerful manner. In so doing, it gives you the freedom to capture the infinite power and creativity of your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age"/>
          <p:cNvPicPr/>
          <p:nvPr/>
        </p:nvPicPr>
        <p:blipFill>
          <a:blip r:embed="rId1"/>
          <a:stretch/>
        </p:blipFill>
        <p:spPr>
          <a:xfrm>
            <a:off x="7920" y="7920"/>
            <a:ext cx="914544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Creating a Min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bject of attention is crystallised in a central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n themes of the subject radiate from the central image on bran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nches hold a key image / word printed on the associated line - details radiate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ranches form a connected nodal struc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nulinuxupdatedw403ki"/>
          <p:cNvPicPr/>
          <p:nvPr/>
        </p:nvPicPr>
        <p:blipFill>
          <a:blip r:embed="rId1"/>
          <a:stretch/>
        </p:blipFill>
        <p:spPr>
          <a:xfrm>
            <a:off x="34920" y="249120"/>
            <a:ext cx="900288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ind Map is open to free interpretation by each individu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 in the centre with an image of the topic, using at least three colour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indMap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images, symbols, codes and dimensions throughout the Mind Map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10-12-21T16:20:30Z</dcterms:modified>
  <cp:revision>22</cp:revision>
  <dc:subject/>
  <dc:title>Step 1. Decide on Question</dc:title>
</cp:coreProperties>
</file>