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87B3-9EE8-4E42-9A17-56921B630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58A4-A6F8-4726-BC21-AF837F5D009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983-7450-432A-9BDE-D2DC6975B4A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FD06-BEEE-4F19-9AC4-CAD635AF81B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BC10-E23E-4526-82EC-F6480EAC4A8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131-65DF-448B-AF47-0934296A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0AB-3573-4099-9C89-BB98CA8E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115-81A2-442D-8DA1-DE0C817B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CE1-947C-47C1-892A-B96872B8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E09C-6B36-4F5C-9ACE-7CC20844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617-84AE-4208-ABB6-53AADA2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91F5-A344-465F-A839-9184D253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BDB1-0C98-4744-9DC7-DD88BA12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A0EF-A96A-42CD-AF4F-5CA21A57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2DBB-C097-4C7F-93FA-975278A9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EFEF-CB38-472C-9A65-DFF97AA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87F-1ABF-43A5-8CD1-FD5B8978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48A5-A821-4EA2-9E14-15562D3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BD67-B6BC-48A4-AA73-671BF19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3E79-DD7A-4D14-AEFD-92129A03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F08C-4C2B-4428-88E8-8122B873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4E26-FF60-4912-AA15-52BE581F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0AC-49E9-4663-A34E-FE9793C4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23B-2175-4E8E-AFDB-0C7F8617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257-CD7F-4B74-84E8-D165C8B4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B72-136C-4B40-B2BB-0F94B7A2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385-0F92-4CF7-9679-23E1E62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A55-EA78-4124-BB78-4F90D50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461-DFC3-4EA8-B4D7-2378CD1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34F3-6F2D-4ACD-B82D-C1D6B0C384E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D25A-5F0B-4C17-8C57-B7442015B329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0A5B-C9F8-4F83-AC42-3217A7DB46FE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29CC-9933-4B66-8812-5328EC1FEA27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1763640" y="981000"/>
            <a:ext cx="7380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684360" y="981000"/>
            <a:ext cx="208728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83200" y="1505880"/>
            <a:ext cx="67230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Week 9 Exercis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9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want you to do this exercise in electronic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ill also be another deposit in your portfolio, so keep a cop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9 Exercise – Part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omplete and type up your project description that you developed in class, include your name, student number, and course name, and hand up to me next week, also include a copy in your portfol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9 Exercise – Part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For each step of your experiment as described in the previous document approximate (in weeks) how long each step will tak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onsider some potential risks that may occur at each stage and how serious they are to your projec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56:11Z</dcterms:created>
  <dc:creator>x</dc:creator>
  <dc:description/>
  <dc:language>en-US</dc:language>
  <cp:lastModifiedBy>DIT</cp:lastModifiedBy>
  <dcterms:modified xsi:type="dcterms:W3CDTF">2012-11-14T18:39:50Z</dcterms:modified>
  <cp:revision>166</cp:revision>
  <dc:subject/>
  <dc:title>What is research?</dc:title>
</cp:coreProperties>
</file>