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44FE-6763-44FD-B5D3-4D47C3750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8558-5490-4BC3-AFA9-EFD4BD64882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A995-AED3-4171-97B6-8CFBB9FCB69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57FB-3751-4027-965B-15E9D13A1CF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15C-BB10-4AB2-AFEB-48029460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12D-8A66-4091-BC5A-34D0BB39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6114-E3C5-45CD-B27C-7080C4FE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EF5F-6B1D-463C-B251-45FDF1ED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50BA-E02A-4AA8-8612-CFC815FF5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B415-E07E-4A13-9436-0D4D0838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1DDA3-4CB5-4FB0-A16F-39B59928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2957-CDB1-4475-A8FC-499837C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F270-FCEF-4EB6-AE79-C8A74519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0038-DA86-4639-929B-C84F58C3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7717-2679-4617-A855-14C69754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0C6-3626-47F5-AA06-2F51304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73D0-66FF-4C10-A29A-2C71600D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6A78-CE22-4FAB-8651-0BA7B234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26B4-3EC4-4F9A-9E0B-B086B456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CE5B-1980-4017-8ED0-EB6267A1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253C-EEFB-405B-BE12-99629A5F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EDFE-0B13-45DC-8FDA-F0BFD056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0F4-43AA-4AE7-9F4E-09DE3CC8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85AB-D233-40D7-B57C-DA357CE4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A7CB-B41C-4E91-BD61-09A50B4B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1073-3756-4D6E-95AA-1153EF9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92B-87AF-4188-8A70-977B6F2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70D-5940-4AED-B00E-E0A20E60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D9ED-05AB-42DC-9ED5-C61A1BF3636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520F-4160-47C7-B8A8-73433F616B84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727F-31B2-4BCD-B19E-82A016E09642}" type="datetime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1086-FD01-434F-BDDA-86036B9C22D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1"/>
          <p:cNvSpPr/>
          <p:nvPr/>
        </p:nvSpPr>
        <p:spPr>
          <a:xfrm>
            <a:off x="1763640" y="981000"/>
            <a:ext cx="7380360" cy="180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Oval 9"/>
          <p:cNvSpPr/>
          <p:nvPr/>
        </p:nvSpPr>
        <p:spPr>
          <a:xfrm>
            <a:off x="684360" y="981000"/>
            <a:ext cx="2087280" cy="180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83200" y="1505880"/>
            <a:ext cx="6723000" cy="8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Week 8 Exercise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8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want you to do this exercise in electronic form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will also be another deposit in your portfolio, so keep a cop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ek 8 Exerci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6032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3366"/>
                </a:solidFill>
                <a:latin typeface="Arial"/>
              </a:rPr>
              <a:t>Identify five important researchers in the specific area of research you are doing, and print out one paper from each of them to be included in your portfol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IT</cp:lastModifiedBy>
  <dcterms:modified xsi:type="dcterms:W3CDTF">2012-11-07T17:47:57Z</dcterms:modified>
  <cp:revision>165</cp:revision>
  <dc:subject/>
  <dc:title>What is research?</dc:title>
</cp:coreProperties>
</file>