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091A-7FF6-4FAD-A553-F7FE1014B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CF17-EAED-40FC-A25D-229A822AE22F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3383-72DE-40CE-9354-DAABB34B5346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93D3-7082-45E2-819C-A50ACBF798D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3FD4-3810-496C-8F98-89F8D2871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15F9-EF2B-4DF4-9EAA-3E123DC5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EBBF-F733-4029-A324-2E0F78476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7C67-DC92-4E3C-826A-3EAA9A373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2D26-403A-4651-85F9-0EEB9AB3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95F7-5A0A-43E7-9218-CD791978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B12A-8BF6-4F05-A209-53F6649F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BDD9-02B4-42D6-9CC2-7DC05444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6729-07A1-4D7D-8874-C40F335A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F05A-C6B5-4A82-8E26-A7D2984F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4CF6-4D6E-4511-B7FA-1EE0BB27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DFD7-F28C-47F8-B7C9-6D82D32B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EF89-25D4-4C96-9E0A-1CA5BB79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E4EF-95DF-409C-8172-D0DC2B50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EBCD-CB28-43BE-B331-AB18DD79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74DD-E4E4-43DB-B98A-217E7EAC4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8B3D-B8E8-47EA-A27B-22D1EF3F1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D917-62EC-4724-83F1-5E256D03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30E1-A9D1-4C52-80FA-F16D56FA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A218-C588-41F8-8EE9-6D0A54D3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FCE4-20DA-4C46-B5BE-61BFFA62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E61C-CB4D-48B9-8938-9EB18B44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7DA2-1770-4E4F-8853-8343CCC5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1B69-CAD9-47BF-B653-CD586685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D83E-BD0B-4D0E-AA83-FF2EE3C25A88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FF57-3EA7-4082-976E-72CA010600DC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F7A1-F1E5-4366-97C2-7A8FB80B85AE}" type="datetime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ABD2-051E-447B-AE52-A35FF726465F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1"/>
          <p:cNvSpPr/>
          <p:nvPr/>
        </p:nvSpPr>
        <p:spPr>
          <a:xfrm>
            <a:off x="1763640" y="981000"/>
            <a:ext cx="7380360" cy="180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Oval 9"/>
          <p:cNvSpPr/>
          <p:nvPr/>
        </p:nvSpPr>
        <p:spPr>
          <a:xfrm>
            <a:off x="684360" y="981000"/>
            <a:ext cx="2087280" cy="180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483200" y="1505880"/>
            <a:ext cx="6723000" cy="87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Week 8 Exercise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eek 8 Exerci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60320" y="2193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want you to do this exercise in electronic forma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will also be another deposit in your portfolio, so keep a cop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eek 8 Exerci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0320" y="2193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Identify five important researchers in the specific area of research you are doing, and print out one paper from each of them to be included in your portfoli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12:56:11Z</dcterms:created>
  <dc:creator>x</dc:creator>
  <dc:description/>
  <dc:language>en-US</dc:language>
  <cp:lastModifiedBy>DIT</cp:lastModifiedBy>
  <dcterms:modified xsi:type="dcterms:W3CDTF">2012-11-07T17:47:57Z</dcterms:modified>
  <cp:revision>165</cp:revision>
  <dc:subject/>
  <dc:title>What is research?</dc:title>
</cp:coreProperties>
</file>