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03EA-2D22-4EB2-A317-EA2DDB37D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FEE6-2785-467D-BCF6-84FCB3B527EA}"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670D-0859-4B2C-B37D-D5E42D4F97FE}"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2841-EF74-4322-B14B-472FE47DADCC}"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0AF6-A578-4061-835C-7A78DCB7C11B}"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33081-4503-45EE-BEBC-9A542CA5B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72853-070E-417C-B436-212F66FEC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5B278-DD07-40F3-85F7-211EB7124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A9C48-45C7-464C-82B3-1311E911F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93D34-4E26-4BCC-A914-5ACA0519E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31F07-6A96-4FE7-9412-D8ACC730D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184A8-BEFB-4D03-8238-262042B7F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9FE53-2561-4021-9C31-BF7C380D3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E5254-94AF-47C4-AC81-EDE21245C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5B71D-76CD-4FE5-89F7-9CAF018DD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3E091-28CA-43EA-BDBD-D0A8388A3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09AD7-285C-4439-9C2E-2905A75C8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53BE7-612F-4A06-8F3A-862DEEC67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0FC15-C37A-400F-8B2E-B98339A01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1E850-B9B8-45F5-9473-E06FA870A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07067-3792-41E9-8ADE-076CB903C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F8DBD-19CA-490A-9F91-875F9386D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AB82F-75F0-400F-BD81-D3B9DF110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11949-986C-4342-82F4-A7A23DE32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470FD-4E68-471A-94DA-3CF12DE36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714B6-F8D0-4B9A-9E6F-564B86177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D1D9A-4F82-4CC6-B931-07B884E26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0B14-4EA8-4295-BFFE-49C894FDA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2890-2283-4F02-9356-A43F33A75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DE00-A262-4DEF-A1E7-1D83C943C024}" type="datetime">
              <a:rPr b="0" lang="en-GB"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10F5-93AE-4717-B5AB-A2B5E5722793}"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2B2D-A0C7-4ADF-8EC2-9EAA130E55D1}" type="datetime">
              <a:rPr b="0" lang="en-GB" sz="1400" spc="-1" strike="noStrike">
                <a:solidFill>
                  <a:srgbClr val="ffffff"/>
                </a:solidFill>
                <a:latin typeface="Times New Roman"/>
              </a:rPr>
              <a:t>31/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17F6-B806-4B08-9612-24C7A23322C3}"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1"/>
          <p:cNvSpPr/>
          <p:nvPr/>
        </p:nvSpPr>
        <p:spPr>
          <a:xfrm>
            <a:off x="1763640" y="981000"/>
            <a:ext cx="7380360" cy="180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Oval 9"/>
          <p:cNvSpPr/>
          <p:nvPr/>
        </p:nvSpPr>
        <p:spPr>
          <a:xfrm>
            <a:off x="684360" y="981000"/>
            <a:ext cx="2087280" cy="18003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txBox="1"/>
          <p:nvPr/>
        </p:nvSpPr>
        <p:spPr>
          <a:xfrm>
            <a:off x="1483200" y="1505880"/>
            <a:ext cx="6723000" cy="877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eek 7 Exercise</a:t>
            </a:r>
            <a:endParaRPr b="1"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7 Exercise</a:t>
            </a:r>
            <a:endParaRPr b="1" lang="en-US" sz="3600" spc="-1" strike="noStrike">
              <a:solidFill>
                <a:srgbClr val="006666"/>
              </a:solidFill>
              <a:latin typeface="Arial"/>
            </a:endParaRPr>
          </a:p>
        </p:txBody>
      </p:sp>
      <p:sp>
        <p:nvSpPr>
          <p:cNvPr id="106"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want you to do this exercise in electronic form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also be another deposit in your portfolio, so keep a cop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7 Exercise</a:t>
            </a:r>
            <a:endParaRPr b="1" lang="en-US" sz="3600" spc="-1" strike="noStrike">
              <a:solidFill>
                <a:srgbClr val="006666"/>
              </a:solidFill>
              <a:latin typeface="Arial"/>
            </a:endParaRPr>
          </a:p>
        </p:txBody>
      </p:sp>
      <p:sp>
        <p:nvSpPr>
          <p:cNvPr id="108"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detailed MindMap of the project you envision you will be doing, including branches called the following:</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Literature Review</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Software/Technolog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People/Group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Organisation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Evaluation</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Experimen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7 Exercise</a:t>
            </a:r>
            <a:endParaRPr b="1" lang="en-US" sz="3600" spc="-1" strike="noStrike">
              <a:solidFill>
                <a:srgbClr val="006666"/>
              </a:solidFill>
              <a:latin typeface="Arial"/>
            </a:endParaRPr>
          </a:p>
        </p:txBody>
      </p:sp>
      <p:sp>
        <p:nvSpPr>
          <p:cNvPr id="110" name="PlaceHolder 1"/>
          <p:cNvSpPr>
            <a:spLocks noGrp="1"/>
          </p:cNvSpPr>
          <p:nvPr>
            <p:ph/>
          </p:nvPr>
        </p:nvSpPr>
        <p:spPr>
          <a:xfrm>
            <a:off x="760320" y="2409840"/>
            <a:ext cx="7772400" cy="4114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Finally, don’t forget that your are required to have some kind of project idea by Week 7, I know you might be thinking that you’ll never think of anything, but every student on the MSc courses in the past decade has come up with something, so don’t worry about i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Use this exercise as an opportunity to review the main themes/subjects in your discipline and see which areas you might enjoy doing a project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11-07T16:24:02Z</dcterms:modified>
  <cp:revision>157</cp:revision>
  <dc:subject/>
  <dc:title>What is research?</dc:title>
</cp:coreProperties>
</file>