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9D532-012C-49A0-BC4E-85D7250271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0565D-DCBA-4EC5-BB31-B82A7F5D7548}"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9E97F-86A5-49BB-9644-02754D5F4430}"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107AA-CCBE-46CF-AF66-7355AD7517A9}"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7A392-DCD9-4B7B-8B6D-7D202F6CDE61}"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7E10AC-9870-4DE9-872E-EDE238EDDB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CB9A1-C37F-44EF-931B-0D66587B5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173462-F0AA-475F-A3B8-6E84411B06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D24EC9-5B6A-44DB-963F-2F51E6E3F2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B647D5-5945-45D4-9EDE-300FAFEE87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81F516-1851-4DCC-B133-BEAED8C296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026FA7-C257-4497-BF26-4D8C2CF70B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4D7907-2114-4AA7-9DEC-60031DCC2F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96D5D8-0269-42B5-88CD-2BB6F23E4D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6A71B8-96D6-4378-B34C-9A224B1E2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C4546-25B4-45E5-AFCA-B510D9B7D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F2848-614D-474E-A4C7-06B7F7DB8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EE024-6B39-4508-8A1B-59E3010BB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DD415-01A2-424B-97B4-D82EAD0E4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858971-844C-43B8-BFF5-B2E9967F69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8A3E4E-CC63-46D4-9AE9-AAE0035338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608388-AA10-411F-8270-94505C1FE8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994CC-4412-4174-B5AC-1C5B77C9B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535DB-5B88-415B-90F8-C43AB3018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08A15-A6E1-41A2-896D-2669F0A8B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4BF6D-C49F-4660-B694-430D16B88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E04D4-5150-44D9-B094-E8C428F1B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4F328-DBD6-4890-96D8-E1D44B420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30655-98F4-414C-9052-FD23714972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5DBC6-72A9-4AF7-90A1-A5F29C97CC38}" type="datetime">
              <a:rPr b="0" lang="en-GB"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1225D-2723-4900-83DA-75F0FD03E212}"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33C12-DCA1-4BA6-945D-6A3D062432AE}" type="datetime">
              <a:rPr b="0" lang="en-GB" sz="1400" spc="-1" strike="noStrike">
                <a:solidFill>
                  <a:srgbClr val="ffffff"/>
                </a:solidFill>
                <a:latin typeface="Times New Roman"/>
              </a:rPr>
              <a:t>30/07/26</a:t>
            </a:fld>
            <a:endParaRPr b="0" lang="en-US" sz="1400" spc="-1" strike="noStrike">
              <a:solidFill>
                <a:srgbClr val="000000"/>
              </a:solidFill>
              <a:latin typeface="Times New Roman"/>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82D6E-0A58-48EE-B6C8-E3AA4D61D109}"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1"/>
          <p:cNvSpPr/>
          <p:nvPr/>
        </p:nvSpPr>
        <p:spPr>
          <a:xfrm>
            <a:off x="1763640" y="981000"/>
            <a:ext cx="7380360" cy="1800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3" name="Oval 9"/>
          <p:cNvSpPr/>
          <p:nvPr/>
        </p:nvSpPr>
        <p:spPr>
          <a:xfrm>
            <a:off x="684360" y="981000"/>
            <a:ext cx="2087280" cy="180036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4" name=""/>
          <p:cNvSpPr txBox="1"/>
          <p:nvPr/>
        </p:nvSpPr>
        <p:spPr>
          <a:xfrm>
            <a:off x="1483200" y="1505880"/>
            <a:ext cx="6723000" cy="87768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Week 6 Exercise</a:t>
            </a:r>
            <a:endParaRPr b="1" lang="en-US" sz="4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ek 6 Exercise</a:t>
            </a:r>
            <a:endParaRPr b="1" lang="en-US" sz="3600" spc="-1" strike="noStrike">
              <a:solidFill>
                <a:srgbClr val="006666"/>
              </a:solidFill>
              <a:latin typeface="Arial"/>
            </a:endParaRPr>
          </a:p>
        </p:txBody>
      </p:sp>
      <p:sp>
        <p:nvSpPr>
          <p:cNvPr id="106" name="PlaceHolder 1"/>
          <p:cNvSpPr>
            <a:spLocks noGrp="1"/>
          </p:cNvSpPr>
          <p:nvPr>
            <p:ph/>
          </p:nvPr>
        </p:nvSpPr>
        <p:spPr>
          <a:xfrm>
            <a:off x="760320" y="2193840"/>
            <a:ext cx="777240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 want you to do this exercise in electronic forma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will also be another deposit in your portfolio, so keep a cop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ek 6 Exercise</a:t>
            </a:r>
            <a:endParaRPr b="1" lang="en-US" sz="3600" spc="-1" strike="noStrike">
              <a:solidFill>
                <a:srgbClr val="006666"/>
              </a:solidFill>
              <a:latin typeface="Arial"/>
            </a:endParaRPr>
          </a:p>
        </p:txBody>
      </p:sp>
      <p:sp>
        <p:nvSpPr>
          <p:cNvPr id="108" name="PlaceHolder 1"/>
          <p:cNvSpPr>
            <a:spLocks noGrp="1"/>
          </p:cNvSpPr>
          <p:nvPr>
            <p:ph/>
          </p:nvPr>
        </p:nvSpPr>
        <p:spPr>
          <a:xfrm>
            <a:off x="760320" y="2193840"/>
            <a:ext cx="7772400" cy="4114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reate a Version 1.0 of your abstract by either of the two methods outlined in clas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ek 6 Exercise</a:t>
            </a:r>
            <a:endParaRPr b="1" lang="en-US" sz="3600" spc="-1" strike="noStrike">
              <a:solidFill>
                <a:srgbClr val="006666"/>
              </a:solidFill>
              <a:latin typeface="Arial"/>
            </a:endParaRPr>
          </a:p>
        </p:txBody>
      </p:sp>
      <p:sp>
        <p:nvSpPr>
          <p:cNvPr id="110" name="PlaceHolder 1"/>
          <p:cNvSpPr>
            <a:spLocks noGrp="1"/>
          </p:cNvSpPr>
          <p:nvPr>
            <p:ph/>
          </p:nvPr>
        </p:nvSpPr>
        <p:spPr>
          <a:xfrm>
            <a:off x="760320" y="2409840"/>
            <a:ext cx="7772400" cy="41148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Finally, don’t forget that your are required to have some kind of project idea by Week 7, I know you might be thinking that you’ll never think of anything, but every student on the MSc courses in the past decade has come up with something, so don’t worry about it.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Use this exercise as an opportunity to review the main themes/subjects in your discipline and see which areas you might enjoy doing a project 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6T12:56:11Z</dcterms:created>
  <dc:creator>x</dc:creator>
  <dc:description/>
  <dc:language>en-US</dc:language>
  <cp:lastModifiedBy>DIT</cp:lastModifiedBy>
  <dcterms:modified xsi:type="dcterms:W3CDTF">2012-11-03T16:08:06Z</dcterms:modified>
  <cp:revision>155</cp:revision>
  <dc:subject/>
  <dc:title>What is research?</dc:title>
</cp:coreProperties>
</file>