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C26C-A471-4E97-88F9-1F408EDDD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8AB4-9623-4F24-9C92-72080DC95D8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4275-EE3F-4160-97BF-A1CA171DC1E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2B33-9F27-4782-BBB3-310C1F9FF6D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3E03-C054-4138-AACA-7E45FD6D9F2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FC3E-AA23-4B91-ABED-A1EA9399198D}"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5E92-D37F-4DE5-860D-14ACCCD59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5EDE-974A-4126-A675-09B9CB85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9D6D4-3F99-4988-A2F6-7F5F0603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19C4E-C444-4DB0-947F-00662DF72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EE430-C613-4DEB-8EA1-8C5F3109D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54962-67CB-4F15-9B1D-AC7048E74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3D5AB-E520-4B19-9B0C-3D683F6FF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0C6C7-D36E-45AA-B0A1-B0D573058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669BB-9B32-48C2-9CCD-7F909F7EF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53D42-0716-41EB-A699-46B76157C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BDE60-DD31-4F1A-A6A6-08E0B001D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66AD-AD0B-40A7-9EE6-182B1AAE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8EBCE-7146-4D41-B99B-96DFD3F1B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7F88-4300-4748-A421-124D8A879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3FB25-8FE5-4466-A981-DE1AF615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C277B-6146-4632-9A5F-123E1DD0A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D0F1C-4AF2-4F2F-B267-EB1C2F21C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E0CE0-55E4-4551-8AA6-7D516A622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EA86-3E71-4A15-925A-7EB7E271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3EA0-5BB5-49E9-AF8C-630419864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5859-F3FA-4E1F-9B3E-D6B1462AA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9F3B-7DB9-4155-89C1-7ADA7242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E9E32-7AFD-4149-A158-CC4799FA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C80B-B568-4CFE-85AA-679834582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B54F-8B5B-4237-A391-0B178A09B1ED}"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BFFA-A716-45EB-9A2C-36CD877C6210}"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6EA9-9B54-41C8-A631-7BE49CE1A366}" type="datetime">
              <a:rPr b="0" lang="en-GB"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CC01-3E6D-4F9F-892B-02683A003BC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5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5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want you to do this exercise in electronic form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5 Exercise – Part 1</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wo research papers in your area that use questionnaires as their research method.</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GoogleSchola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i="1" lang="en-US" sz="2400" spc="-1" strike="noStrike">
                <a:solidFill>
                  <a:srgbClr val="003366"/>
                </a:solidFill>
                <a:latin typeface="Arial"/>
              </a:rPr>
              <a:t>Assistive Technology” questionnair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5 Exercise – Part 2</a:t>
            </a:r>
            <a:endParaRPr b="1" lang="en-US" sz="3600" spc="-1" strike="noStrike">
              <a:solidFill>
                <a:srgbClr val="006666"/>
              </a:solidFill>
              <a:latin typeface="Arial"/>
            </a:endParaRPr>
          </a:p>
        </p:txBody>
      </p:sp>
      <p:sp>
        <p:nvSpPr>
          <p:cNvPr id="110"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10 survey questions to ask someone about your discipline (or one of the main branches of your discipline as depicted on the MindMap you created in Week 1) without using any unnecessary jarg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losed-ended and 5 open-ended, plea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5 Exercise</a:t>
            </a:r>
            <a:endParaRPr b="1" lang="en-US" sz="3600" spc="-1" strike="noStrike">
              <a:solidFill>
                <a:srgbClr val="006666"/>
              </a:solidFill>
              <a:latin typeface="Arial"/>
            </a:endParaRPr>
          </a:p>
        </p:txBody>
      </p:sp>
      <p:sp>
        <p:nvSpPr>
          <p:cNvPr id="112"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1-23T15:00:22Z</dcterms:modified>
  <cp:revision>155</cp:revision>
  <dc:subject/>
  <dc:title>What is research?</dc:title>
</cp:coreProperties>
</file>