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AA4D-FE2F-43A6-95D3-BDBD1B327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C2B3-D3A8-40A3-BE41-7608C011811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881D-5DD5-4A6B-A8D4-DEDEDAF1132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E75E-E9D2-4D58-AF1C-48594C0F35D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685B-09F6-4E0A-B3EB-B5B6EF399CE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1B6D-9D45-4E14-9BF4-F06B24CF4D6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3620-F3AF-4CD8-864A-E1A4E240DDB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F1CD-AB9B-47AB-A336-BCD520BC1DB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EA9A-FB4D-4841-82E0-25248C4BC9E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2742-6311-4C38-AAEE-8A82F002C97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31C5-B9DA-4943-B134-9F815D0347F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6A75-2834-455D-8DCE-9FA96C09D98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E888-9C8D-4E6B-B673-A92BA596963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A015-CAD7-457B-BFD3-79BF9E17703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491F-03E6-4AF3-A91F-30D4F423EDE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850F-38A8-4E7E-AD2C-E2741B894D3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2F81-2787-4A70-9B60-8442C108259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AE6B-EE93-45C8-B826-483382E69FB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1BA9-F8A2-46B5-83C2-286C55BD77E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3D9B-67CB-4C2D-9445-95E9E93765C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878E-4098-43FD-B0F9-489CD78A0C0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C8A0-5FFA-4ECB-8CC6-66F24EA193D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CAA8-52BA-4FEB-86FA-BFDD29653BF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4C8A-CCB1-4F9D-B979-C9F8B29045D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C4F6-D9F0-42EC-B080-D1DC8565D6D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52D4-D387-4FE7-9089-32675A2312D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7A85-5A2F-4E3E-B560-4BD28756F6C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19D0-FA71-4B2A-9013-3D4E66BB869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EB7E-E193-4774-AB64-6B9C6FB5733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A22B-A88A-4C9C-99F7-F684227D8EA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5E32-F21E-4E30-95B4-5BB4A97B872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99A3-669D-4FA2-968B-D534A506772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2BB4-ED00-4B92-868F-31730DDCBDB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DDE7-8C24-42ED-9E80-0AF4F98FCFB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2E5E-1B9C-4C2C-8992-A2CD5311696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8544-B847-4DA9-986F-2B83B2FB52C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620A-24E4-4765-A8B9-F333F0F07F1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94EF4-4D49-41B9-B791-D39FBCC24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1C853-F320-4B6C-8757-813F165C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E7CE8-F1ED-42C8-A283-7B773935D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02652-F51E-4F3C-A115-DD7A0D770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5FC8E-5FA0-491F-B2FA-137773899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E7B92-CAEE-4DBD-B79A-3718671C8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40E4B-8D7E-49B4-8D13-E0882A18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70093-ED53-4B49-944F-3E622D638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286C3-032E-4C52-B816-1F7CEBE51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69B96-E373-4571-8E95-D4C26C763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0D8C4-A97B-4871-AF5D-5E42812E9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8CA1D-38FD-433B-A8C6-22BBAD11D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ECFF-D191-4F05-B36D-FC48C2BD4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E9DCC-1911-4D75-A15F-A08C66623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D59C5-25D9-4EB6-ABD5-BAB31555A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83065-1906-4E37-86F5-18197AC39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95CF4-9373-4142-8AE3-C81DE45E3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28337-3C95-4880-9341-6C8A989DC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F2D7-229E-4E0A-96B9-749D8916E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4CE7A-2F7F-41F7-82AC-2F24570A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A2CB7-43C6-41DD-AB7C-D97C631AD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CA5D-B5F1-466C-8D28-5A99C67F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1525-E972-4B72-8810-B3A85D3B6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D755-6C5D-47A9-BDA2-C14F5FD1D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15A7-D8C5-4F42-8A31-64892FEBB37A}"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6B56-5831-4FBC-82F5-16AC349982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D3A6-330F-4CC4-B275-37029311E000}" type="datetime">
              <a:rPr b="0" lang="en-GB" sz="1000" spc="-1" strike="noStrike">
                <a:solidFill>
                  <a:srgbClr val="292929"/>
                </a:solidFill>
                <a:latin typeface="Times New Roman"/>
              </a:rPr>
              <a:t>30/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D33A-F83E-4C2D-997A-D6BCB2824E1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0" name="PlaceHolder 2"/>
          <p:cNvSpPr>
            <a:spLocks noGrp="1"/>
          </p:cNvSpPr>
          <p:nvPr>
            <p:ph type="subTitle"/>
          </p:nvPr>
        </p:nvSpPr>
        <p:spPr>
          <a:xfrm>
            <a:off x="197928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 Oppenheim, </a:t>
            </a:r>
            <a:r>
              <a:rPr b="0" i="1" lang="en-IE" sz="3200" spc="-1" strike="noStrike">
                <a:solidFill>
                  <a:srgbClr val="292929"/>
                </a:solidFill>
                <a:latin typeface="Arial"/>
              </a:rPr>
              <a:t>Questionnaire Design</a:t>
            </a:r>
            <a:endParaRPr b="0" lang="en-US" sz="3200" spc="-1" strike="noStrike">
              <a:solidFill>
                <a:srgbClr val="292929"/>
              </a:solidFill>
              <a:latin typeface="Arial"/>
            </a:endParaRPr>
          </a:p>
        </p:txBody>
      </p:sp>
      <p:pic>
        <p:nvPicPr>
          <p:cNvPr id="101" name="Picture 3" descr="Untitled.jpg"/>
          <p:cNvPicPr/>
          <p:nvPr/>
        </p:nvPicPr>
        <p:blipFill>
          <a:blip r:embed="rId1"/>
          <a:stretch/>
        </p:blipFill>
        <p:spPr>
          <a:xfrm>
            <a:off x="6227640" y="3059280"/>
            <a:ext cx="216072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lose-ended </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aster to administe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asier to record respons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can only give predefined answer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cannot raise new issu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feels constrained</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ore likely to answer all questions (box tick)</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LIKERT SCALES</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 special type of close-ended question is where you get the respondent to classify their responses on a scale of 1 to 5 (or in any five ordinal categorie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LIKERT SCALES</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oor,   Weak,   O.K.,   Good,  Excellen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ery Low,  Low,  O.K.,  High,  Very High</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1,   2,   3,   4,   5</a:t>
            </a:r>
            <a:endParaRPr b="0" lang="en-US" sz="2400" spc="-1" strike="noStrike">
              <a:solidFill>
                <a:srgbClr val="292929"/>
              </a:solidFill>
              <a:latin typeface="Arial"/>
            </a:endParaRPr>
          </a:p>
        </p:txBody>
      </p:sp>
      <p:pic>
        <p:nvPicPr>
          <p:cNvPr id="128" name="Picture 4" descr="untitled"/>
          <p:cNvPicPr/>
          <p:nvPr/>
        </p:nvPicPr>
        <p:blipFill>
          <a:blip r:embed="rId1"/>
          <a:stretch/>
        </p:blipFill>
        <p:spPr>
          <a:xfrm>
            <a:off x="971640" y="4149720"/>
            <a:ext cx="7848360" cy="18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948960" y="198900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LIKERT SCALES</a:t>
            </a:r>
            <a:endParaRPr b="0" lang="en-US" sz="32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o make life easier for yourself, you don’t need to label each of the five values if you don’t need to.</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0" name="PlaceHolder 2"/>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31" name="Rounded Rectangle 5"/>
          <p:cNvSpPr/>
          <p:nvPr/>
        </p:nvSpPr>
        <p:spPr>
          <a:xfrm>
            <a:off x="1476360" y="3933720"/>
            <a:ext cx="6551640" cy="2087640"/>
          </a:xfrm>
          <a:prstGeom prst="roundRect">
            <a:avLst>
              <a:gd name="adj" fmla="val 16667"/>
            </a:avLst>
          </a:prstGeom>
          <a:solidFill>
            <a:srgbClr val="ccecff"/>
          </a:solidFill>
          <a:ln w="9360">
            <a:solidFill>
              <a:srgbClr val="29292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        </a:t>
            </a:r>
            <a:r>
              <a:rPr b="1" lang="en-IE" sz="2400" spc="-1" strike="noStrike">
                <a:solidFill>
                  <a:srgbClr val="292929"/>
                </a:solidFill>
                <a:latin typeface="Arial"/>
              </a:rPr>
              <a:t>Very Bad                             Very Good</a:t>
            </a:r>
            <a:endParaRPr b="0" lang="en-US" sz="2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292929"/>
                </a:solidFill>
                <a:latin typeface="Arial"/>
              </a:rPr>
              <a:t>             </a:t>
            </a:r>
            <a:r>
              <a:rPr b="1" lang="en-IE" sz="2400" spc="-1" strike="noStrike">
                <a:solidFill>
                  <a:srgbClr val="292929"/>
                </a:solidFill>
                <a:latin typeface="Arial"/>
              </a:rPr>
              <a:t>1         2         3         4          5</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ank them</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92929"/>
                </a:solidFill>
                <a:uFillTx/>
                <a:latin typeface="Arial"/>
              </a:rPr>
              <a:t>CLOSING REMAR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i="1" lang="en-US" sz="3200" spc="-1" strike="noStrike">
                <a:solidFill>
                  <a:srgbClr val="292929"/>
                </a:solidFill>
                <a:latin typeface="Arial"/>
              </a:rPr>
              <a:t>Thank you for taking the time to participate in this survey</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IG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I design the questions?</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naires</a:t>
            </a:r>
            <a:endParaRPr b="0" lang="en-US" sz="4000" spc="-1" strike="noStrike">
              <a:solidFill>
                <a:srgbClr val="000000"/>
              </a:solidFill>
              <a:latin typeface="Arial"/>
            </a:endParaRPr>
          </a:p>
        </p:txBody>
      </p:sp>
      <p:sp>
        <p:nvSpPr>
          <p:cNvPr id="138" name="PlaceHolder 2"/>
          <p:cNvSpPr>
            <a:spLocks noGrp="1"/>
          </p:cNvSpPr>
          <p:nvPr>
            <p:ph/>
          </p:nvPr>
        </p:nvSpPr>
        <p:spPr>
          <a:xfrm>
            <a:off x="685800" y="1676520"/>
            <a:ext cx="777240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nk clearly about questions (need to constrain answers as much as possibl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ke sure results will answer your research ques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can use the Internet for conducting surveys if you need to cover wide geographic reach</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heck your grammar, twice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t’s a proofreaders' Rule of Thumb that if you read something twice, it gets rid of 95% of error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Keep questions short and simpl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void questions with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void questions with bia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void sensitive questions (ask indirectl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o not ask compound questions, just ask one question at a tim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g. "Do you know what services are available to you and how to find ou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IG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I design the questions?</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OCU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is the focus of your questionnaire?</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efore you deploy to participants, deploy a few pilot versions of the questionnaire to friends, family and fellow studen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rrect any complicated, misstated, or ambiguous questio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Deployment Approach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elf-administer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terviewer administered</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elf-administered</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eans you give the questionnaire to the participants and they fill it out in their own time, at their own pac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is approach can allow you to reach large audiences, e.g. by deploying over the Interne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problem is that if they don’t understand a question, they will probably guess what it means, and that answer with be invalid.</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nterviewer administered</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eans you are present when participant or participants are filling out the questionnair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f you are dealing with an individual or group you can instruct them how to fill out the questionnaire; “</a:t>
            </a:r>
            <a:r>
              <a:rPr b="0" i="1" lang="en-IE" sz="2400" spc="-1" strike="noStrike">
                <a:solidFill>
                  <a:srgbClr val="292929"/>
                </a:solidFill>
                <a:latin typeface="Arial"/>
              </a:rPr>
              <a:t>I want everyone to start with question 1, spend about 30 seconds on that ... O.K. now move onto the next question, etc.</a:t>
            </a:r>
            <a:r>
              <a:rPr b="0" lang="en-IE" sz="2400" spc="-1" strike="noStrike">
                <a:solidFill>
                  <a:srgbClr val="292929"/>
                </a:solidFill>
                <a:latin typeface="Arial"/>
              </a:rPr>
              <a: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f they don’t understand a question, they can ask you, and you can tell the individual or group.</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centives</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urvey research suggests that there </a:t>
            </a:r>
            <a:br>
              <a:rPr sz="3200"/>
            </a:br>
            <a:r>
              <a:rPr b="0" lang="en-US" sz="3200" spc="-1" strike="noStrike">
                <a:solidFill>
                  <a:srgbClr val="292929"/>
                </a:solidFill>
                <a:latin typeface="Arial"/>
              </a:rPr>
              <a:t>is a chance that offering an incentive may add bias to a survey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g. Singer, E., Bossarte, R., 2006, </a:t>
            </a:r>
            <a:r>
              <a:rPr b="0" i="1" lang="en-US" sz="2400" spc="-1" strike="noStrike">
                <a:solidFill>
                  <a:srgbClr val="292929"/>
                </a:solidFill>
                <a:latin typeface="Arial"/>
              </a:rPr>
              <a:t>“Incentives for Survey Participation: When Are They “Coercive”?, </a:t>
            </a:r>
            <a:r>
              <a:rPr b="0" lang="en-US" sz="2400" spc="-1" strike="noStrike">
                <a:solidFill>
                  <a:srgbClr val="292929"/>
                </a:solidFill>
                <a:latin typeface="Arial"/>
              </a:rPr>
              <a:t>American Journal of Preventive Medicine, Volume 31, Issue 5, Pages 411-418</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centives</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re refs:</a:t>
            </a:r>
            <a:endParaRPr b="0" lang="en-US" sz="32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ijis.net/ijis1_1/ijis1_1_goeritz.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nyu.edu/gsas/dept/politics/faculty/morton/Incentives_24June06.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iser.sx.ac.uk/publications/working-papers/iser/2007-01.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isr.umich.edu/src/smp/Electronic%20Copies/51-Draft106.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nber.org/chapters/c10111.pdf</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XAMPL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an I see a few examples of questions?</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292929"/>
                </a:solidFill>
                <a:latin typeface="Arial"/>
              </a:rPr>
              <a:t>The following is an example of a questionnaire that was developed by a student who was comparing text-based information with a visual representation of the same information &gt;&gt;&gt;</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pic>
        <p:nvPicPr>
          <p:cNvPr id="164" name="Picture 5" descr="questions.JPG"/>
          <p:cNvPicPr/>
          <p:nvPr/>
        </p:nvPicPr>
        <p:blipFill>
          <a:blip r:embed="rId1"/>
          <a:stretch/>
        </p:blipFill>
        <p:spPr>
          <a:xfrm>
            <a:off x="0" y="2389320"/>
            <a:ext cx="9144000" cy="247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6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292929"/>
                </a:solidFill>
                <a:latin typeface="Arial"/>
              </a:rPr>
              <a:t>What do you think of the questions on the following slide  &gt;&gt;&gt;</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focus of your questionnaire is your research ques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ll questions in your questionnaire need to be relevant to your research ques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pic>
        <p:nvPicPr>
          <p:cNvPr id="168" name="Picture 5" descr="untitled"/>
          <p:cNvPicPr/>
          <p:nvPr/>
        </p:nvPicPr>
        <p:blipFill>
          <a:blip r:embed="rId1"/>
          <a:stretch/>
        </p:blipFill>
        <p:spPr>
          <a:xfrm>
            <a:off x="1219320" y="3162240"/>
            <a:ext cx="6705360" cy="2067120"/>
          </a:xfrm>
          <a:prstGeom prst="rect">
            <a:avLst/>
          </a:prstGeom>
          <a:ln w="0">
            <a:noFill/>
          </a:ln>
        </p:spPr>
      </p:pic>
      <p:pic>
        <p:nvPicPr>
          <p:cNvPr id="169" name="Picture 6" descr="untitled"/>
          <p:cNvPicPr/>
          <p:nvPr/>
        </p:nvPicPr>
        <p:blipFill>
          <a:blip r:embed="rId2"/>
          <a:stretch/>
        </p:blipFill>
        <p:spPr>
          <a:xfrm>
            <a:off x="1224000" y="5334120"/>
            <a:ext cx="6696000" cy="1190520"/>
          </a:xfrm>
          <a:prstGeom prst="rect">
            <a:avLst/>
          </a:prstGeom>
          <a:ln w="0">
            <a:noFill/>
          </a:ln>
        </p:spPr>
      </p:pic>
      <p:pic>
        <p:nvPicPr>
          <p:cNvPr id="170" name="Picture 7" descr="untitled"/>
          <p:cNvPicPr/>
          <p:nvPr/>
        </p:nvPicPr>
        <p:blipFill>
          <a:blip r:embed="rId3"/>
          <a:stretch/>
        </p:blipFill>
        <p:spPr>
          <a:xfrm>
            <a:off x="1171440" y="1511280"/>
            <a:ext cx="6801120" cy="148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7" descr="untitled"/>
          <p:cNvPicPr/>
          <p:nvPr/>
        </p:nvPicPr>
        <p:blipFill>
          <a:blip r:embed="rId1"/>
          <a:stretch/>
        </p:blipFill>
        <p:spPr>
          <a:xfrm>
            <a:off x="1171440" y="1511280"/>
            <a:ext cx="6801120" cy="1486080"/>
          </a:xfrm>
          <a:prstGeom prst="rect">
            <a:avLst/>
          </a:prstGeom>
          <a:ln w="0">
            <a:noFill/>
          </a:ln>
        </p:spPr>
      </p:pic>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pic>
        <p:nvPicPr>
          <p:cNvPr id="173" name="Picture 5" descr="untitled"/>
          <p:cNvPicPr/>
          <p:nvPr/>
        </p:nvPicPr>
        <p:blipFill>
          <a:blip r:embed="rId2"/>
          <a:stretch/>
        </p:blipFill>
        <p:spPr>
          <a:xfrm>
            <a:off x="1219320" y="3162240"/>
            <a:ext cx="6705360" cy="2067120"/>
          </a:xfrm>
          <a:prstGeom prst="rect">
            <a:avLst/>
          </a:prstGeom>
          <a:ln w="0">
            <a:noFill/>
          </a:ln>
        </p:spPr>
      </p:pic>
      <p:pic>
        <p:nvPicPr>
          <p:cNvPr id="174" name="Picture 6" descr="untitled"/>
          <p:cNvPicPr/>
          <p:nvPr/>
        </p:nvPicPr>
        <p:blipFill>
          <a:blip r:embed="rId3"/>
          <a:stretch/>
        </p:blipFill>
        <p:spPr>
          <a:xfrm>
            <a:off x="1224000" y="5334120"/>
            <a:ext cx="6696000" cy="1190520"/>
          </a:xfrm>
          <a:prstGeom prst="rect">
            <a:avLst/>
          </a:prstGeom>
          <a:ln w="0">
            <a:noFill/>
          </a:ln>
        </p:spPr>
      </p:pic>
      <p:pic>
        <p:nvPicPr>
          <p:cNvPr id="175" name="Rectangle 5" descr=""/>
          <p:cNvPicPr/>
          <p:nvPr/>
        </p:nvPicPr>
        <p:blipFill>
          <a:blip r:embed="rId4"/>
          <a:stretch/>
        </p:blipFill>
        <p:spPr>
          <a:xfrm>
            <a:off x="1384200" y="5389560"/>
            <a:ext cx="6400800" cy="925560"/>
          </a:xfrm>
          <a:prstGeom prst="rect">
            <a:avLst/>
          </a:prstGeom>
          <a:ln w="0">
            <a:noFill/>
          </a:ln>
        </p:spPr>
      </p:pic>
      <p:pic>
        <p:nvPicPr>
          <p:cNvPr id="176" name="Rectangle 6" descr=""/>
          <p:cNvPicPr/>
          <p:nvPr/>
        </p:nvPicPr>
        <p:blipFill>
          <a:blip r:embed="rId5"/>
          <a:stretch/>
        </p:blipFill>
        <p:spPr>
          <a:xfrm>
            <a:off x="785880" y="3200400"/>
            <a:ext cx="7572240" cy="1603440"/>
          </a:xfrm>
          <a:prstGeom prst="rect">
            <a:avLst/>
          </a:prstGeom>
          <a:ln w="0">
            <a:noFill/>
          </a:ln>
        </p:spPr>
      </p:pic>
      <p:pic>
        <p:nvPicPr>
          <p:cNvPr id="177" name="Rectangle 7" descr=""/>
          <p:cNvPicPr/>
          <p:nvPr/>
        </p:nvPicPr>
        <p:blipFill>
          <a:blip r:embed="rId6"/>
          <a:stretch/>
        </p:blipFill>
        <p:spPr>
          <a:xfrm>
            <a:off x="1170000" y="1328760"/>
            <a:ext cx="7151760" cy="1603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ther Useful Approach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cus groups</a:t>
            </a:r>
            <a:endParaRPr b="0" lang="en-US" sz="4000" spc="-1" strike="noStrike">
              <a:solidFill>
                <a:srgbClr val="000000"/>
              </a:solidFill>
              <a:latin typeface="Arial"/>
            </a:endParaRPr>
          </a:p>
        </p:txBody>
      </p:sp>
      <p:sp>
        <p:nvSpPr>
          <p:cNvPr id="18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ake time to arrange, so prepare in advance (use an intermediary to help you if you c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o will be in your focus group? (e.g. age, gender)</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ze of focus group (8-10 is typical)</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sider whether or not to have separate focus groups for different ages or genders (e.g. discussing sex and sexualit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e visits and observation</a:t>
            </a: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te visits involve visiting an organization, community project etc</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sider using a guid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bservation is when you visit a location and observe what is going on, drawing your own conclusion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facilitate making your research more relevant and concret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ies</a:t>
            </a:r>
            <a:endParaRPr b="0" lang="en-US" sz="4000" spc="-1" strike="noStrike">
              <a:solidFill>
                <a:srgbClr val="000000"/>
              </a:solidFill>
              <a:latin typeface="Arial"/>
            </a:endParaRPr>
          </a:p>
        </p:txBody>
      </p:sp>
      <p:sp>
        <p:nvSpPr>
          <p:cNvPr id="18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thod of capturing and presenting concrete details of real or fictional situations in a structured wa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ood for comparative analysi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tory research</a:t>
            </a: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lows participation of community being researched in research process (e.g. developing research question; choosing methodology; analysing result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ood way to ensure research does not simply reinforce prejudices and presumptions of researcher</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ood for raising awareness in community and developing appropriate action plan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o help further with the focus identify intended audience for your questionnaire – is it a particular organisation, a particular group of people, or everyon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LEMENT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are the parts of a questionnaire?</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3" name="PlaceHolder 2"/>
          <p:cNvSpPr>
            <a:spLocks noGrp="1"/>
          </p:cNvSpPr>
          <p:nvPr>
            <p:ph/>
          </p:nvPr>
        </p:nvSpPr>
        <p:spPr>
          <a:xfrm>
            <a:off x="685800" y="1676520"/>
            <a:ext cx="7772400" cy="41148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292929"/>
                </a:solidFill>
                <a:uFillTx/>
                <a:latin typeface="Arial"/>
              </a:rPr>
              <a:t>PREAMBLE</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Explain what the survey is for </a:t>
            </a:r>
            <a:r>
              <a:rPr b="0" i="1" lang="en-GB" sz="2000" spc="-1" strike="noStrike">
                <a:solidFill>
                  <a:srgbClr val="292929"/>
                </a:solidFill>
                <a:latin typeface="Arial"/>
              </a:rPr>
              <a:t>“This survey sets out to </a:t>
            </a:r>
            <a:r>
              <a:rPr b="0" i="1" lang="en-IE"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Reassure the participants </a:t>
            </a:r>
            <a:r>
              <a:rPr b="0" i="1" lang="en-GB" sz="2000" spc="-1" strike="noStrike">
                <a:solidFill>
                  <a:srgbClr val="292929"/>
                </a:solidFill>
                <a:latin typeface="Arial"/>
              </a:rPr>
              <a:t>“Please note if you fill in this questionnaire, your answers will be treated in highly confidential way. Neither I, the Dublin Institute of Technology nor any other third part will identify your name, email address or any other personal details, nor will it be possible to identify you in any way in the report I will publish as part of my MSc dissertation. I would like to personally thank you for your time in taking part in this survey.”</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TYPES OF QUESTION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Open-ended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lose-end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bination of bo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Open-ended                 Close-ended</a:t>
            </a:r>
            <a:endParaRPr b="0" lang="en-US" sz="3200" spc="-1" strike="noStrike">
              <a:solidFill>
                <a:srgbClr val="292929"/>
              </a:solidFill>
              <a:latin typeface="Arial"/>
            </a:endParaRPr>
          </a:p>
        </p:txBody>
      </p:sp>
      <p:pic>
        <p:nvPicPr>
          <p:cNvPr id="118" name="Picture 4" descr="untitled"/>
          <p:cNvPicPr/>
          <p:nvPr/>
        </p:nvPicPr>
        <p:blipFill>
          <a:blip r:embed="rId1"/>
          <a:stretch/>
        </p:blipFill>
        <p:spPr>
          <a:xfrm>
            <a:off x="96840" y="2421000"/>
            <a:ext cx="4835520" cy="4286160"/>
          </a:xfrm>
          <a:prstGeom prst="rect">
            <a:avLst/>
          </a:prstGeom>
          <a:ln w="0">
            <a:noFill/>
          </a:ln>
        </p:spPr>
      </p:pic>
      <p:pic>
        <p:nvPicPr>
          <p:cNvPr id="119" name="Picture 5" descr="untitled"/>
          <p:cNvPicPr/>
          <p:nvPr/>
        </p:nvPicPr>
        <p:blipFill>
          <a:blip r:embed="rId2"/>
          <a:stretch/>
        </p:blipFill>
        <p:spPr>
          <a:xfrm>
            <a:off x="4714920" y="2565360"/>
            <a:ext cx="4249800" cy="40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Open-ended </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lower to administe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arder to record respons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es not stifle respons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can raise new issu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feels they can speak their mind</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oes a blank answer mean ?</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0-16T08:26:35Z</dcterms:modified>
  <cp:revision>135</cp:revision>
  <dc:subject/>
  <dc:title>What is research?</dc:title>
</cp:coreProperties>
</file>