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B4BD-CA1C-4EED-BB14-1FEBEF7D3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3DA7-4E08-4859-B187-0B51EDA4505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1FC9-36E5-44AC-8DD0-641FCB68898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9B26-B2B3-49C0-AFA7-57A2F7CC5E2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AF9D-4707-4322-86F4-7719E310325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E76A-9563-4548-A83C-85FC155B25A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C1FA-3402-451E-A1FD-0286A617413F}"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42FD-82F0-4BAA-8A93-A2D54E1FE88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6EFF-0D77-4032-A830-E048C364FC4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D83D-AA6A-4759-A085-307147B20CE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850A-9476-4F72-B90B-CAD3DFA5998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377B-5370-4A6F-88B5-400DF2C1DEB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2000-284D-4691-8568-8A082DC70CF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4C46-DDC6-40E3-B8EA-3B47AB06F71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F9FED-6109-4D18-A29A-4D38916478E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DD4F-0123-4F67-BF25-44D7304855A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4853-ED8F-4F08-89AF-1D82367510B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6B2D-E699-4416-AF59-8B204F72469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DD7B-EBA2-47DC-971D-C77B08FBCE7B}"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3B5D-2006-421B-8F02-D096B4F2EF4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CE59-589C-45F6-8642-235D4D01949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4ECA3-98C6-45B2-8052-22724B02C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30570-6248-4341-A016-C17F76F4F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793A7-53F6-4A62-892F-0657CBBF3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1EB22-A4B7-48BF-A05E-7278EEF8B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BFA62-AD1E-49C6-B3AA-24573C3A2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9E9F5-A799-4518-B65A-A1E55DBED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0CBBC-85D9-4604-AF9A-D23C9DB43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0283C-C762-40CC-86E7-B5E1E85D0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A4D5A-4AE7-448A-98FF-EDE016BAB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C83FA-D664-4236-9754-CD9379B8D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A1D15-8BC5-4FE6-AADA-2872BADD8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BDEA3-46F8-4ACE-A11D-94EAE552E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D4E64-76CA-49DB-A006-36D4EC8CC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C2020-A786-4720-A040-CC5EAAC7D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CF51B-3DAA-4ABB-9CDC-E02B4DC71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B97C55-BE16-494C-AD8E-A55C7D7DC6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C40C0D-5239-4731-B66E-3EDEC4AD2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8D071-E2D9-49D5-BECB-77843A5C5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6AD14-EE48-4068-9D35-2AC447AF8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A35CF-A535-4A23-9624-5847AE4FB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8D407-F3E6-43EB-B23E-C7F59AE86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B04C3-CCB5-479E-8890-84431ACCF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AA0FE-042E-4A8F-8560-466E0BE15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E218D-C667-457C-B1E3-0E7E65250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20BDC-40D9-477C-B323-E11565EC96B7}"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DAE2-FDD0-484B-88A9-1641D5775D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413D-D701-4B5E-9B8D-DB4D6C5060B6}" type="datetime">
              <a:rPr b="0" lang="en-GB" sz="1000" spc="-1" strike="noStrike">
                <a:solidFill>
                  <a:srgbClr val="292929"/>
                </a:solidFill>
                <a:latin typeface="Times New Roman"/>
              </a:rPr>
              <a:t>30/07/26</a:t>
            </a:fld>
            <a:endParaRPr b="0" lang="en-US" sz="10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8B6A-1AEB-4C48-B1A9-B128B3557623}"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researchmethodsdataanalysis.blogspot.com/2011/11/dataset-sites.html"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ome Key Questions </a:t>
            </a:r>
            <a:br>
              <a:rPr sz="4000"/>
            </a:br>
            <a:r>
              <a:rPr b="0" lang="en-IE" sz="4000" spc="-1" strike="noStrike">
                <a:solidFill>
                  <a:srgbClr val="000000"/>
                </a:solidFill>
                <a:latin typeface="Arial"/>
              </a:rPr>
              <a:t>about you Data</a:t>
            </a:r>
            <a:endParaRPr b="0" lang="en-US" sz="4000" spc="-1" strike="noStrike">
              <a:solidFill>
                <a:srgbClr val="000000"/>
              </a:solidFill>
              <a:latin typeface="Arial"/>
            </a:endParaRPr>
          </a:p>
        </p:txBody>
      </p:sp>
      <p:sp>
        <p:nvSpPr>
          <p:cNvPr id="100" name="PlaceHolder 2"/>
          <p:cNvSpPr>
            <a:spLocks noGrp="1"/>
          </p:cNvSpPr>
          <p:nvPr>
            <p:ph type="subTitle"/>
          </p:nvPr>
        </p:nvSpPr>
        <p:spPr>
          <a:xfrm>
            <a:off x="3419280" y="4654080"/>
            <a:ext cx="3600360" cy="1150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amian Gordon</a:t>
            </a:r>
            <a:endParaRPr b="0" lang="en-US" sz="3200" spc="-1" strike="noStrike">
              <a:solidFill>
                <a:srgbClr val="292929"/>
              </a:solidFill>
              <a:latin typeface="Arial"/>
            </a:endParaRPr>
          </a:p>
        </p:txBody>
      </p:sp>
      <p:sp>
        <p:nvSpPr>
          <p:cNvPr id="101" name="Subtitle 2"/>
          <p:cNvSpPr/>
          <p:nvPr/>
        </p:nvSpPr>
        <p:spPr>
          <a:xfrm>
            <a:off x="900000" y="3860640"/>
            <a:ext cx="4197600" cy="1224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Brendan Tierney</a:t>
            </a:r>
            <a:endParaRPr b="0" lang="en-US" sz="3200" spc="-1" strike="noStrike">
              <a:solidFill>
                <a:srgbClr val="292929"/>
              </a:solidFill>
              <a:latin typeface="Arial"/>
            </a:endParaRPr>
          </a:p>
        </p:txBody>
      </p:sp>
      <p:sp>
        <p:nvSpPr>
          <p:cNvPr id="102" name="Subtitle 2"/>
          <p:cNvSpPr/>
          <p:nvPr/>
        </p:nvSpPr>
        <p:spPr>
          <a:xfrm>
            <a:off x="4572000" y="3357720"/>
            <a:ext cx="4197240" cy="12236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Brian Mac Name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999933"/>
                </a:solidFill>
                <a:uFillTx/>
                <a:latin typeface="Arial"/>
                <a:hlinkClick r:id="rId1"/>
              </a:rPr>
              <a:t>http://researchmethodsdataanalysis.blogspot.com/2011/11/dataset-sites.html</a:t>
            </a:r>
            <a:endParaRPr b="0" lang="en-US" sz="32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e.g.</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ttp://www.kdnuggets.com/datasets/</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ttp://www.google.com/publicdata/directory</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ttp://opendata.ie/</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ttp://lib.stat.cmu.edu/datasets/</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Locating Datase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is a reasonable size of a dataset?</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Obviously it vary a lot from problem to problem, but in general we would recommend at least 10 features (columns) in the dataset, and we’d like to see thousands of instances. </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ize of the Datase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XT (Text file)</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IME (Multipurpose Internet Mail Extensions)</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XML (Extensible Markup Language)</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CSV (Comma-Separated Values)</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CSII (American Standard Code for Information Interchange) </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etc.</a:t>
            </a:r>
            <a:endParaRPr b="0" lang="en-US" sz="2400" spc="-1" strike="noStrike">
              <a:solidFill>
                <a:srgbClr val="292929"/>
              </a:solidFill>
              <a:latin typeface="Arial"/>
            </a:endParaRPr>
          </a:p>
        </p:txBody>
      </p:sp>
      <p:sp>
        <p:nvSpPr>
          <p:cNvPr id="12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ormat of the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arsing</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Correcting</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tandardizing</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atching</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Consolidating</a:t>
            </a:r>
            <a:endParaRPr b="0" lang="en-US" sz="2400" spc="-1" strike="noStrike">
              <a:solidFill>
                <a:srgbClr val="292929"/>
              </a:solidFill>
              <a:latin typeface="Arial"/>
            </a:endParaRPr>
          </a:p>
        </p:txBody>
      </p:sp>
      <p:sp>
        <p:nvSpPr>
          <p:cNvPr id="12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leaning of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Frequency counts</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escriptive statistics (mean, standard deviation, median)</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Normality (skewness, kurtosis, frequency histograms, normal probability plots)</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ssociations (correlations, scatter plots)</a:t>
            </a:r>
            <a:endParaRPr b="0" lang="en-US" sz="2400" spc="-1" strike="noStrike">
              <a:solidFill>
                <a:srgbClr val="292929"/>
              </a:solidFill>
              <a:latin typeface="Arial"/>
            </a:endParaRPr>
          </a:p>
        </p:txBody>
      </p:sp>
      <p:sp>
        <p:nvSpPr>
          <p:cNvPr id="12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ality of the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mputation</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artial imputation</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artial deletion</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Full analysis</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lso consider </a:t>
            </a:r>
            <a:r>
              <a:rPr b="0" i="1" lang="en-IE" sz="2400" spc="-1" strike="noStrike">
                <a:solidFill>
                  <a:srgbClr val="292929"/>
                </a:solidFill>
                <a:latin typeface="Arial"/>
              </a:rPr>
              <a:t>database nullology</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issing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raining Dataset (Build dataset)</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est Dataset</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pply Dataset (Scoring Dataset)</a:t>
            </a:r>
            <a:endParaRPr b="0" lang="en-US" sz="3200" spc="-1" strike="noStrike">
              <a:solidFill>
                <a:srgbClr val="292929"/>
              </a:solidFill>
              <a:latin typeface="Arial"/>
            </a:endParaRPr>
          </a:p>
        </p:txBody>
      </p:sp>
      <p:sp>
        <p:nvSpPr>
          <p:cNvPr id="13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Dataset typ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ow do we evaluate the research project?</a:t>
            </a:r>
            <a:endParaRPr b="0" lang="en-US" sz="3200" spc="-1" strike="noStrike">
              <a:solidFill>
                <a:srgbClr val="292929"/>
              </a:solidFill>
              <a:latin typeface="Arial"/>
            </a:endParaRPr>
          </a:p>
        </p:txBody>
      </p:sp>
      <p:sp>
        <p:nvSpPr>
          <p:cNvPr id="13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Eval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about stuff lik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rea under the Curv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isclassification Error</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Confusion Matrix</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N-fold Cross Validation</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OC Graph</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og-Loss and Hinge-Loss</a:t>
            </a:r>
            <a:endParaRPr b="0" lang="en-US" sz="2400" spc="-1" strike="noStrike">
              <a:solidFill>
                <a:srgbClr val="292929"/>
              </a:solidFill>
              <a:latin typeface="Arial"/>
            </a:endParaRPr>
          </a:p>
        </p:txBody>
      </p:sp>
      <p:sp>
        <p:nvSpPr>
          <p:cNvPr id="13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Eval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hese are good for evaluating the analysis, so they are good for checking how good the model is based on the dataset, and are definitely </a:t>
            </a:r>
            <a:r>
              <a:rPr b="0" lang="en-IE" sz="2400" spc="-1" strike="noStrike" u="sng">
                <a:solidFill>
                  <a:srgbClr val="292929"/>
                </a:solidFill>
                <a:uFillTx/>
                <a:latin typeface="Arial"/>
              </a:rPr>
              <a:t>part of the evaluation</a:t>
            </a:r>
            <a:r>
              <a:rPr b="0" lang="en-IE" sz="2400" spc="-1" strike="noStrike">
                <a:solidFill>
                  <a:srgbClr val="292929"/>
                </a:solidFill>
                <a:latin typeface="Arial"/>
              </a:rPr>
              <a:t>, but if you want to discuss the findings with respect to the real-world (and to the research question) you must do the following:</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292929"/>
                </a:solidFill>
                <a:latin typeface="Arial"/>
              </a:rPr>
              <a:t>Test predictions using the real-world</a:t>
            </a:r>
            <a:endParaRPr b="0" lang="en-US" sz="2800" spc="-1" strike="noStrike">
              <a:solidFill>
                <a:srgbClr val="292929"/>
              </a:solidFill>
              <a:latin typeface="Arial"/>
            </a:endParaRPr>
          </a:p>
        </p:txBody>
      </p:sp>
      <p:sp>
        <p:nvSpPr>
          <p:cNvPr id="13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Eval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ome students will be using a dataset as part of their research. This is typically thousands of rows of data. </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e are not talking about the data you might be collecting from surveys and interviews, but rather a pre-existing set of data.</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f the data is the key consideration in your research (although not all projects will necessarily be concerned with large datasets) it is important to consider several questions.</a:t>
            </a:r>
            <a:endParaRPr b="0" lang="en-US" sz="2400" spc="-1" strike="noStrike">
              <a:solidFill>
                <a:srgbClr val="292929"/>
              </a:solidFill>
              <a:latin typeface="Arial"/>
            </a:endParaRPr>
          </a:p>
        </p:txBody>
      </p:sp>
      <p:sp>
        <p:nvSpPr>
          <p:cNvPr id="10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Other questions?</a:t>
            </a:r>
            <a:endParaRPr b="0" lang="en-US" sz="3200" spc="-1" strike="noStrike">
              <a:solidFill>
                <a:srgbClr val="292929"/>
              </a:solidFill>
              <a:latin typeface="Arial"/>
            </a:endParaRPr>
          </a:p>
        </p:txBody>
      </p:sp>
      <p:sp>
        <p:nvSpPr>
          <p:cNvPr id="14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948960" y="1981080"/>
            <a:ext cx="7661160" cy="4114800"/>
          </a:xfrm>
          <a:prstGeom prst="rect">
            <a:avLst/>
          </a:prstGeom>
          <a:noFill/>
          <a:ln w="0">
            <a:noFill/>
          </a:ln>
        </p:spPr>
        <p:txBody>
          <a:bodyPr anchor="t">
            <a:normAutofit fontScale="92000"/>
          </a:bodyPr>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ow suitable is the data?</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is the type of the data?</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ere will you get it from?</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size is the dataset?</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format is it in?</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ow much cleaning is required?</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is the quality of the data?</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ow do you deal with missing data?</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ow will you evaluate your analysis?</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etc.</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vervie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etermining the suitability of the data is a vital consideration, it is not sufficient to simply locate a dataset that is thematically linked to your research question, it must be appropriate to explore the questions that you want to ask.</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For example, just because you want to do Credit Card Fraud detection and you have a dataset that contains Credit Card transactions or was used in another Credit Card Fraud project, does not mean that it will be suitable for your project.</a:t>
            </a:r>
            <a:endParaRPr b="0" lang="en-US" sz="2400" spc="-1" strike="noStrike">
              <a:solidFill>
                <a:srgbClr val="292929"/>
              </a:solidFill>
              <a:latin typeface="Arial"/>
            </a:endParaRPr>
          </a:p>
        </p:txBody>
      </p:sp>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uitability: Datase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292929"/>
                </a:solidFill>
                <a:latin typeface="Arial"/>
              </a:rPr>
              <a:t>Is the data already labelled? </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his is very important for supervised learning problems. </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o take the credit card fraud example again, you can probably get as many credit card transactions as you like but you probably won't be able to get them marked up as </a:t>
            </a:r>
            <a:r>
              <a:rPr b="0" i="1" lang="en-IE" sz="2400" spc="-1" strike="noStrike">
                <a:solidFill>
                  <a:srgbClr val="292929"/>
                </a:solidFill>
                <a:latin typeface="Arial"/>
              </a:rPr>
              <a:t>fraudulent</a:t>
            </a:r>
            <a:r>
              <a:rPr b="0" lang="en-IE" sz="2400" spc="-1" strike="noStrike">
                <a:solidFill>
                  <a:srgbClr val="292929"/>
                </a:solidFill>
                <a:latin typeface="Arial"/>
              </a:rPr>
              <a:t> and </a:t>
            </a:r>
            <a:r>
              <a:rPr b="0" i="1" lang="en-IE" sz="2400" spc="-1" strike="noStrike">
                <a:solidFill>
                  <a:srgbClr val="292929"/>
                </a:solidFill>
                <a:latin typeface="Arial"/>
              </a:rPr>
              <a:t>non-fraudulent</a:t>
            </a:r>
            <a:r>
              <a:rPr b="0" lang="en-IE" sz="2400" spc="-1" strike="noStrike">
                <a:solidFill>
                  <a:srgbClr val="292929"/>
                </a:solidFill>
                <a:latin typeface="Arial"/>
              </a:rPr>
              <a:t>. </a:t>
            </a:r>
            <a:endParaRPr b="0" lang="en-US" sz="2400" spc="-1" strike="noStrike">
              <a:solidFill>
                <a:srgbClr val="292929"/>
              </a:solidFill>
              <a:latin typeface="Arial"/>
            </a:endParaRPr>
          </a:p>
        </p:txBody>
      </p:sp>
      <p:sp>
        <p:nvSpPr>
          <p:cNvPr id="11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uitability: Labell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he same thing goes for a lot of text analytics problems - can you get people to label thousands of documents as being interesting or non-interesting to them so that you can train a predictive model? </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he availability of labelled data is a key consideration for any supervised learning problem. </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he areas of semi-supervised learning and active learning try to address this problem and have some very interesting open research questions. </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uitability: Labell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948960" y="1981080"/>
            <a:ext cx="7661160" cy="4114800"/>
          </a:xfrm>
          <a:prstGeom prst="rect">
            <a:avLst/>
          </a:prstGeom>
          <a:noFill/>
          <a:ln w="0">
            <a:noFill/>
          </a:ln>
        </p:spPr>
        <p:txBody>
          <a:bodyPr anchor="t">
            <a:normAutofit fontScale="99000"/>
          </a:bodyPr>
          <a:p>
            <a:pPr marL="443160" indent="-44316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wo important considerations:</a:t>
            </a:r>
            <a:endParaRPr b="0" lang="en-US" sz="2400" spc="-1" strike="noStrike">
              <a:solidFill>
                <a:srgbClr val="292929"/>
              </a:solidFill>
              <a:latin typeface="Arial"/>
            </a:endParaRPr>
          </a:p>
          <a:p>
            <a:pPr marL="443160" indent="-44316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79840" indent="-4348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292929"/>
                </a:solidFill>
                <a:latin typeface="Arial"/>
              </a:rPr>
              <a:t>The Curse of Dimensionality</a:t>
            </a:r>
            <a:r>
              <a:rPr b="0" lang="en-IE" sz="2000" spc="-1" strike="noStrike">
                <a:solidFill>
                  <a:srgbClr val="292929"/>
                </a:solidFill>
                <a:latin typeface="Arial"/>
              </a:rPr>
              <a:t> – When the dimensionality increases, the volume of the space increases so fast that the available data becomes sparse. In order to obtain a statistically sound result, the amount of data you need often grows exponentially with the dimensionality.</a:t>
            </a:r>
            <a:endParaRPr b="0" lang="en-US" sz="2000" spc="-1" strike="noStrike">
              <a:solidFill>
                <a:srgbClr val="292929"/>
              </a:solidFill>
              <a:latin typeface="Arial"/>
            </a:endParaRPr>
          </a:p>
          <a:p>
            <a:pPr lvl="1" marL="879840" indent="-4348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79840" indent="-4348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292929"/>
                </a:solidFill>
                <a:latin typeface="Arial"/>
              </a:rPr>
              <a:t>The No Free Lunch Theorem</a:t>
            </a:r>
            <a:r>
              <a:rPr b="0" lang="en-IE" sz="2000" spc="-1" strike="noStrike">
                <a:solidFill>
                  <a:srgbClr val="292929"/>
                </a:solidFill>
                <a:latin typeface="Arial"/>
              </a:rPr>
              <a:t> - Classifier performance depends greatly on the characteristics of the data to be classified. There is no single classifier that works best on all given problems.</a:t>
            </a:r>
            <a:endParaRPr b="0" lang="en-US" sz="2000" spc="-1" strike="noStrike">
              <a:solidFill>
                <a:srgbClr val="292929"/>
              </a:solidFill>
              <a:latin typeface="Arial"/>
            </a:endParaRPr>
          </a:p>
          <a:p>
            <a:pPr marL="443160" indent="-443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uitability: Labell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lso remember for labelling, you might be aiming for one of three goals:</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292929"/>
                </a:solidFill>
                <a:latin typeface="Arial"/>
              </a:rPr>
              <a:t>Binary classifications</a:t>
            </a:r>
            <a:r>
              <a:rPr b="0" lang="en-IE" sz="2000" spc="-1" strike="noStrike">
                <a:solidFill>
                  <a:srgbClr val="292929"/>
                </a:solidFill>
                <a:latin typeface="Arial"/>
              </a:rPr>
              <a:t> – classifying each data item to one of two categories.</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292929"/>
                </a:solidFill>
                <a:latin typeface="Arial"/>
              </a:rPr>
              <a:t>Multiclass classifications</a:t>
            </a:r>
            <a:r>
              <a:rPr b="0" lang="en-IE" sz="2000" spc="-1" strike="noStrike">
                <a:solidFill>
                  <a:srgbClr val="292929"/>
                </a:solidFill>
                <a:latin typeface="Arial"/>
              </a:rPr>
              <a:t> - classifying each data item to more than two categories. </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292929"/>
                </a:solidFill>
                <a:latin typeface="Arial"/>
              </a:rPr>
              <a:t>Multi-label classifications</a:t>
            </a:r>
            <a:r>
              <a:rPr b="0" lang="en-IE" sz="2000" spc="-1" strike="noStrike">
                <a:solidFill>
                  <a:srgbClr val="292929"/>
                </a:solidFill>
                <a:latin typeface="Arial"/>
              </a:rPr>
              <a:t> - classifying each data item to multiple target labels.</a:t>
            </a:r>
            <a:endParaRPr b="0" lang="en-US" sz="2000" spc="-1" strike="noStrike">
              <a:solidFill>
                <a:srgbClr val="292929"/>
              </a:solidFill>
              <a:latin typeface="Arial"/>
            </a:endParaRPr>
          </a:p>
        </p:txBody>
      </p:sp>
      <p:sp>
        <p:nvSpPr>
          <p:cNvPr id="11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uitability: Labell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Federated data</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igh dimensional data</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escriptive data</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ongitudinal data</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treaming data</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eb (scraped) data</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Numeric vs. categorical vs. text data</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etc.</a:t>
            </a:r>
            <a:endParaRPr b="0" lang="en-US" sz="2400" spc="-1" strike="noStrike">
              <a:solidFill>
                <a:srgbClr val="292929"/>
              </a:solidFill>
              <a:latin typeface="Arial"/>
            </a:endParaRPr>
          </a:p>
        </p:txBody>
      </p:sp>
      <p:sp>
        <p:nvSpPr>
          <p:cNvPr id="11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ypes of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2:56:11Z</dcterms:created>
  <dc:creator>x</dc:creator>
  <dc:description/>
  <dc:language>en-US</dc:language>
  <cp:lastModifiedBy>DIT</cp:lastModifiedBy>
  <dcterms:modified xsi:type="dcterms:W3CDTF">2012-10-09T10:38:12Z</dcterms:modified>
  <cp:revision>180</cp:revision>
  <dc:subject/>
  <dc:title>What is research?</dc:title>
</cp:coreProperties>
</file>