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C70A-7DA5-4CB5-9766-86F32D437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E010-6D21-4E2B-B04E-481B875C7C01}"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0E95-697B-4583-BA54-5F329671CCF5}"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0C8CC-F89C-469F-9D13-D5907EAB08A3}"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81830-2D47-4427-AD04-355739730A2F}"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0B5A-94C7-409C-AF24-20F23EB03DB2}"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33968-371B-4D0E-8156-0F26CB928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CFBE1-4CD9-45F1-871B-4388CD1E2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8C2B6-3C32-43CE-A778-C6C5D9EBA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223B43-A0DE-4107-B26B-595CD5823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24485-F474-4491-AE94-8790B8CAD2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355AA-5145-4C30-99D5-CE400BDC8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97252-AE40-4853-9767-05114779F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089F3A-7CBB-4806-B2D5-320989D48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011EA-1EBE-4944-AB9A-94D0DADDB0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DEC79-58CA-4703-88B0-7314ED77F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707BF-3F55-40DB-96A3-7BD7C1B04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0F15-64A7-4D5E-A322-4EF631308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C1714-95AB-4376-A316-EE8DADB67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BC621-0D21-4B8C-B3E8-33C630F08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8F30C3-10AD-4369-96AE-1038AE8C4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D9B02-6542-4B8D-BB2C-EA9B78E8A9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2797A-403D-44FE-BD45-DF763D755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13AE5-8A21-482D-80A0-0D9677623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766B8-4CDD-438E-925C-F950DF76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489FA-5036-41E6-85A8-CE75EF75E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0AA40-4DCC-412C-9B6C-B0D52C82C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38A55-8F98-46DB-A96B-BE849CB9B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AB087-63EA-44F8-9273-7C04F038B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901F0-4FAE-4BD0-9133-85689E08C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AFB00-ADEA-44E0-A49D-7A0ED2947BF6}"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72FB1-CD23-490F-9268-8E82F67AEB3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4B59-A1BC-4C02-8B2C-F7773AE935CA}" type="datetime">
              <a:rPr b="0" lang="en-GB" sz="1400" spc="-1" strike="noStrike">
                <a:solidFill>
                  <a:srgbClr val="ffffff"/>
                </a:solidFill>
                <a:latin typeface="Times New Roman"/>
              </a:rPr>
              <a:t>28/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608C7-32B2-4947-AAB4-3D6B01F53462}"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2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parts to this exercise, I want you to do both in electronic forma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another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 – Part 1</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lete the Checksheet for the article given in class in electronic form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 – Part 2</a:t>
            </a:r>
            <a:endParaRPr b="1" lang="en-US" sz="3600" spc="-1" strike="noStrike">
              <a:solidFill>
                <a:srgbClr val="006666"/>
              </a:solidFill>
              <a:latin typeface="Arial"/>
            </a:endParaRPr>
          </a:p>
        </p:txBody>
      </p:sp>
      <p:sp>
        <p:nvSpPr>
          <p:cNvPr id="110"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sing Google Scholar to look up potential areas of research you want to do your thesis in, using the areas you are researching and the word “trends”, e.g.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GIS trends”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Software Development trend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Image Processing trend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t>
            </a:r>
            <a:r>
              <a:rPr b="0" lang="en-US" sz="2000" spc="-1" strike="noStrike">
                <a:solidFill>
                  <a:srgbClr val="003366"/>
                </a:solidFill>
                <a:latin typeface="Arial"/>
              </a:rPr>
              <a:t>Data Mining trend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w using that search find three papers that seem interesting, print them out and add them to the portfoli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2 Exercise</a:t>
            </a:r>
            <a:endParaRPr b="1" lang="en-US" sz="3600" spc="-1" strike="noStrike">
              <a:solidFill>
                <a:srgbClr val="006666"/>
              </a:solidFill>
              <a:latin typeface="Arial"/>
            </a:endParaRPr>
          </a:p>
        </p:txBody>
      </p:sp>
      <p:sp>
        <p:nvSpPr>
          <p:cNvPr id="112"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09-25T20:50:11Z</dcterms:modified>
  <cp:revision>146</cp:revision>
  <dc:subject/>
  <dc:title>What is research?</dc:title>
</cp:coreProperties>
</file>