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F3F8-AAEF-4136-A386-772D21BBC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9365-ECB7-425A-AD8F-2A275B724BD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7776-C1B3-4AF9-A1B1-178D16D85E0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00A0-C6C7-433E-B962-FE1D2801C1A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7D2E-1179-450D-AD0B-81E11F59532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9AC2-2772-4DFB-B4DE-B3CEE31A00D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C9FBB-A151-4BAB-B4F6-739AA221F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DEDF-FFFA-4E31-8C7B-51FE1ECC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8721F-8227-473E-8E02-A40652834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F5620-2988-451B-8364-C64C9778C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FB595-08F0-4853-988C-3B1263550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186D0-A175-4CC3-8E9B-763C10C63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11600-C2F5-4065-9F9B-2C606BA60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0D0A1-9CEA-4A33-986B-DFEB96FC6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0C6B3-8357-41EB-92B3-2CEB83EC4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F87E3-B3A4-42A9-9760-F47ABC20F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FC618-C8D6-4C8F-9E2C-573C1AD24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9E7C-B70B-4CAC-AF3B-28A378BCB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C503B-C03B-4347-8547-5DDE1A309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C5A4F-F700-43AB-887B-8EC8DC6A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417B4-F0E3-4B71-9DEC-CC58054E6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92244-62F4-4517-9F73-56517370F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A1598-3BFC-41EC-B6D1-21A7053BD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2756C-6CED-47C4-AFF2-3B67E843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C90F6-DAFC-4187-91E0-1035F92E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3696-68D8-4AFF-9623-7A22F551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3CFA-EAE3-4A90-AA7E-AA173A6C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F5D9-1674-4AEC-863B-CB9EB7DD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D4DE-02C8-4BDD-9EC2-05A58D2AF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575B-DF7D-423A-845D-E62CEADEA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E619-D9BA-458B-95DA-8DEDE4A16A4B}"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A5C4-CA45-44A5-9474-D8F076571030}"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251-2EF3-488E-8618-4F8721A43959}" type="datetime">
              <a:rPr b="0" lang="en-GB"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9A13-D17F-47DF-9E3A-7D3354DA6B5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2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parts to this exercise, I want you to do both in electronic form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 – Part 1</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ete the Checksheet for the article given in class in electronic form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 – Part 2</a:t>
            </a:r>
            <a:endParaRPr b="1" lang="en-US" sz="3600" spc="-1" strike="noStrike">
              <a:solidFill>
                <a:srgbClr val="006666"/>
              </a:solidFill>
              <a:latin typeface="Arial"/>
            </a:endParaRPr>
          </a:p>
        </p:txBody>
      </p:sp>
      <p:sp>
        <p:nvSpPr>
          <p:cNvPr id="110"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Google Scholar to look up potential areas of research you want to do your thesis in, using the areas you are researching and the word “trends”, e.g.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GIS trends”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Software Development trend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Image Processing trend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Data Mining trend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w using that search find three papers that seem interesting, print them out and add them to the portfoli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a:t>
            </a:r>
            <a:endParaRPr b="1" lang="en-US" sz="3600" spc="-1" strike="noStrike">
              <a:solidFill>
                <a:srgbClr val="006666"/>
              </a:solidFill>
              <a:latin typeface="Arial"/>
            </a:endParaRPr>
          </a:p>
        </p:txBody>
      </p:sp>
      <p:sp>
        <p:nvSpPr>
          <p:cNvPr id="112"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09-25T20:50:11Z</dcterms:modified>
  <cp:revision>146</cp:revision>
  <dc:subject/>
  <dc:title>What is research?</dc:title>
</cp:coreProperties>
</file>