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C1AE-43BB-49A8-B0E4-04EAC56DE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1441-AE00-4091-A722-B714D27021E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4DCD-129B-4BA4-9B5B-1FB4C3FA7E4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5556-A024-4FDE-9E48-BC975E17E8F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F4A1-04EB-403E-872B-42C821322E2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F88-52A7-45AA-87AD-3CD033B7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F6D-C96A-460C-BA33-89D79F3D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9D5-769F-4389-8295-27342DFF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39D-4ACB-444E-8AD4-3108AAC7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0ADE-CEF0-46E8-AC13-9870CE6D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DA82-21BE-4892-BF93-E94C5EA4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1D79-A8AA-410A-A4FF-DAB9139B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5E90-B87A-42C8-9AA8-17C70497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A40D-3B46-438E-91C0-DE135E97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466C-6FB8-480E-AB50-B5015EA7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E2B4-6448-420F-8E2C-16B8B5F7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3C7-D94C-463A-95FE-23D60B8E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424F-87B2-4A24-8946-19045D47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DD2E-DEA8-4A54-9F04-A278740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7608-62DA-4B64-A9AB-CBFAFC31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1798-1966-4598-8C92-467EB62B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A2C9-5034-4015-8462-546E9FEC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BCC-DB4E-4415-A089-593FDCCA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333-4016-468D-8700-798AB9F0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F5B-9368-4C6D-B5C4-66A62F50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9DE-6258-4C6F-BC00-7740D3E7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CED-41E0-42FE-B4AD-493607F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C47-5F9F-419D-8DFB-F3AB28F0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31F-A2A5-4648-ACAC-39C015BE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4E24-76DD-4933-AC65-FCCF54DD5EA4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5B48-2867-4501-A4C4-5C20A802E520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1532-2E7C-4C84-A5BF-50770A5DF5CD}" type="datetime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5F55-7749-449D-B88F-6F64B0317680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1763640" y="981000"/>
            <a:ext cx="738036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684360" y="981000"/>
            <a:ext cx="208728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83200" y="1505880"/>
            <a:ext cx="67230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Week 10 Exercis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ek 10 Exerci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032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want you to do this exercise in electronic form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will also be another deposit in your portfolio, so keep a cop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ek 10 Exercise – Part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032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Complete and your </a:t>
            </a:r>
            <a:r>
              <a:rPr b="0" i="1" lang="en-IE" sz="2400" spc="-1" strike="noStrike">
                <a:solidFill>
                  <a:srgbClr val="003366"/>
                </a:solidFill>
                <a:latin typeface="Arial"/>
              </a:rPr>
              <a:t>Project Aim, Objectives, Evaluation Criteria, Deliverables, and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Technical and Non-Technical Resources Required</a:t>
            </a: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 that you developed in class, and include a copy in your portfol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ek 10 Exercise – Part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032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Create a literature map of your experiment for next week, also include in your portfol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3" descr="LiteratureMap.JPG"/>
          <p:cNvPicPr/>
          <p:nvPr/>
        </p:nvPicPr>
        <p:blipFill>
          <a:blip r:embed="rId1"/>
          <a:stretch/>
        </p:blipFill>
        <p:spPr>
          <a:xfrm>
            <a:off x="2340000" y="3284640"/>
            <a:ext cx="5111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2:56:11Z</dcterms:created>
  <dc:creator>x</dc:creator>
  <dc:description/>
  <dc:language>en-US</dc:language>
  <cp:lastModifiedBy>DIT</cp:lastModifiedBy>
  <dcterms:modified xsi:type="dcterms:W3CDTF">2012-11-19T16:13:02Z</dcterms:modified>
  <cp:revision>167</cp:revision>
  <dc:subject/>
  <dc:title>What is research?</dc:title>
</cp:coreProperties>
</file>