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F78E-0745-49DE-A21A-499D1F33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6393-EFFD-4261-925B-8B47E898CB7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AFDE-FFEE-47DD-AA4A-6372B50B5B3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EB1A-1C0F-4ACB-AA06-3AF9391B3DD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48C8-ADCA-4433-BE21-6A3DFC8F712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8A3-D43F-4F1F-A659-CE50156E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4B4-2D35-439F-8B3A-92C47D77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84C-753A-41B9-A170-C2FE27D7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B00-DB9D-49A2-BE60-4C5CAB7B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8F6B-1F0B-4100-A8C1-AF2B42C0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AE02-CEB6-4B71-9D7E-D8323F0B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802D-BD7D-4EEA-848B-FD18B2BF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C3DC-358C-40D6-8484-091E7011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4C1E-E4D2-4812-B546-7815FA24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4EC2-3601-4251-8A03-AE14D8D0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628F-7334-4ECE-A358-5A9EF337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CCC-A932-4636-AF97-27E021FC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BB50-9E21-42E0-B254-866805D4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F72E-BD7B-4A96-80C6-68C619D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02E0-4353-460D-9D63-9D0A01E4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F9B7-CE36-4617-8EDB-A8E905B2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21EE-20D5-4455-BEA0-5427299F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472-DEAD-4CAA-AE58-F140F668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36D-3231-494C-A74E-0A840A30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ECC-D008-42DB-8F17-EE127AB1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4A6-98EE-4D47-8536-93E5747E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E4F-95F5-46A3-9B3B-709E6AE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87D-EEBF-44E3-A9F1-7CB9FB6B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769-C920-4B3A-9543-1A251FFA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7B6F-1FD8-4FED-8307-8C3833BAA406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84D2-6685-48FB-9407-9857791BEEC7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043E-E62B-4323-9F48-DC5177AB5AB0}" type="datetime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77E7-EAC4-4A4E-BCA7-F6232C6139DA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1763640" y="981000"/>
            <a:ext cx="738036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684360" y="981000"/>
            <a:ext cx="208728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83200" y="1505880"/>
            <a:ext cx="67230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Week 10 Exercis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10 Exerc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want you to do this exercise in electronic form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will also be another deposit in your portfolio, so keep a cop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10 Exercise – Part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Complete and your </a:t>
            </a: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Project Aim, Objectives, Evaluation Criteria, Deliverables, and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Technical and Non-Technical Resources Required</a:t>
            </a: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 that you developed in class, and include a copy in your portfol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10 Exercise – Part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Create a literature map of your experiment for next week, also include in your portfol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3" descr="LiteratureMap.JPG"/>
          <p:cNvPicPr/>
          <p:nvPr/>
        </p:nvPicPr>
        <p:blipFill>
          <a:blip r:embed="rId1"/>
          <a:stretch/>
        </p:blipFill>
        <p:spPr>
          <a:xfrm>
            <a:off x="2340000" y="3284640"/>
            <a:ext cx="5111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2:56:11Z</dcterms:created>
  <dc:creator>x</dc:creator>
  <dc:description/>
  <dc:language>en-US</dc:language>
  <cp:lastModifiedBy>DIT</cp:lastModifiedBy>
  <dcterms:modified xsi:type="dcterms:W3CDTF">2012-11-19T16:13:02Z</dcterms:modified>
  <cp:revision>167</cp:revision>
  <dc:subject/>
  <dc:title>What is research?</dc:title>
</cp:coreProperties>
</file>