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A193-A707-401D-8966-92C5B2C62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AFFD-BB90-48E3-950A-99C2EADDECA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0B96-09E5-4B7E-8050-8A96F6849A9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15C8-E416-4912-A2B0-739F2EBBC85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152E-19F6-4C60-BA52-081DE24BACDC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AA8B-C865-48E7-AF3D-43F0F81D7C3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8917-1E20-4731-B374-FD3A5B199D1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9D5A-3507-494A-8384-9D1F3485929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9C5B-4E67-46E6-9A6E-AEE2DBAD5688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1170-C6F2-473C-8B33-FE83C1B28EB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E9CB-A998-4BE8-BB74-AE34459B7A0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E50-ACC9-48DD-BA0F-E6052948F55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4906-2DC4-4594-8D1C-30F31F71E8D2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3E4C-2268-4B9D-9A5E-6C55FEBD3B8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0F1-97F8-472E-A93C-04F41D16AE57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C95-A8D7-4A32-AE57-AB8E0A7C945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B089-5E58-4E26-B458-0F6DBC38E93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8C52-4526-40DA-95A7-7F06B7941DD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B3B0-D6C5-4D6D-9897-16ABB961321C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F1AE-E842-496C-9264-087567E5278C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5D0-C000-49B3-AAC1-3CA1D3C9543B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F407-B40B-4DF6-A820-706AB99B15E0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6173-EEE1-4EDC-B628-657282CAD03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7F0C-48E5-47FC-A525-96C8FA547BF7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6962-C0BF-4D9F-863C-5CA08ABF735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E52E-A5CB-4081-B5A0-EFCEE71D649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9F9-9B3B-48E5-BB6C-EB02129FBAE7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198-FF1A-4CE9-8AEF-21EC23AF0648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85D8-FCBF-4829-AD8E-D789C2256CE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E7D3-6893-45DD-8982-7C56C067EEB6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44A3-8445-4815-A60F-81B311E0788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D467-7A40-4C91-9912-9A497412C03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FE6-6AB9-4CB2-A315-7E2C008C42B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9CF-A45B-4DA8-B251-C58F47E3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E5D-5F60-48FB-8E50-8E796A21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A96-CEB6-4651-81F2-A17B327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530-B96A-463C-8A71-D828F050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1E8C-8BFA-4950-AEDA-8B4409CC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B98F-3913-4590-AE73-1139A5E6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56FE-A12C-402E-86AE-F8F32808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304D-351C-45B3-AF96-5FC3FA50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642D-30EE-4493-B1DD-F100F6A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CE0A-E818-48E8-983A-227879DA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C665-93DC-44D0-A834-B5845920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524-F785-47BC-8750-44E2B597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1019-AA5E-4F17-ABE6-1B018D0D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9A95-C0AE-484B-87B9-DAB5872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6CE1-3A7F-408F-8220-8724A0D0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7BB-9EA7-46BE-8ACF-78A9BF80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05E6-10A9-431F-B8C8-06E17C17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1B0-69B3-45B0-BE02-2CBE65F6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1CA-96AE-475A-BA17-7A16A783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0E5-7580-470F-BD98-CF5EC25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35D-8EA0-4AE3-BD70-0126B7F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8D1-E10E-48A9-8FFB-6F803D4E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958-2F65-484F-B98D-E77B044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48E-1EA6-48DD-973E-700398D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CD0-C9B0-4A4D-B2B6-AB263D8148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F543-B362-4D3B-8F5C-E4EF80F8B5A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posal in Detail – 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Project Aim, Objectives, Evaluation Criteria, Deliverables,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echnical and Non-Technical Resources Requir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Typically between 4 and 7 objectiv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The objectives are the milestones in reaching your project ai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3" descr="dickwhittington.jpg"/>
          <p:cNvPicPr/>
          <p:nvPr/>
        </p:nvPicPr>
        <p:blipFill>
          <a:blip r:embed="rId1"/>
          <a:stretch/>
        </p:blipFill>
        <p:spPr>
          <a:xfrm>
            <a:off x="1330200" y="4000680"/>
            <a:ext cx="188136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w.jpg"/>
          <p:cNvPicPr/>
          <p:nvPr/>
        </p:nvPicPr>
        <p:blipFill>
          <a:blip r:embed="rId2"/>
          <a:stretch/>
        </p:blipFill>
        <p:spPr>
          <a:xfrm>
            <a:off x="3635280" y="4005360"/>
            <a:ext cx="1897200" cy="285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ck_whittington.jpg"/>
          <p:cNvPicPr/>
          <p:nvPr/>
        </p:nvPicPr>
        <p:blipFill>
          <a:blip r:embed="rId3"/>
          <a:stretch/>
        </p:blipFill>
        <p:spPr>
          <a:xfrm>
            <a:off x="5902200" y="4005360"/>
            <a:ext cx="19098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ggested objectiv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view appropriate resear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interesting approach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 range of opinion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ign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ecute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alyze the resul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se are generic objectives, create ones that are specific to your projec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view appropriate resear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interesting approach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 range of opinion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ign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ecute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alyze the resul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438280" y="3733920"/>
            <a:ext cx="5639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90920" y="3886200"/>
            <a:ext cx="5638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About half a page for this s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How you intend to implement and evaluate your research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What methods are you going to use, both quantitative and qualitativ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How have other researchers who have done similar projects in the past evaluated their project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Is there a standard model, framework, or instrument to be us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Can you find a formal framework for assessing the outcome the a previous project has already us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Use standard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IEEE 829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tandard for Software Test Documentatio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ISO 9126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ISO 14598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(which are standards on software evalu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Suggested criteri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des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e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How do you evaluate the project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How effective were the methods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51280" indent="-3585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Did the combination of quantitative and qualitative techniques match the research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How effective were the tools you used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51280" indent="-3585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Did the tools prove to be suitable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How effective were they at measuring your research question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51280" indent="-3585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Did the tools accurately model the research question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438280" y="3733920"/>
            <a:ext cx="5639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438280" y="3733920"/>
            <a:ext cx="5639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-393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If you haven’t checked yet, explore the literature, and find out how these type of projects are evaluated. Google and GoogleScholar things lik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e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metric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standar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IS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framewor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rite down two criteria under each of the following heading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des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e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Also, remember that measurements lik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Area under the Cur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Misclassification Err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onfusion Matrix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N-fold Cross Valid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ROC Grap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Log-Loss and Hinge-Lo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...are good for evaluating the analysis, so they are good for checking how good the model is based on the dataset, and are definitely </a:t>
            </a:r>
            <a:r>
              <a:rPr b="0" lang="en-IE" sz="2400" spc="-1" strike="noStrike" u="sng">
                <a:solidFill>
                  <a:srgbClr val="292929"/>
                </a:solidFill>
                <a:uFillTx/>
                <a:latin typeface="Arial"/>
              </a:rPr>
              <a:t>part of the evaluation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, but if you want to discuss the findings with respect to the real-world (and to the research question) you must do the following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Test predictions using the real-worl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590920" y="3886200"/>
            <a:ext cx="5638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Generic deliverable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Dissertation Docu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urvey results on C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se are generic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deliverable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create ones that are specific to your proje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Dissertation Docu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urvey results on C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ical and Non-Technical Resources Requ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590920" y="3886200"/>
            <a:ext cx="5638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is is the “thesis” of the projec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Consider using Bloom’s Taxonomy Verbs in stating your ai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.g. “</a:t>
            </a:r>
            <a:r>
              <a:rPr b="0" i="1" lang="en-GB" sz="3200" spc="-1" strike="noStrike">
                <a:solidFill>
                  <a:srgbClr val="292929"/>
                </a:solidFill>
                <a:latin typeface="Arial"/>
              </a:rPr>
              <a:t>This research will measure how Web 2.0 tools can improve collaboration and knowledge sharing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ical and Non-Technical Resources Requ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Access to peop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PC / Laptop / PDA /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Librar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ical and Non-Technical Resources Requ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ical and Non-Technical Resources Requ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Over to you..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Access to peop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PC / Laptop / PDA / etc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oftware Librar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bloom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4529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143000" y="6248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Bloom, B.S. (Ed.) (1956) Taxonomy of educational objecti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143000" y="6248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Bloom, B.S. (Ed.) (1956) Taxonomy of educational objecti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4" descr="BloomsTaxonomy"/>
          <p:cNvPicPr/>
          <p:nvPr/>
        </p:nvPicPr>
        <p:blipFill>
          <a:blip r:embed="rId1"/>
          <a:stretch/>
        </p:blipFill>
        <p:spPr>
          <a:xfrm>
            <a:off x="0" y="260280"/>
            <a:ext cx="7451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143000" y="21812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32000" y="1901880"/>
            <a:ext cx="731520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Evaluation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ppraise, argue, assess, attach, choose, compare, defend, estimate, judge, predict, rate, score, select, support, valu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Synthesis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rrange, assemble, collect, compose, construct, create, design, develop, formulate, manage, organize, plan, prepar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Analysis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nalyze, appraise, calculate, categorize, compare, contrast, criticize, differentiate, discriminate, distinguish, examin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Application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pply, choose, demonstrate, dramatize, employ, illustrate, interpret, operate, practice, schedule, sketch, solve, us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Comprehension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classify, describe, discuss, explain, express, identify, indicate, locate, recognize, report, restate, review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Knowledge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rrange, define, duplicate, label, list, memorize, name, order, recognize, relate, recall, repeat, reproduce stat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066680" y="1916280"/>
            <a:ext cx="7696440" cy="7984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066680" y="2714760"/>
            <a:ext cx="7696440" cy="8380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66680" y="3552840"/>
            <a:ext cx="7696440" cy="6858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066680" y="4238640"/>
            <a:ext cx="7696440" cy="76212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066680" y="5000760"/>
            <a:ext cx="7696440" cy="7617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066680" y="5762520"/>
            <a:ext cx="7696440" cy="76212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52280" y="1828800"/>
            <a:ext cx="609840" cy="4495680"/>
          </a:xfrm>
          <a:prstGeom prst="upArrow">
            <a:avLst>
              <a:gd name="adj1" fmla="val 50000"/>
              <a:gd name="adj2" fmla="val 184298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Arial"/>
              </a:rPr>
              <a:t>Complete the following sentences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The aim of this project is to ...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This will be done by ...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It will be evaluated by ...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438280" y="3733920"/>
            <a:ext cx="5639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4:18:06Z</dcterms:created>
  <dc:creator>dgordon</dc:creator>
  <dc:description/>
  <dc:language>en-US</dc:language>
  <cp:lastModifiedBy>DIT</cp:lastModifiedBy>
  <dcterms:modified xsi:type="dcterms:W3CDTF">2012-11-21T19:20:24Z</dcterms:modified>
  <cp:revision>77</cp:revision>
  <dc:subject/>
  <dc:title>Slide 1</dc:title>
</cp:coreProperties>
</file>