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6708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896400" y="731880"/>
            <a:ext cx="487548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064A-49D6-46A1-9FC3-65F442188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1265-9560-49B7-80BC-FAF9A974C7DE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8428-EF7C-46AF-B99C-D8B6FC208494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3E47-8794-4E36-B75B-F0BA17E4D4AB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0588-1024-4803-9DD4-8F7B0F701881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92DC-BAE6-4547-B6E4-E42F19E30D9A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3684-2C22-45FB-AD15-9F76180A6A9B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0F23-7E7E-4894-B5C5-33A38ACDD5BA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BC94-22DE-43C1-AC05-8849D37C6B0C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FAB6-30FD-4285-B58F-A85F9CF396B2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9E30-DD3C-4537-9AF2-2E17669C1078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3D6A-F217-4957-B783-C76030CA2601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3733-DEE6-4578-8DA2-B6229AE2CC0D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D204-B243-49E5-B030-69C30C5FE66E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7B47-9A79-4010-A5D0-6790488021CD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07A6-8EDF-4799-B446-7773F114E13F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6295-F88E-4AE2-9F98-AF3BC81E32E4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C601-AB0A-4F46-93F7-A102A0A9268D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E1AE-5931-468F-ACE4-2BC98436D0DB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B7885-4426-4F00-804A-A74166D27013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25A8-2C09-4761-8D63-426AAB2E397E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2228-350A-423D-8C2F-5D34CCF7F63F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0CFF-9B23-4D53-B790-B474929A7960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8737-C160-4A02-A37D-4F9BDC017EE4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72F0-8E66-4EAA-A995-EA94A28E1525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4B33-471C-4E23-A4C3-1897643C09F5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FB94-5CEF-4A3F-8DCF-A42D93B3330D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00D3-1C57-41B7-9BFB-621160E61EE3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6BE8-D823-4C14-BA49-5C9D25EF0C65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4200-9A41-47F8-8012-4AE02A1B7E45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71A7-D2A6-4582-8588-45526A937E6A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12D8-CA1D-45CE-B60B-A7DED77D4E94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778200" y="9264600"/>
            <a:ext cx="2889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047D-0473-4546-9C85-9648FC1C3D72}" type="slidenum">
              <a:rPr b="0" lang="en-US" sz="12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96760" y="731880"/>
            <a:ext cx="4875480" cy="36576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66360" y="4632480"/>
            <a:ext cx="533556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9AF8-C2D8-481A-B0AB-95EC30BFC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0DCA-C300-4367-AA46-6B67B372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486D-6B22-4F16-A6B4-1AFBA5508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12BF-5BCE-45F8-8933-7732832AB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9BC8-2E85-4872-9425-91C217633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0624-3102-4420-A12F-00A2D7F6C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C3DE-9618-4EE4-82BB-480262B7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7755-FE2F-46D1-B055-BF448366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CBA4-F5A1-4C3F-910A-2ACF7C0A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7F6D-E75C-4695-B09C-1D314556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6FC5-4E9B-4BB7-B9E3-DFACDD2A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634B-7542-443E-90F1-ED4312F2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D212-BE43-4A91-BB44-56C2D92B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A737-7835-46E8-B210-5F7F8013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F205-C1B4-469F-BAD6-FFE56D7E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77FD-05C1-4A93-8B85-8C6062D24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7E0D-6B6B-41D0-888C-EFBC80665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A41C-DD91-436F-8B2B-66E44C08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C0FA-2C59-427F-8B42-EA0AC47B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B51E-DA9B-429F-A152-817AD300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3559-8535-403E-80FD-9BD03E63B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3A9B-7110-4922-875D-11DB8F64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C6D8-2642-4080-B532-391019F5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5FF7-5421-429D-B81E-D16BE11A4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D4C3-7A7F-4585-B92D-2381E80211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>
              <a:gd name="textAreaLeft" fmla="*/ 0 w 152640"/>
              <a:gd name="textAreaRight" fmla="*/ 153000 w 15264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>
              <a:gd name="textAreaLeft" fmla="*/ 0 w 152280"/>
              <a:gd name="textAreaRight" fmla="*/ 152640 w 15228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6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449360"/>
                <a:gd name="textAreaBottom" fmla="*/ 1449720 h 1449360"/>
              </a:gdLst>
              <a:ahLst/>
              <a:rect l="textAreaLeft" t="textAreaTop" r="textAreaRight" b="textAreaBottom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1371600"/>
                <a:gd name="textAreaBottom" fmla="*/ 1371960 h 1371600"/>
              </a:gdLst>
              <a:ahLst/>
              <a:rect l="textAreaLeft" t="textAreaTop" r="textAreaRight" b="textAreaBottom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CE16-BBD5-4EE3-AEDF-06591E01DD44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Proposal in Detail – Part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Project Aim, Objectives, Evaluation Criteria, Deliverables, </a:t>
            </a: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Technical and Non-Technical Resources Require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Project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Typically between 4 and 7 objectiv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The objectives are the milestones in reaching your project aim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0" name="Picture 3" descr="dickwhittington.jpg"/>
          <p:cNvPicPr/>
          <p:nvPr/>
        </p:nvPicPr>
        <p:blipFill>
          <a:blip r:embed="rId1"/>
          <a:stretch/>
        </p:blipFill>
        <p:spPr>
          <a:xfrm>
            <a:off x="1330200" y="4000680"/>
            <a:ext cx="1881360" cy="2857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dw.jpg"/>
          <p:cNvPicPr/>
          <p:nvPr/>
        </p:nvPicPr>
        <p:blipFill>
          <a:blip r:embed="rId2"/>
          <a:stretch/>
        </p:blipFill>
        <p:spPr>
          <a:xfrm>
            <a:off x="3635280" y="4005360"/>
            <a:ext cx="1897200" cy="2852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dick_whittington.jpg"/>
          <p:cNvPicPr/>
          <p:nvPr/>
        </p:nvPicPr>
        <p:blipFill>
          <a:blip r:embed="rId3"/>
          <a:stretch/>
        </p:blipFill>
        <p:spPr>
          <a:xfrm>
            <a:off x="5902200" y="4005360"/>
            <a:ext cx="190980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Project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uggested objectiv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view appropriate research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dentify interesting approach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dentify a range of opinions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esign the experimen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xecute the experimen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alyze the resul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Project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Project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se are generic objectives, create ones that are specific to your project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eview appropriate research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dentify interesting approach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Identify a range of opinions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esign the experimen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Execute the experimen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Analyze the resul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Evaluation Cri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438280" y="3733920"/>
            <a:ext cx="56390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2590920" y="3886200"/>
            <a:ext cx="56386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eminde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Evaluation Cri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48960" y="177336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About half a page for this sec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How you intend to implement and evaluate your research</a:t>
            </a: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What methods are you going to use, both quantitative and qualitative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Evaluation Cri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8960" y="177336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88840" indent="-43956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How have other researchers who have done similar projects in the past evaluated their projects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Is there a standard model, framework, or instrument to be used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Evaluation Cri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48960" y="177336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Can you find a formal framework for assessing the outcome the a previous project has already used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Use standards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92929"/>
                </a:solidFill>
                <a:latin typeface="Arial"/>
              </a:rPr>
              <a:t>IEEE 829 </a:t>
            </a: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Standard for Software Test Documentation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92929"/>
                </a:solidFill>
                <a:latin typeface="Arial"/>
              </a:rPr>
              <a:t>ISO 9126 </a:t>
            </a: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and </a:t>
            </a:r>
            <a:r>
              <a:rPr b="1" lang="en-GB" sz="2800" spc="-1" strike="noStrike">
                <a:solidFill>
                  <a:srgbClr val="292929"/>
                </a:solidFill>
                <a:latin typeface="Arial"/>
              </a:rPr>
              <a:t>ISO 14598 </a:t>
            </a: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(which are standards on software evaluation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Evaluation Cri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48960" y="177336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Suggested criteri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The suitability of the desig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The suitability of the experimen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The suitability of the evalua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Evaluation Cri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48960" y="177336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98520" indent="-39852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How do you evaluate the project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How effective were the methods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151280" indent="-3585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Did the combination of quantitative and qualitative techniques match the research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How effective were the tools you used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151280" indent="-3585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Did the tools prove to be suitable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790920" indent="-3909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How effective were they at measuring your research question?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151280" indent="-3585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Did the tools accurately model the research question?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Project A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2438280" y="3733920"/>
            <a:ext cx="56390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eminde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Evaluation Cri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2438280" y="3733920"/>
            <a:ext cx="56390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Evaluation Cri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48960" y="177336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93840" indent="-393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If you haven’t checked yet, explore the literature, and find out how these type of projects are evaluated. Google and GoogleScholar things like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781920" indent="-38664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0" i="1" lang="en-IE" sz="2800" spc="-1" strike="noStrike">
                <a:solidFill>
                  <a:srgbClr val="292929"/>
                </a:solidFill>
                <a:latin typeface="Arial"/>
              </a:rPr>
              <a:t>Project topic” evalua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81920" indent="-38664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292929"/>
                </a:solidFill>
                <a:latin typeface="Arial"/>
              </a:rPr>
              <a:t> “</a:t>
            </a:r>
            <a:r>
              <a:rPr b="0" i="1" lang="en-IE" sz="2800" spc="-1" strike="noStrike">
                <a:solidFill>
                  <a:srgbClr val="292929"/>
                </a:solidFill>
                <a:latin typeface="Arial"/>
              </a:rPr>
              <a:t>Project topic” metric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81920" indent="-38664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292929"/>
                </a:solidFill>
                <a:latin typeface="Arial"/>
              </a:rPr>
              <a:t> “</a:t>
            </a:r>
            <a:r>
              <a:rPr b="0" i="1" lang="en-IE" sz="2800" spc="-1" strike="noStrike">
                <a:solidFill>
                  <a:srgbClr val="292929"/>
                </a:solidFill>
                <a:latin typeface="Arial"/>
              </a:rPr>
              <a:t>Project topic” standard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81920" indent="-38664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292929"/>
                </a:solidFill>
                <a:latin typeface="Arial"/>
              </a:rPr>
              <a:t> “</a:t>
            </a:r>
            <a:r>
              <a:rPr b="0" i="1" lang="en-IE" sz="2800" spc="-1" strike="noStrike">
                <a:solidFill>
                  <a:srgbClr val="292929"/>
                </a:solidFill>
                <a:latin typeface="Arial"/>
              </a:rPr>
              <a:t>Project topic” IS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81920" indent="-38664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292929"/>
                </a:solidFill>
                <a:latin typeface="Arial"/>
              </a:rPr>
              <a:t> “</a:t>
            </a:r>
            <a:r>
              <a:rPr b="0" i="1" lang="en-IE" sz="2800" spc="-1" strike="noStrike">
                <a:solidFill>
                  <a:srgbClr val="292929"/>
                </a:solidFill>
                <a:latin typeface="Arial"/>
              </a:rPr>
              <a:t>Project topic” framework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81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81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781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Evaluation Cri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48960" y="177336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Write down two criteria under each of the following headings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The suitability of the desig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The suitability of the experimen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The suitability of the evalua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Also, remember that measurements like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Area under the Curv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Misclassification Erro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Confusion Matrix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N-fold Cross Valida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ROC Graph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Log-Loss and Hinge-Los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Evaluation Cri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...are good for evaluating the analysis, so they are good for checking how good the model is based on the dataset, and are definitely </a:t>
            </a:r>
            <a:r>
              <a:rPr b="0" lang="en-IE" sz="2400" spc="-1" strike="noStrike" u="sng">
                <a:solidFill>
                  <a:srgbClr val="292929"/>
                </a:solidFill>
                <a:uFillTx/>
                <a:latin typeface="Arial"/>
              </a:rPr>
              <a:t>part of the evaluation</a:t>
            </a:r>
            <a:r>
              <a:rPr b="0" lang="en-IE" sz="2400" spc="-1" strike="noStrike">
                <a:solidFill>
                  <a:srgbClr val="292929"/>
                </a:solidFill>
                <a:latin typeface="Arial"/>
              </a:rPr>
              <a:t>, but if you want to discuss the findings with respect to the real-world (and to the research question) you must do the following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800" spc="-1" strike="noStrike">
                <a:solidFill>
                  <a:srgbClr val="292929"/>
                </a:solidFill>
                <a:latin typeface="Arial"/>
              </a:rPr>
              <a:t>Test predictions using the real-worl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Evaluation Cri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Deliver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2590920" y="3886200"/>
            <a:ext cx="56386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eminde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Deliver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Generic deliverables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Literature Review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Dissertation Documen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Softwar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Survey results on CD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Deliver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Deliver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se are generic </a:t>
            </a: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deliverables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, create ones that are specific to your projec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Literature Review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Dissertation Documen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Softwar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Survey results on CD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echnical and Non-Technical Resources Requi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2590920" y="3886200"/>
            <a:ext cx="56386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eminde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Project A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This is the “thesis” of the project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Consider using Bloom’s Taxonomy Verbs in stating your aim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e.g. “</a:t>
            </a:r>
            <a:r>
              <a:rPr b="0" i="1" lang="en-GB" sz="3200" spc="-1" strike="noStrike">
                <a:solidFill>
                  <a:srgbClr val="292929"/>
                </a:solidFill>
                <a:latin typeface="Arial"/>
              </a:rPr>
              <a:t>This research will measure how Web 2.0 tools can improve collaboration and knowledge sharing</a:t>
            </a: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echnical and Non-Technical Resources Requi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Access to peopl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PC / Laptop / PDA / etc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Software Librari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echnical and Non-Technical Resources Requi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echnical and Non-Technical Resources Requi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Over to you..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Access to peop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292929"/>
                </a:solidFill>
                <a:latin typeface="Arial"/>
              </a:rPr>
              <a:t>PC / Laptop / PDA / etc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Software Librari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loom’s Taxono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bloom"/>
          <p:cNvPicPr/>
          <p:nvPr/>
        </p:nvPicPr>
        <p:blipFill>
          <a:blip r:embed="rId1"/>
          <a:stretch/>
        </p:blipFill>
        <p:spPr>
          <a:xfrm>
            <a:off x="1295280" y="1600200"/>
            <a:ext cx="6324840" cy="45291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1143000" y="624852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Bloom, B.S. (Ed.) (1956) Taxonomy of educational objectiv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"/>
          <p:cNvSpPr/>
          <p:nvPr/>
        </p:nvSpPr>
        <p:spPr>
          <a:xfrm>
            <a:off x="1143000" y="624852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92929"/>
                </a:solidFill>
                <a:latin typeface="Arial"/>
              </a:rPr>
              <a:t>Bloom, B.S. (Ed.) (1956) Taxonomy of educational objectiv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0" name="Picture 4" descr="BloomsTaxonomy"/>
          <p:cNvPicPr/>
          <p:nvPr/>
        </p:nvPicPr>
        <p:blipFill>
          <a:blip r:embed="rId1"/>
          <a:stretch/>
        </p:blipFill>
        <p:spPr>
          <a:xfrm>
            <a:off x="0" y="260280"/>
            <a:ext cx="74516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63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loom’s Taxonom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1143000" y="21812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332000" y="1901880"/>
            <a:ext cx="7315200" cy="44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900" spc="-1" strike="noStrike">
                <a:solidFill>
                  <a:srgbClr val="292929"/>
                </a:solidFill>
                <a:latin typeface="Arial"/>
              </a:rPr>
              <a:t>Evaluation</a:t>
            </a: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: appraise, argue, assess, attach, choose, compare, defend, estimate, judge, predict, rate, score, select, support, value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900" spc="-1" strike="noStrike">
                <a:solidFill>
                  <a:srgbClr val="292929"/>
                </a:solidFill>
                <a:latin typeface="Arial"/>
              </a:rPr>
              <a:t>Synthesis</a:t>
            </a: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: arrange, assemble, collect, compose, construct, create, design, develop, formulate, manage, organize, plan, prepare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900" spc="-1" strike="noStrike">
                <a:solidFill>
                  <a:srgbClr val="292929"/>
                </a:solidFill>
                <a:latin typeface="Arial"/>
              </a:rPr>
              <a:t>Analysis</a:t>
            </a: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: analyze, appraise, calculate, categorize, compare, contrast, criticize, differentiate, discriminate, distinguish, examine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900" spc="-1" strike="noStrike">
                <a:solidFill>
                  <a:srgbClr val="292929"/>
                </a:solidFill>
                <a:latin typeface="Arial"/>
              </a:rPr>
              <a:t>Application</a:t>
            </a: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: apply, choose, demonstrate, dramatize, employ, illustrate, interpret, operate, practice, schedule, sketch, solve, use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900" spc="-1" strike="noStrike">
                <a:solidFill>
                  <a:srgbClr val="292929"/>
                </a:solidFill>
                <a:latin typeface="Arial"/>
              </a:rPr>
              <a:t>Comprehension</a:t>
            </a: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: classify, describe, discuss, explain, express, identify, indicate, locate, recognize, report, restate, review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900" spc="-1" strike="noStrike">
                <a:solidFill>
                  <a:srgbClr val="292929"/>
                </a:solidFill>
                <a:latin typeface="Arial"/>
              </a:rPr>
              <a:t>Knowledge</a:t>
            </a:r>
            <a:r>
              <a:rPr b="0" lang="en-GB" sz="1900" spc="-1" strike="noStrike">
                <a:solidFill>
                  <a:srgbClr val="292929"/>
                </a:solidFill>
                <a:latin typeface="Arial"/>
              </a:rPr>
              <a:t>: arrange, define, duplicate, label, list, memorize, name, order, recognize, relate, recall, repeat, reproduce state</a:t>
            </a:r>
            <a:endParaRPr b="0" lang="en-US" sz="19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066680" y="1916280"/>
            <a:ext cx="7696440" cy="79848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066680" y="2714760"/>
            <a:ext cx="7696440" cy="83808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1066680" y="3552840"/>
            <a:ext cx="7696440" cy="68580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1066680" y="4238640"/>
            <a:ext cx="7696440" cy="76212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1066680" y="5000760"/>
            <a:ext cx="7696440" cy="76176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1066680" y="5762520"/>
            <a:ext cx="7696440" cy="76212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AutoShape 11"/>
          <p:cNvSpPr/>
          <p:nvPr/>
        </p:nvSpPr>
        <p:spPr>
          <a:xfrm>
            <a:off x="152280" y="1828800"/>
            <a:ext cx="609840" cy="4495680"/>
          </a:xfrm>
          <a:prstGeom prst="upArrow">
            <a:avLst>
              <a:gd name="adj1" fmla="val 50000"/>
              <a:gd name="adj2" fmla="val 184298"/>
            </a:avLst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Project A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Project A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9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92929"/>
                </a:solidFill>
                <a:latin typeface="Arial"/>
              </a:rPr>
              <a:t>Complete the following sentences: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0" i="1" lang="en-GB" sz="2800" spc="-1" strike="noStrike">
                <a:solidFill>
                  <a:srgbClr val="292929"/>
                </a:solidFill>
                <a:latin typeface="Arial"/>
              </a:rPr>
              <a:t>The aim of this project is to ...</a:t>
            </a: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0" i="1" lang="en-GB" sz="2800" spc="-1" strike="noStrike">
                <a:solidFill>
                  <a:srgbClr val="292929"/>
                </a:solidFill>
                <a:latin typeface="Arial"/>
              </a:rPr>
              <a:t>This will be done by ...</a:t>
            </a: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0" i="1" lang="en-GB" sz="2800" spc="-1" strike="noStrike">
                <a:solidFill>
                  <a:srgbClr val="292929"/>
                </a:solidFill>
                <a:latin typeface="Arial"/>
              </a:rPr>
              <a:t>It will be evaluated by ...</a:t>
            </a: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Project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2438280" y="3733920"/>
            <a:ext cx="56390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eminde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5T14:18:06Z</dcterms:created>
  <dc:creator>dgordon</dc:creator>
  <dc:description/>
  <dc:language>en-US</dc:language>
  <cp:lastModifiedBy>DIT</cp:lastModifiedBy>
  <dcterms:modified xsi:type="dcterms:W3CDTF">2012-11-21T19:20:24Z</dcterms:modified>
  <cp:revision>77</cp:revision>
  <dc:subject/>
  <dc:title>Slide 1</dc:title>
</cp:coreProperties>
</file>