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818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EC54-CFDD-4508-9042-A6709330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0C4E-1DD8-4AB2-B447-5C8073E4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7184-F5F7-4183-9E2C-5824F8F9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1A4-B6B3-4FBC-8CF5-8A3739AB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0B0E-7197-4E7A-A5A7-7245A59C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8ACE-6CFE-42C1-872B-9EADD763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0B61-E1A8-4BE0-BC9E-59E04FC5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E036-4AEA-4BA1-990A-54680FC9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05D4-AC6C-4C83-93C6-0CAAC82A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BAB4-8E91-4ABE-A824-733EB307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0C2A-4ABE-46DE-B7FA-C8746820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9F3-9A4D-4CEE-AAB4-B93E7FA3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3E5F-984E-4891-85D8-19E9081F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0D55-C65B-481B-8916-427507E0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8822-BFBF-4241-80E7-6C851433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4172-973E-44BF-A9EA-B973CAD6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FD07-DEF1-402E-B005-093EA044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104B-FBBE-49EA-AC35-70647B40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96D3-2484-414D-9B1A-AF8D2FF8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8AFD-8527-439F-929F-AEE3E2A4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9E49-0C0E-44FC-AF07-81CD28CB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3FC5-C8C9-4437-A702-D9B98272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1024-D6C0-46A2-92DA-36BC8286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1F47-2C33-40B2-8A1E-BDAA487A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FDDC-5F17-459F-8762-322C94FD256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BA22-310E-4337-B999-304241882C6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Four Men Crossing a Brid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Picture 3" descr="rope-bridge"/>
          <p:cNvPicPr/>
          <p:nvPr/>
        </p:nvPicPr>
        <p:blipFill>
          <a:blip r:embed="rId1"/>
          <a:stretch/>
        </p:blipFill>
        <p:spPr>
          <a:xfrm>
            <a:off x="2765520" y="2351160"/>
            <a:ext cx="38894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Four Men Crossing a Brid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67840" y="2411280"/>
            <a:ext cx="8588520" cy="34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66"/>
                </a:solidFill>
                <a:latin typeface="Arial"/>
              </a:rPr>
              <a:t>There are four men who would all like to cross a rickety old bridge. (Perhaps it is more accurate to say that they'd like to get to the other side)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3" descr="rope-bridge"/>
          <p:cNvPicPr/>
          <p:nvPr/>
        </p:nvPicPr>
        <p:blipFill>
          <a:blip r:embed="rId1"/>
          <a:stretch/>
        </p:blipFill>
        <p:spPr>
          <a:xfrm>
            <a:off x="7397640" y="98280"/>
            <a:ext cx="157644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Four Men Crossing a Brid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67840" y="2411280"/>
            <a:ext cx="8588520" cy="34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66"/>
                </a:solidFill>
                <a:latin typeface="Arial"/>
              </a:rPr>
              <a:t>The old bridge will only support 2 men at a time, and it is night time, so every crossing must use the one flashlight that they all share.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4" descr="rope-bridge"/>
          <p:cNvPicPr/>
          <p:nvPr/>
        </p:nvPicPr>
        <p:blipFill>
          <a:blip r:embed="rId1"/>
          <a:stretch/>
        </p:blipFill>
        <p:spPr>
          <a:xfrm>
            <a:off x="7397640" y="98280"/>
            <a:ext cx="157644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Four Men Crossing a Brid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67840" y="2411280"/>
            <a:ext cx="8588520" cy="34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The four men each have different walking speeds; the fastest each of them can cross i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:1 minute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:2 minute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:5 minutes, an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:10 minut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rope-bridge"/>
          <p:cNvPicPr/>
          <p:nvPr/>
        </p:nvPicPr>
        <p:blipFill>
          <a:blip r:embed="rId1"/>
          <a:stretch/>
        </p:blipFill>
        <p:spPr>
          <a:xfrm>
            <a:off x="7397640" y="98280"/>
            <a:ext cx="157644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Four Men Crossing a Brid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67840" y="2411280"/>
            <a:ext cx="8588520" cy="34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66"/>
                </a:solidFill>
                <a:latin typeface="Arial"/>
              </a:rPr>
              <a:t>If they pair up, since they must share the flashlight, they can only cross in the time that it would take the slower of the two.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4" descr="rope-bridge"/>
          <p:cNvPicPr/>
          <p:nvPr/>
        </p:nvPicPr>
        <p:blipFill>
          <a:blip r:embed="rId1"/>
          <a:stretch/>
        </p:blipFill>
        <p:spPr>
          <a:xfrm>
            <a:off x="7397640" y="98280"/>
            <a:ext cx="157644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Four Men Crossing a Brid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67840" y="2411280"/>
            <a:ext cx="8588520" cy="34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66"/>
                </a:solidFill>
                <a:latin typeface="Arial"/>
              </a:rPr>
              <a:t>Given that the shortest time to get them all across is 17 minutes total, how should they all cross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5" descr="rope-bridge"/>
          <p:cNvPicPr/>
          <p:nvPr/>
        </p:nvPicPr>
        <p:blipFill>
          <a:blip r:embed="rId1"/>
          <a:stretch/>
        </p:blipFill>
        <p:spPr>
          <a:xfrm>
            <a:off x="7397640" y="98280"/>
            <a:ext cx="157644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Four Men Crossing a Brid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3" descr="rope-bridge"/>
          <p:cNvPicPr/>
          <p:nvPr/>
        </p:nvPicPr>
        <p:blipFill>
          <a:blip r:embed="rId1"/>
          <a:stretch/>
        </p:blipFill>
        <p:spPr>
          <a:xfrm>
            <a:off x="2765520" y="2351160"/>
            <a:ext cx="3889440" cy="4336920"/>
          </a:xfrm>
          <a:prstGeom prst="rect">
            <a:avLst/>
          </a:prstGeom>
          <a:ln w="0">
            <a:noFill/>
          </a:ln>
        </p:spPr>
      </p:pic>
      <p:sp>
        <p:nvSpPr>
          <p:cNvPr id="114" name="Right Arrow 6"/>
          <p:cNvSpPr/>
          <p:nvPr/>
        </p:nvSpPr>
        <p:spPr>
          <a:xfrm rot="730200">
            <a:off x="3428640" y="2862000"/>
            <a:ext cx="2579760" cy="6206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ffff"/>
          </a:solidFill>
          <a:ln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ight Arrow 7"/>
          <p:cNvSpPr/>
          <p:nvPr/>
        </p:nvSpPr>
        <p:spPr>
          <a:xfrm rot="730200">
            <a:off x="3493800" y="4854240"/>
            <a:ext cx="2579760" cy="6206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ffff"/>
          </a:solidFill>
          <a:ln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ight Arrow 8"/>
          <p:cNvSpPr/>
          <p:nvPr/>
        </p:nvSpPr>
        <p:spPr>
          <a:xfrm rot="9994200">
            <a:off x="3439800" y="3863520"/>
            <a:ext cx="2579760" cy="6206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ffff"/>
          </a:solidFill>
          <a:ln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ight Arrow 9"/>
          <p:cNvSpPr/>
          <p:nvPr/>
        </p:nvSpPr>
        <p:spPr>
          <a:xfrm rot="9994200">
            <a:off x="3450960" y="5802120"/>
            <a:ext cx="2579760" cy="6206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ffff"/>
          </a:solidFill>
          <a:ln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0:44:19Z</dcterms:created>
  <dc:creator>Brian Mac Namee</dc:creator>
  <dc:description/>
  <dc:language>en-US</dc:language>
  <cp:lastModifiedBy>dgordon</cp:lastModifiedBy>
  <dcterms:modified xsi:type="dcterms:W3CDTF">2011-09-19T14:27:12Z</dcterms:modified>
  <cp:revision>79</cp:revision>
  <dc:subject/>
  <dc:title>Problem Solving, Communications &amp; Innovation</dc:title>
</cp:coreProperties>
</file>