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8D6-3183-46E8-9BA8-EFFCEB5C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1D64-8408-43AE-96B4-321F3B98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39AA-5913-47E7-B85E-04899193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F206-49B0-4173-9F20-5772FAD2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5916-28A9-4C25-ABD9-8C1E426CF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FDC0-C323-47E7-B38F-F7C6BF66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0287-F146-4D00-A534-74D7DD2E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D8A2-30B3-4AA2-BF32-6AEB38E5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ED9A-6639-4F78-8436-43F8165E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5338-903D-4E02-9C67-79750528A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D42F5-41E2-4014-A3FE-098F0A3A8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6480-7F4C-420A-9F19-481C3632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E536-62E8-4594-8E50-49218943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72B18-33EF-48CC-80D9-F6F88A29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C781-79BB-4BAE-9BF9-9FE90F1D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9AE8-FCCF-49CA-90BB-4E2EB0F0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1212-AD61-4215-91AF-890B20286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AF2-18A4-4067-A2D3-FD773504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C53-45D1-42C1-A6F9-55FD7883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7B15-568D-40F4-8A9A-EAC094B7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91D-8262-49AF-AC30-3B357D06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DA1-DFCC-4798-8218-C05E0E95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294-264E-49CC-AAB7-8352CC90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658-FD9D-4EBA-B6DB-442474644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FC0E-4553-4243-8077-21FF324D96E4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30C5-AA1B-44BA-8853-70961564229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1442520"/>
            <a:ext cx="7981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MindMap Guidelines (1 of 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Mind Map is open to free interpretation by each individual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tart in the centre with an image of the topic, using at least three colou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se images, symbols, codes and dimensions throughout the Mind Map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MindMap Guidelines (2 of 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lect key words and print using upper or lower case letters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ach word/image must be alone and sitting on its own lin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lines must be connected, starting from the central image. The central lines are thicker, organic and flowing, becoming thinner as they radiate out from the centre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MindMap Guidelines (3 of 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ke the lines the same length as the word/imag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colours – your own code – throughout the Mind Map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velop your own personal style of Mind Mapping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Use emphasis and show associations in your Mind Map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Keep the Mind Map clear by using Radiant hierarchy, numerical order or outlines to embrace your branches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47640" y="1906560"/>
            <a:ext cx="6048720" cy="47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Benefits of 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Just as the branches are all connected, so all the ideas are all related to each other, this gives MindMaps an additional depth that a simple list can never achieve. By working from the centre outwards, a MindMap encourages learner’s thoughts to grow outwards. Soon the learner’s ideas will expand and radiate creative thinking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Benefits of 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indMaps are an effective thinking tool because they work with the brain and encourage it to develop associations between ideas: each branch of the MindMap is associated with the previous branch. This is a visual map which complements how the brain works and can lead to significant result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12920" y="1844640"/>
            <a:ext cx="642780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Uses of 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rainstorm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roup think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ocumen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Note tak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MindMaps in Comp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quirements gather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usebox Architec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Development brainstorm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esting and debugg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ject manag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308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32000" y="1822320"/>
            <a:ext cx="6551640" cy="46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What is a Mind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MindMap is a visual form of note-making that can be done either individually or as part of a group. At its heart is a central image or idea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71640" y="4005360"/>
            <a:ext cx="6985080" cy="263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What is a Mind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 Mind Map is a powerful graphic technique which provides a universal key to unlock the potential of the brai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Mind Map can be applied to every aspect of life where improved learning and clearer thinking will enhance your productivity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6480360" cy="44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What is a Mind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t harnesses the full range of cortical skills – word, image, number, logic, rhythm, colour and spatial awareness – in a single, uniquely powerful manner. In so doing, it gives you the freedom to capture the infinite power and creativity of your brai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762200"/>
            <a:ext cx="811692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Creating a MindMa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subject of attention is crystallised in a central imag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main themes of the subject radiate from the central image on branch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ranches hold a key image / word printed on the associated line - details radiate ou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The branches form a connected nodal structure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5276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d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1738440"/>
            <a:ext cx="6762960" cy="478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3:42:37Z</dcterms:created>
  <dc:creator>Dept of Maths</dc:creator>
  <dc:description/>
  <dc:language>en-US</dc:language>
  <cp:lastModifiedBy>dgordon</cp:lastModifiedBy>
  <dcterms:modified xsi:type="dcterms:W3CDTF">2008-07-23T17:10:26Z</dcterms:modified>
  <cp:revision>19</cp:revision>
  <dc:subject/>
  <dc:title>Step 1. Decide on Question</dc:title>
</cp:coreProperties>
</file>