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C74-BA18-4096-9E70-4BCDFBA7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FEB-4F0F-472F-B772-13861F90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28A-CD73-4AE7-9266-F4EB3560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EDD-3B8E-4050-898F-1EEF4779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DD68-99F4-42A8-87C9-54099F3C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A2F7-8E37-44E8-AE2C-BCA17E9A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BE53-98F8-4ABC-A08B-AA9880E3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E2C9-7EE7-44B3-B8B5-3EE19DBE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6513-EC58-49A9-B731-244C68BF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5D56-94A2-48BC-947E-ADCE4702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6BBD-8DDB-4E2C-BC64-6CA2E7A4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8DB-05E8-49D9-879F-08C0A3E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2CA7-3BE2-40F3-AB3F-47D2EA5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6C77-7D78-41B4-974E-A0C0B18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B60A-AA43-42A7-9FF2-17AA53D2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FB0E-5E95-43AB-ACB9-43905D6E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046C-F629-443B-9556-AB826A9F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17A-692C-461D-B91D-ECC37035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0F7-AA49-4129-A73E-4CE64E08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EDD-7FC7-410D-83B4-E0CE6BD0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E9B-5EAF-4A0C-B8B3-6909E803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CC4-54C5-4F0C-842C-AC34CA67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BB7-2EE7-4302-8943-E6A83BEE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A96-3AAE-413C-8D5D-6C3F6A5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5CAF-6F6A-4968-B246-6517D56E9E3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AEA0-097D-4E26-85AE-63FA9473208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442520"/>
            <a:ext cx="7981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 Guidelines (1 of 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Mind Map is open to free interpretation by each individual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art in the centre with an image of the topic, using at least three colou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images, symbols, codes and dimensions throughout the Mind Map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 Guidelines (2 of 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lect key words and print using upper or lower case lett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ach word/image must be alone and sitting on its own lin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ines must be connected, starting from the central image. The central lines are thicker, organic and flowing, becoming thinner as they radiate out from the centr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 Guidelines (3 of 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ke the lines the same length as the word/imag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colours – your own code – throughout the Mind Map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velop your own personal style of Mind Mapping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emphasis and show associations in your Mind Map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eep the Mind Map clear by using Radiant hierarchy, numerical order or outlines to embrace your branch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7640" y="1906560"/>
            <a:ext cx="604872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Benefits of 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ust as the branches are all connected, so all the ideas are all related to each other, this gives MindMaps an additional depth that a simple list can never achieve. By working from the centre outwards, a MindMap encourages learner’s thoughts to grow outwards. Soon the learner’s ideas will expand and radiate creative thinkin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Benefits of 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indMaps are an effective thinking tool because they work with the brain and encourage it to develop associations between ideas: each branch of the MindMap is associated with the previous branch. This is a visual map which complements how the brain works and can lead to significant resul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12920" y="1844640"/>
            <a:ext cx="64278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Uses of 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oup thin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cumen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ote ta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s in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quirements gathe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sebox Architec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velopment brainstorm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sting and debug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ject manag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1822320"/>
            <a:ext cx="655164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at is a Mind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MindMap is a visual form of note-making that can be done either individually or as part of a group. At its heart is a central image or ide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4005360"/>
            <a:ext cx="6985080" cy="26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at is a Mind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Mind Map is a powerful graphic technique which provides a universal key to unlock the potential of the brai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Mind Map can be applied to every aspect of life where improved learning and clearer thinking will enhance your productivity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48036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at is a Mind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 harnesses the full range of cortical skills – word, image, number, logic, rhythm, colour and spatial awareness – in a single, uniquely powerful manner. In so doing, it gives you the freedom to capture the infinite power and creativity of your bra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762200"/>
            <a:ext cx="811692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reating a Mind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subject of attention is crystallised in a central ima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main themes of the subject radiate from the central image on branch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anches hold a key image / word printed on the associated line - details radiate ou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branches form a connected nodal structur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738440"/>
            <a:ext cx="6762960" cy="478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3:42:37Z</dcterms:created>
  <dc:creator>Dept of Maths</dc:creator>
  <dc:description/>
  <dc:language>en-US</dc:language>
  <cp:lastModifiedBy>dgordon</cp:lastModifiedBy>
  <dcterms:modified xsi:type="dcterms:W3CDTF">2008-07-23T17:10:26Z</dcterms:modified>
  <cp:revision>19</cp:revision>
  <dc:subject/>
  <dc:title>Step 1. Decide on Question</dc:title>
</cp:coreProperties>
</file>