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5E2-6EF5-4DF8-8040-EA33346D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27C-A1EC-4CF0-A143-9057319E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28C-3B34-4390-9E19-5F34BFD4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DAC-CC0F-4063-BBF6-ADA39263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0CD-1F53-49A6-88CF-3A4B9B23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6A85-C072-49AA-982F-828ED3FD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62E6-CA24-49E3-8C4E-1BC65E2C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C48A-09B3-467C-A533-69882C26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045E-CC9B-414E-93BD-0F4CB9A9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F195-714D-4115-AF6C-B561E4AB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C4A6-D92D-45FD-9B3F-53A9ACA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826-5781-4DDF-AF38-0CF31654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AEFA-386C-4034-9600-0D06B7F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B425-3877-48EA-BFDC-288C8E4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6B11-5C0D-4F74-83B1-E91F9485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A0C7-B5BC-4C37-9C14-25E890E0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85C6-E36D-4481-BBDE-3E954EB2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E01-5352-48B4-83ED-820401A5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A69-CDB8-40B3-8C45-5BB8BD5D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3AA-C0A8-448D-8CF4-A957E395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8AC-4007-4E5B-8584-A67E6343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BD5-990E-4B5F-9EDC-A60CB0D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AA9-7F4D-4B31-9B1D-A8A7B3E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45C-5EDB-42AC-A4D5-219369D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CFC4-47ED-401B-8C92-9F548833D05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C2F-0E7A-4E51-B71B-D57F331E0B7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442520"/>
            <a:ext cx="7981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oncepts from Random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61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5. Generate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500720" y="2133720"/>
            <a:ext cx="2376360" cy="10080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00720" y="3213000"/>
            <a:ext cx="2447640" cy="2872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860640"/>
            <a:ext cx="2305080" cy="36036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149720"/>
            <a:ext cx="2447640" cy="136692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060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93080" y="29005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00400" y="35733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8200" y="43131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1557360"/>
            <a:ext cx="1873080" cy="107964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5084640"/>
            <a:ext cx="1873080" cy="100836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393372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278136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5. Generate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00720" y="2133720"/>
            <a:ext cx="2376360" cy="10080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500720" y="3213000"/>
            <a:ext cx="2447640" cy="2872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860640"/>
            <a:ext cx="2305080" cy="36036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4149720"/>
            <a:ext cx="2447640" cy="136692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92720" y="2060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93080" y="29005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0400" y="35733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8200" y="43131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1557360"/>
            <a:ext cx="1873080" cy="107964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23600" y="1654200"/>
            <a:ext cx="17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A monthly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recognition dinner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with the CEO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5084640"/>
            <a:ext cx="1873080" cy="100836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93372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20000" y="278136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5. Generate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00720" y="2133720"/>
            <a:ext cx="2376360" cy="10080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00720" y="3213000"/>
            <a:ext cx="2447640" cy="2872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860640"/>
            <a:ext cx="2305080" cy="36036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4149720"/>
            <a:ext cx="2447640" cy="136692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2060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93080" y="29005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0400" y="35733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8200" y="43131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1557360"/>
            <a:ext cx="1873080" cy="107964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20000" y="278136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23600" y="1654200"/>
            <a:ext cx="17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A monthly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recognition dinner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with the CEO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23960" y="2824200"/>
            <a:ext cx="18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- Pop into employe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office with a priz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- Toast employe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5084640"/>
            <a:ext cx="1873080" cy="100836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393372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5. Generate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00720" y="2133720"/>
            <a:ext cx="2376360" cy="10080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500720" y="3213000"/>
            <a:ext cx="2447640" cy="2872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860640"/>
            <a:ext cx="2305080" cy="36036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4149720"/>
            <a:ext cx="2447640" cy="136692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2060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93080" y="29005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00400" y="35733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8200" y="43131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557360"/>
            <a:ext cx="1873080" cy="107964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20000" y="278136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393372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5084640"/>
            <a:ext cx="1873080" cy="100836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23600" y="1654200"/>
            <a:ext cx="17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A monthly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recognition dinner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with the CEO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3960" y="2824200"/>
            <a:ext cx="18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- Pop into employe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office with a priz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- Toast employe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24320" y="3971880"/>
            <a:ext cx="175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Arrange colleagu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to have a party and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thank employe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5. Generate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133720"/>
            <a:ext cx="2376360" cy="10080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500720" y="3213000"/>
            <a:ext cx="2447640" cy="2872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3860640"/>
            <a:ext cx="2305080" cy="36036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00720" y="4149720"/>
            <a:ext cx="2447640" cy="136692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2060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93080" y="29005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00400" y="35733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8200" y="43131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1557360"/>
            <a:ext cx="1873080" cy="107964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278136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393372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20000" y="5084640"/>
            <a:ext cx="1873080" cy="100836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3600" y="1654200"/>
            <a:ext cx="17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A monthly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recognition dinner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with the CEO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3960" y="2824200"/>
            <a:ext cx="18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- Pop into employe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office with a priz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- Toast employe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24320" y="3971880"/>
            <a:ext cx="175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Arrange colleagu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to have a party and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thank employe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68240" y="5267160"/>
            <a:ext cx="17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Provide free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292929"/>
                </a:solidFill>
                <a:latin typeface="Times New Roman"/>
              </a:rPr>
              <a:t>catering for a week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Over to you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00720" y="2133720"/>
            <a:ext cx="2376360" cy="10080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00720" y="3213000"/>
            <a:ext cx="2447640" cy="28728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3860640"/>
            <a:ext cx="2305080" cy="36036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00720" y="4149720"/>
            <a:ext cx="2447640" cy="136692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20000" y="1557360"/>
            <a:ext cx="1873080" cy="107964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20000" y="278136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20000" y="3933720"/>
            <a:ext cx="1873080" cy="100800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20000" y="5084640"/>
            <a:ext cx="1873080" cy="1008360"/>
          </a:xfrm>
          <a:prstGeom prst="rect">
            <a:avLst/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63640" y="5587920"/>
            <a:ext cx="237672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27280" y="4869000"/>
            <a:ext cx="504720" cy="358560"/>
          </a:xfrm>
          <a:prstGeom prst="up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69040" y="51577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RANDOM WORD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oncepts from Random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Select a random stimulus (object, word, picture) and use it to provoke new idea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3040" y="407664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8120" y="405144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394488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020000" y="4365720"/>
            <a:ext cx="174456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1. Decide on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1. Decide on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2. Pick a random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5587920"/>
            <a:ext cx="237672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4869000"/>
            <a:ext cx="504720" cy="358560"/>
          </a:xfrm>
          <a:prstGeom prst="up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9040" y="51577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RANDOM WORD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2. Pick a random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5587920"/>
            <a:ext cx="237672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0360" y="5803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4869000"/>
            <a:ext cx="504720" cy="358560"/>
          </a:xfrm>
          <a:prstGeom prst="up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69040" y="51577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RANDOM WORD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2040" y="144000"/>
            <a:ext cx="7743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3. Identify 4 related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5587920"/>
            <a:ext cx="237672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360" y="5803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4869000"/>
            <a:ext cx="504720" cy="358560"/>
          </a:xfrm>
          <a:prstGeom prst="up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69040" y="51577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RANDOM WORD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5300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3080" y="55897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8200" y="61405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00400" y="585144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66100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94828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23736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52464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4. Discard random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587920"/>
            <a:ext cx="237672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0360" y="5803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4869000"/>
            <a:ext cx="504720" cy="358560"/>
          </a:xfrm>
          <a:prstGeom prst="up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9040" y="51577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RANDOM WORD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763280" y="5084640"/>
            <a:ext cx="2016360" cy="1513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5013360"/>
            <a:ext cx="1295280" cy="15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5300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93080" y="55897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8200" y="61405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00400" y="585144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66100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94828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623736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52464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869000"/>
            <a:ext cx="35290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ep 4. Discard random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2637000"/>
            <a:ext cx="2374920" cy="2160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8560" y="2924280"/>
            <a:ext cx="17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New way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to recognis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employee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43600" y="206064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3011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3080" y="33004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toaster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8200" y="3851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chef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0400" y="356220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292929"/>
                </a:solidFill>
                <a:latin typeface="Times New Roman"/>
              </a:rPr>
              <a:t>Activity cent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37176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65904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94812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4235400"/>
            <a:ext cx="2521080" cy="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3:42:37Z</dcterms:created>
  <dc:creator>Dept of Maths</dc:creator>
  <dc:description/>
  <dc:language>en-US</dc:language>
  <cp:lastModifiedBy>dgordon</cp:lastModifiedBy>
  <dcterms:modified xsi:type="dcterms:W3CDTF">2008-07-23T10:39:42Z</dcterms:modified>
  <cp:revision>13</cp:revision>
  <dc:subject/>
  <dc:title>Step 1. Decide on Question</dc:title>
</cp:coreProperties>
</file>