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FC18-D988-4A13-BC5F-DCC614E0E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9F8C-3717-42A6-9F6A-F142D24EDA0E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4D05-CDB8-4B7A-8AC8-5626E2E17354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B9F8-083F-4224-972C-A85CB942BEAA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1EB9-FD77-4E58-9CC1-DB3828A41F83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7158-1B72-440A-8B45-8024A56A0160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C156-1E70-4D5B-9E0E-63C0940E60F7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EF26-64B4-4BBF-AF1E-CB8CBE50BCC9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7206-09D7-4C26-B845-7C8560B357A3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A418-0F54-4E27-AFC3-83DB16C9AD21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145E-BBF8-457B-8AD7-9667CB72774B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7019-89FE-406F-8441-26B9C01E5930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0D21-20AB-48DA-BF2C-5B6B58987D30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B814-9C28-4084-9ED6-1FED3205D48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9FF-8371-4303-9925-92112E632BF3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2CF3-AE8D-47DC-85FC-D978D6052760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4354-AD1D-4A7B-A65E-A382A465D6CB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B0FA-942E-4AD0-A7BD-0D3BB0EB62F4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DBE6-FB12-4A74-821B-5558CB49BB02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D483-6035-4DDC-9313-0EDAF731EC56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C275-3ECB-455F-B36F-BCC45BD26238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DA9D-BB15-4B43-A5CF-B5D4B7FAED8F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250A-A9EA-46C3-894C-E3AFD9C2AE8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8893-2BB8-43CA-870C-51FF9A9F15E3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E373-DD6B-4022-86BB-C6B5BDD5EB8C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6EC4-DF35-4835-8BA1-A14110F27C6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B46C-7A11-4D66-A44F-F4606943E6F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4036-6320-480B-ADE1-1F33738E290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7E0F-A3B6-4015-A427-C7F7432878D2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F438-6ECD-4E6C-9A6F-4DE2063E4D86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7E90-05C7-4BCD-AC9D-383F1E78496F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0CD8-DE15-4FA2-BC39-30F57E85B38E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92BD-1C86-492B-903D-B9F8404ED473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AE7A-0A38-49EE-A86C-748093095D65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91FA-BAC7-4899-8A46-C7E8B5E835B6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6EC1-2587-459B-AC1B-F68D4750EAA8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2D27-C939-4E0A-A6BA-C7CA1FF709AB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BEB1-A4BD-4968-9E8C-3DB0D728BF0A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B39B-AFE2-4862-A818-35D02B24ED7B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2948-7CC4-494D-9F06-6C5A78373424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A6FD-AD3D-42CD-978F-28E194AA05D3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6A4-92C0-4D56-A52E-490140D148C1}" type="slidenum"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C39-A356-4971-AF60-D76303B2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770-8FF9-4836-AB24-18B196F2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8AF-3993-4206-96C3-3E0B19AE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B94-4A15-4D5E-A87D-95E16948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B00E-1944-4583-9F45-E16274B9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026A-31BA-495E-9B7E-6817C6D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415A-2BAA-4FD3-AC72-E92163B2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7A6B-A0B2-44BD-B77F-36A1B7E0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9658-A18C-46FE-9555-BE69D90F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C81D-AA03-4675-AB22-7AC28B28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6BC5-996D-4C40-A4CB-2EFE25F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8A0-1251-4D55-9BA8-42249EF1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BFAD-5ACB-41B9-BB7B-10E022D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A6E3-87F9-4CC9-B882-E53C6BB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43FF-4F44-4975-9635-7DB9F958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C8AA-F924-49C3-85BC-6C5AC17D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B174-2946-4903-8710-6254B2B0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D22-6DC5-4FCE-AF06-02361A6D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EF9-ECC1-4A30-B257-43B9E896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0AC-88CF-4AD9-9142-FE79E870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4D9-A576-4867-8EF3-3FB95C95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FB3-80BA-490E-BDCC-1F78AEA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D6B-8B34-416C-A864-7EC2A59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3B2-D6D4-416B-832A-A056D585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3D6D-4E75-4B06-8560-6DAE5AA716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2" name="Line 13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8E76-91B2-4F53-B075-A1A12C51227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moonstonebooks.proboards67.com/index.cgi?board=buckaroo&amp;action=display&amp;thread=228&amp;page=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63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How to Think like Leonard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Picture 3" descr="MonaLisaxxx"/>
          <p:cNvPicPr/>
          <p:nvPr/>
        </p:nvPicPr>
        <p:blipFill>
          <a:blip r:embed="rId1"/>
          <a:stretch/>
        </p:blipFill>
        <p:spPr>
          <a:xfrm>
            <a:off x="2276640" y="-27000"/>
            <a:ext cx="4527360" cy="6885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-73080" y="0"/>
            <a:ext cx="24130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804000" y="0"/>
            <a:ext cx="241308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3" descr="monalisa_cp"/>
          <p:cNvPicPr/>
          <p:nvPr/>
        </p:nvPicPr>
        <p:blipFill>
          <a:blip r:embed="rId1"/>
          <a:stretch/>
        </p:blipFill>
        <p:spPr>
          <a:xfrm>
            <a:off x="230508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-73080" y="0"/>
            <a:ext cx="2484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732720" y="0"/>
            <a:ext cx="248436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4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mona_CA1"/>
          <p:cNvPicPr/>
          <p:nvPr/>
        </p:nvPicPr>
        <p:blipFill>
          <a:blip r:embed="rId1"/>
          <a:stretch/>
        </p:blipFill>
        <p:spPr>
          <a:xfrm>
            <a:off x="2050920" y="-100080"/>
            <a:ext cx="4897440" cy="7129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1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Picture 4" descr="Mona_Lisad"/>
          <p:cNvPicPr/>
          <p:nvPr/>
        </p:nvPicPr>
        <p:blipFill>
          <a:blip r:embed="rId1"/>
          <a:stretch/>
        </p:blipFill>
        <p:spPr>
          <a:xfrm>
            <a:off x="2195640" y="-100080"/>
            <a:ext cx="4498920" cy="7129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-73080" y="0"/>
            <a:ext cx="23414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6588000" y="0"/>
            <a:ext cx="262908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9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3" name="Picture 3" descr="MonaLisaxcc"/>
          <p:cNvPicPr/>
          <p:nvPr/>
        </p:nvPicPr>
        <p:blipFill>
          <a:blip r:embed="rId1"/>
          <a:stretch/>
        </p:blipFill>
        <p:spPr>
          <a:xfrm>
            <a:off x="2257560" y="-27000"/>
            <a:ext cx="4475160" cy="6885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-73080" y="0"/>
            <a:ext cx="23414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6732720" y="0"/>
            <a:ext cx="248436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7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6" descr="Walters_Gallery"/>
          <p:cNvPicPr/>
          <p:nvPr/>
        </p:nvPicPr>
        <p:blipFill>
          <a:blip r:embed="rId1"/>
          <a:stretch/>
        </p:blipFill>
        <p:spPr>
          <a:xfrm>
            <a:off x="1547640" y="-458640"/>
            <a:ext cx="5761080" cy="7316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>
            <a:off x="-64944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719928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5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Picture 3" descr="monalisa"/>
          <p:cNvPicPr/>
          <p:nvPr/>
        </p:nvPicPr>
        <p:blipFill>
          <a:blip r:embed="rId1"/>
          <a:stretch/>
        </p:blipFill>
        <p:spPr>
          <a:xfrm>
            <a:off x="2268360" y="-27000"/>
            <a:ext cx="461196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-73080" y="0"/>
            <a:ext cx="24130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6877080" y="0"/>
            <a:ext cx="234000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hen do you have your best idea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Resting in b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Walking in the outdoo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Listening to mus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While driv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n the bath/show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How many people say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at work</a:t>
            </a: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” 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development of the balance between science and art, logic and imagination.  “Whole brain” thinkin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te/Scienza: Self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 like detai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almost always on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skilled at mathematic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rely on log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organis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like lis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highly imagina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am good at brainstorm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often say or do the unexpec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love to dood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rely on intui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 often lose track of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left_right_brain"/>
          <p:cNvPicPr/>
          <p:nvPr/>
        </p:nvPicPr>
        <p:blipFill>
          <a:blip r:embed="rId1"/>
          <a:stretch/>
        </p:blipFill>
        <p:spPr>
          <a:xfrm>
            <a:off x="1547640" y="1654200"/>
            <a:ext cx="576108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F_70_brain1_f"/>
          <p:cNvPicPr/>
          <p:nvPr/>
        </p:nvPicPr>
        <p:blipFill>
          <a:blip r:embed="rId1"/>
          <a:stretch/>
        </p:blipFill>
        <p:spPr>
          <a:xfrm>
            <a:off x="1471680" y="1643040"/>
            <a:ext cx="64134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terally “Going up in Smoke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willingness to embrace ambiguity, paradox, and uncertaint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611280" y="2708280"/>
            <a:ext cx="8208720" cy="201600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Town_Plan_of_Imola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8"/>
          <p:cNvGrpSpPr/>
          <p:nvPr/>
        </p:nvGrpSpPr>
        <p:grpSpPr>
          <a:xfrm>
            <a:off x="0" y="27000"/>
            <a:ext cx="9053640" cy="6813000"/>
            <a:chOff x="0" y="27000"/>
            <a:chExt cx="9053640" cy="6813000"/>
          </a:xfrm>
        </p:grpSpPr>
        <p:pic>
          <p:nvPicPr>
            <p:cNvPr id="191" name="Picture 5" descr="1226391"/>
            <p:cNvPicPr/>
            <p:nvPr/>
          </p:nvPicPr>
          <p:blipFill>
            <a:blip r:embed="rId1"/>
            <a:stretch/>
          </p:blipFill>
          <p:spPr>
            <a:xfrm>
              <a:off x="4500720" y="3330360"/>
              <a:ext cx="4525920" cy="343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7" descr="1226394"/>
            <p:cNvPicPr/>
            <p:nvPr/>
          </p:nvPicPr>
          <p:blipFill>
            <a:blip r:embed="rId2"/>
            <a:stretch/>
          </p:blipFill>
          <p:spPr>
            <a:xfrm>
              <a:off x="108000" y="3376440"/>
              <a:ext cx="4440240" cy="33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1" descr="page2full"/>
            <p:cNvPicPr/>
            <p:nvPr/>
          </p:nvPicPr>
          <p:blipFill>
            <a:blip r:embed="rId3"/>
            <a:stretch/>
          </p:blipFill>
          <p:spPr>
            <a:xfrm>
              <a:off x="2411280" y="215640"/>
              <a:ext cx="2232000" cy="33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8" descr="as"/>
            <p:cNvPicPr/>
            <p:nvPr/>
          </p:nvPicPr>
          <p:blipFill>
            <a:blip r:embed="rId4"/>
            <a:stretch/>
          </p:blipFill>
          <p:spPr>
            <a:xfrm>
              <a:off x="34920" y="215640"/>
              <a:ext cx="2467080" cy="33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2" descr="fred"/>
            <p:cNvPicPr/>
            <p:nvPr/>
          </p:nvPicPr>
          <p:blipFill>
            <a:blip r:embed="rId5"/>
            <a:stretch/>
          </p:blipFill>
          <p:spPr>
            <a:xfrm rot="10800000">
              <a:off x="4444920" y="169200"/>
              <a:ext cx="4608720" cy="34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13"/>
            <p:cNvSpPr/>
            <p:nvPr/>
          </p:nvSpPr>
          <p:spPr>
            <a:xfrm>
              <a:off x="0" y="3455640"/>
              <a:ext cx="9036000" cy="144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0" y="97920"/>
              <a:ext cx="179280" cy="6742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>
              <a:off x="2340000" y="70920"/>
              <a:ext cx="179280" cy="6742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>
              <a:off x="4427640" y="97920"/>
              <a:ext cx="179280" cy="6742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0" name="Rectangle 17"/>
            <p:cNvSpPr/>
            <p:nvPr/>
          </p:nvSpPr>
          <p:spPr>
            <a:xfrm>
              <a:off x="6697800" y="27000"/>
              <a:ext cx="179280" cy="6741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2" name="Picture 13" descr="LeonardoDaVinciPenAndInk.jpg"/>
          <p:cNvPicPr/>
          <p:nvPr/>
        </p:nvPicPr>
        <p:blipFill>
          <a:blip r:embed="rId1"/>
          <a:stretch/>
        </p:blipFill>
        <p:spPr>
          <a:xfrm>
            <a:off x="1332000" y="1684440"/>
            <a:ext cx="6748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Picture 13" descr="LeonardoDaVinciPenAndInk.jpg"/>
          <p:cNvPicPr/>
          <p:nvPr/>
        </p:nvPicPr>
        <p:blipFill>
          <a:blip r:embed="rId1"/>
          <a:stretch/>
        </p:blipFill>
        <p:spPr>
          <a:xfrm>
            <a:off x="1332000" y="1684440"/>
            <a:ext cx="6748200" cy="311292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5"/>
          <p:cNvSpPr/>
          <p:nvPr/>
        </p:nvSpPr>
        <p:spPr>
          <a:xfrm>
            <a:off x="5148360" y="1700280"/>
            <a:ext cx="0" cy="2592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1332000" y="4292640"/>
            <a:ext cx="2303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Straight Connector 10"/>
          <p:cNvSpPr/>
          <p:nvPr/>
        </p:nvSpPr>
        <p:spPr>
          <a:xfrm>
            <a:off x="3635280" y="4292640"/>
            <a:ext cx="2305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Straight Connector 14"/>
          <p:cNvSpPr/>
          <p:nvPr/>
        </p:nvSpPr>
        <p:spPr>
          <a:xfrm>
            <a:off x="2627280" y="1700280"/>
            <a:ext cx="0" cy="2592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7308720" y="1700280"/>
            <a:ext cx="0" cy="2305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Straight Connector 16"/>
          <p:cNvSpPr/>
          <p:nvPr/>
        </p:nvSpPr>
        <p:spPr>
          <a:xfrm>
            <a:off x="5958000" y="4005360"/>
            <a:ext cx="2089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2" name="Picture 9" descr="cornell-layout.jpg"/>
          <p:cNvPicPr/>
          <p:nvPr/>
        </p:nvPicPr>
        <p:blipFill>
          <a:blip r:embed="rId1"/>
          <a:stretch/>
        </p:blipFill>
        <p:spPr>
          <a:xfrm>
            <a:off x="1187280" y="1276200"/>
            <a:ext cx="3333960" cy="4305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sample-cornellnotes-thumb.jpg"/>
          <p:cNvPicPr/>
          <p:nvPr/>
        </p:nvPicPr>
        <p:blipFill>
          <a:blip r:embed="rId2"/>
          <a:stretch/>
        </p:blipFill>
        <p:spPr>
          <a:xfrm>
            <a:off x="5076720" y="1268280"/>
            <a:ext cx="3087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leonardo"/>
          <p:cNvPicPr/>
          <p:nvPr/>
        </p:nvPicPr>
        <p:blipFill>
          <a:blip r:embed="rId1"/>
          <a:stretch/>
        </p:blipFill>
        <p:spPr>
          <a:xfrm>
            <a:off x="1857240" y="-27000"/>
            <a:ext cx="4875480" cy="6885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4"/>
          <p:cNvSpPr/>
          <p:nvPr/>
        </p:nvSpPr>
        <p:spPr>
          <a:xfrm>
            <a:off x="6659640" y="0"/>
            <a:ext cx="2520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0" y="0"/>
            <a:ext cx="197964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how-to-think-like-leonardo-da-vinci-Medium"/>
          <p:cNvPicPr/>
          <p:nvPr/>
        </p:nvPicPr>
        <p:blipFill>
          <a:blip r:embed="rId1"/>
          <a:stretch/>
        </p:blipFill>
        <p:spPr>
          <a:xfrm>
            <a:off x="250920" y="1631880"/>
            <a:ext cx="86454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memory"/>
          <p:cNvPicPr/>
          <p:nvPr/>
        </p:nvPicPr>
        <p:blipFill>
          <a:blip r:embed="rId1"/>
          <a:stretch/>
        </p:blipFill>
        <p:spPr>
          <a:xfrm>
            <a:off x="14400" y="1593720"/>
            <a:ext cx="9115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LDT101_2004i"/>
          <p:cNvPicPr/>
          <p:nvPr/>
        </p:nvPicPr>
        <p:blipFill>
          <a:blip r:embed="rId1"/>
          <a:stretch/>
        </p:blipFill>
        <p:spPr>
          <a:xfrm>
            <a:off x="1116000" y="1592280"/>
            <a:ext cx="6985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IaGo_J001ArtdepMind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: Sel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comfortable with ambigu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attuned to my intui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thrive on chan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see humour in lif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seem to “jump to conclusions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enjoy riddles, puzzles and pu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usually know when I am feeling anxiou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delight in paradox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think conflict can help creativ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e/Sci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Make a mindmap about your jo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cultivation of grace, ambidexterity, fitness, and pois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611280" y="2421000"/>
            <a:ext cx="8208720" cy="201600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: Sel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aerobically 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getting strong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My flexibility is improv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know when I am ten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knowledgeable about di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Friends describe me as gracefu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aware of the way my attitude can affect my physical st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love to mo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Aerobic exerc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Do something you enjo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Walking, running, dancing, swimm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Strength trai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Find a coa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Flexibility exerc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Stretching exercis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Study anat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Read a book on anatom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ake a walk and see ho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Your head sits on your ne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How your arms hang from your should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How your hips bend and sw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8" name="Picture 4" descr="ga"/>
          <p:cNvPicPr/>
          <p:nvPr/>
        </p:nvPicPr>
        <p:blipFill>
          <a:blip r:embed="rId1"/>
          <a:stretch/>
        </p:blipFill>
        <p:spPr>
          <a:xfrm>
            <a:off x="6877080" y="44280"/>
            <a:ext cx="22194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74167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he Alexander Techniqu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echnique of body reeducation and coordination, accomplished through physical and psychological principles. The technique focuses on the self-perception of movement and has applications in alleviating back pain, promoting rehabilitation after accidents, improving breathing, playing musical instruments or singing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1" name="Picture 5" descr="POSTURE"/>
          <p:cNvPicPr/>
          <p:nvPr/>
        </p:nvPicPr>
        <p:blipFill>
          <a:blip r:embed="rId1"/>
          <a:stretch/>
        </p:blipFill>
        <p:spPr>
          <a:xfrm>
            <a:off x="7464600" y="1916280"/>
            <a:ext cx="1500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292929"/>
                </a:solidFill>
                <a:latin typeface="Arial"/>
              </a:rPr>
              <a:t>Cultivate Ambidexter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Cross your arms and legs in the opposite to the normal way you do 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Use your non-dominant hand to turn on lights, brush your teeth, etc. record the feel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ry writing with your non-dominant han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ry drawing with both hands simultaneousl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Experiment with mirror writ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pora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292929"/>
                </a:solidFill>
                <a:latin typeface="Arial"/>
              </a:rPr>
              <a:t>Cultivate Ambidexter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Learn to jugg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6" name="Picture 4" descr="3-ball_cascade_movie"/>
          <p:cNvPicPr/>
          <p:nvPr/>
        </p:nvPicPr>
        <p:blipFill>
          <a:blip r:embed="rId1"/>
          <a:stretch/>
        </p:blipFill>
        <p:spPr>
          <a:xfrm>
            <a:off x="2717640" y="2944800"/>
            <a:ext cx="35546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Are there paradoxes at the heart of any of the questions you have listed for yourself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hat music do you think best expresses ambiguit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Draw some abstract art in your noteboo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recognition of and appreciation for the interconnectedness of all things and phenomena, system thinkin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72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: Self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am ecologically awa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enjoy similes, metaphors and analogu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make connections that others don’t s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When I travel, I am struck by people’s similarities than their differen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seek a holistic approach to diet, health, and heal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see things as patterns, systems, and networ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My life goals are clearly formulat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 feel a sense of connectedness with natu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at does wholeness mean to you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hat does disconnection mean to you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hat different parts make up your character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Does you experience conflicts between your different part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E.g. Does your head, heart and body ever disagr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an you think of a relationship between frogs and the interne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an you think of a relationship between frogs and the interne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Suggestion: Frogs have WEBbed feet and the internet runs the World-Wide WEB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igin-all Thin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Think about the origins of your mobile ph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What are the technical, social, economics forces that led to it’s creation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Political, economic, social, technical, legal, environment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What about your walle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A boo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Your cloth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4"/>
          <p:cNvSpPr/>
          <p:nvPr/>
        </p:nvSpPr>
        <p:spPr>
          <a:xfrm>
            <a:off x="684360" y="2708280"/>
            <a:ext cx="8280360" cy="2665440"/>
          </a:xfrm>
          <a:prstGeom prst="foldedCorner">
            <a:avLst>
              <a:gd name="adj" fmla="val 12500"/>
            </a:avLst>
          </a:prstGeom>
          <a:solidFill>
            <a:srgbClr val="ccffcc">
              <a:alpha val="99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igin-all Thin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Nice example found online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I developed a talent for understanding 'things'. Let me use an example: I look at a 'C' cell battery. I plug in my education and 'talent' and 'see' it's nature - the zinc, the chemical excitement enclosed, the utilitarian design, the appreciation of social structures arriving upon a uniform shape, the marketing use of the bunny, the need for advanced power sources, the triumph of the human mind coupled with opposable thumbs!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moonstonebooks.proboards67.com/index.cgi?board=buckaroo&amp;action=display&amp;thread=228&amp;page=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imeline of your lif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reate a time line of your lif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Highlight the key ev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ither personally or globall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67" name="Group 42"/>
          <p:cNvGrpSpPr/>
          <p:nvPr/>
        </p:nvGrpSpPr>
        <p:grpSpPr>
          <a:xfrm>
            <a:off x="539640" y="5014800"/>
            <a:ext cx="8425080" cy="1582920"/>
            <a:chOff x="539640" y="5014800"/>
            <a:chExt cx="8425080" cy="1582920"/>
          </a:xfrm>
        </p:grpSpPr>
        <p:sp>
          <p:nvSpPr>
            <p:cNvPr id="268" name="AutoShape 5"/>
            <p:cNvSpPr/>
            <p:nvPr/>
          </p:nvSpPr>
          <p:spPr>
            <a:xfrm>
              <a:off x="539640" y="5014800"/>
              <a:ext cx="8136000" cy="576360"/>
            </a:xfrm>
            <a:prstGeom prst="roundRect">
              <a:avLst>
                <a:gd name="adj" fmla="val 16667"/>
              </a:avLst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1762200" y="51591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3778200" y="5159160"/>
              <a:ext cx="28908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5796000" y="51591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 flipV="1">
              <a:off x="1908000" y="5446440"/>
              <a:ext cx="0" cy="14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 flipV="1">
              <a:off x="1908000" y="5589360"/>
              <a:ext cx="0" cy="144720"/>
            </a:xfrm>
            <a:prstGeom prst="line">
              <a:avLst/>
            </a:prstGeom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4" name="Oval 18"/>
            <p:cNvSpPr/>
            <p:nvPr/>
          </p:nvSpPr>
          <p:spPr>
            <a:xfrm>
              <a:off x="7738920" y="5159160"/>
              <a:ext cx="28908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V="1">
              <a:off x="3924360" y="5446440"/>
              <a:ext cx="0" cy="14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6" name="Line 24"/>
            <p:cNvSpPr/>
            <p:nvPr/>
          </p:nvSpPr>
          <p:spPr>
            <a:xfrm flipV="1">
              <a:off x="3924360" y="5589360"/>
              <a:ext cx="0" cy="144720"/>
            </a:xfrm>
            <a:prstGeom prst="line">
              <a:avLst/>
            </a:prstGeom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7" name="Line 25"/>
            <p:cNvSpPr/>
            <p:nvPr/>
          </p:nvSpPr>
          <p:spPr>
            <a:xfrm flipV="1">
              <a:off x="5940360" y="5446440"/>
              <a:ext cx="0" cy="14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8" name="Line 26"/>
            <p:cNvSpPr/>
            <p:nvPr/>
          </p:nvSpPr>
          <p:spPr>
            <a:xfrm flipV="1">
              <a:off x="5940360" y="5589360"/>
              <a:ext cx="0" cy="144720"/>
            </a:xfrm>
            <a:prstGeom prst="line">
              <a:avLst/>
            </a:prstGeom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V="1">
              <a:off x="7885080" y="5446440"/>
              <a:ext cx="0" cy="14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0" name="Line 28"/>
            <p:cNvSpPr/>
            <p:nvPr/>
          </p:nvSpPr>
          <p:spPr>
            <a:xfrm flipV="1">
              <a:off x="7885080" y="5589360"/>
              <a:ext cx="0" cy="144720"/>
            </a:xfrm>
            <a:prstGeom prst="line">
              <a:avLst/>
            </a:prstGeom>
            <a:ln w="7632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1" name="AutoShape 32"/>
            <p:cNvSpPr/>
            <p:nvPr/>
          </p:nvSpPr>
          <p:spPr>
            <a:xfrm>
              <a:off x="1301760" y="5734080"/>
              <a:ext cx="1225440" cy="718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2" name="AutoShape 39"/>
            <p:cNvSpPr/>
            <p:nvPr/>
          </p:nvSpPr>
          <p:spPr>
            <a:xfrm>
              <a:off x="3327480" y="5734080"/>
              <a:ext cx="1225440" cy="718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3" name="AutoShape 40"/>
            <p:cNvSpPr/>
            <p:nvPr/>
          </p:nvSpPr>
          <p:spPr>
            <a:xfrm>
              <a:off x="5334120" y="5734080"/>
              <a:ext cx="1225440" cy="718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4" name="AutoShape 41"/>
            <p:cNvSpPr/>
            <p:nvPr/>
          </p:nvSpPr>
          <p:spPr>
            <a:xfrm>
              <a:off x="7278840" y="5734080"/>
              <a:ext cx="1225440" cy="718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684360" y="5949720"/>
              <a:ext cx="828036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tting goals – the SMART wa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S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PECIF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ASUR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COUNTABI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R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ALISTIC AND RELEV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T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ME LI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763640" y="2276640"/>
            <a:ext cx="417672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tting goals – the SMART wa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S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PECIF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ASUR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COUNTABI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R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EALISTIC AND RELEV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92929"/>
                </a:solidFill>
                <a:latin typeface="Arial"/>
              </a:rPr>
              <a:t>T 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IME LI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List three situations in your life (past or present) where ambiguity reig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Waiting to hear about a college pl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onsidering leaving your job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onsidering proposing to your partn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Describe the feelings you have in these situations, how did it feel? If it had a shape, colour or taste what would it b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eve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uriosit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monstrazio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nsazio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fuma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rte/Scienz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rporali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nessio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3" name="Picture 4" descr="Leonardoself"/>
          <p:cNvPicPr/>
          <p:nvPr/>
        </p:nvPicPr>
        <p:blipFill>
          <a:blip r:embed="rId1"/>
          <a:stretch/>
        </p:blipFill>
        <p:spPr>
          <a:xfrm>
            <a:off x="4859280" y="1773360"/>
            <a:ext cx="2432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Count the number of times in a day you use absolute terms such as “totally”, “always”, “certainly”, “must”, “never”, and “absolutely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Consider how you close conversations, do you typically end conversations with either a statement or question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um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Meditate on the Mona Lis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It is so familiar that it is rarely se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92929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Focus on the Mona Lisa for a while, allow time for your analytical mind to be hushed and experience the paint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189000"/>
            <a:ext cx="889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3" descr="mona"/>
          <p:cNvPicPr/>
          <p:nvPr/>
        </p:nvPicPr>
        <p:blipFill>
          <a:blip r:embed="rId1"/>
          <a:stretch/>
        </p:blipFill>
        <p:spPr>
          <a:xfrm>
            <a:off x="2130480" y="-27000"/>
            <a:ext cx="4817880" cy="6885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-73080" y="0"/>
            <a:ext cx="226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948360" y="0"/>
            <a:ext cx="2268720" cy="688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1:07:24Z</dcterms:created>
  <dc:creator>John Musser</dc:creator>
  <dc:description/>
  <dc:language>en-US</dc:language>
  <cp:lastModifiedBy>dgordon</cp:lastModifiedBy>
  <dcterms:modified xsi:type="dcterms:W3CDTF">2011-05-11T11:38:53Z</dcterms:modified>
  <cp:revision>811</cp:revision>
  <dc:subject/>
  <dc:title>Software Project Management </dc:title>
</cp:coreProperties>
</file>