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EB02-D0EE-4E32-9562-9363353CB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EB8A-D17E-4E00-908F-41603581C4F8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CCD1-7A44-4748-9FBB-EC5639C5931B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2198-8508-4B52-82A1-E5DDF58BEA72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0B2C-8BA7-4244-96A8-6E8F03C0088F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C0C2-F1F6-4081-BF43-FA42A43DE16F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FCC6-3F66-4D11-9F15-6D874F814AB3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E97C-F570-4E44-BB6D-38D36BF68F24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C5D9-8C88-435B-997C-F2AC007D5284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9B70-641E-4230-BE39-F5BE9FB50BFE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AAAA-676D-44C7-B3E5-FAA167692948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E76B-52AE-4D5A-9893-4DCB6ECF50EC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5958-1583-4F84-87BC-C401818FBA4C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A3BA-B8FC-422C-9B2B-F0CFF2317315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A6DA-22CC-4E60-B379-1F68755D0399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7B78-BE4A-4B65-BF48-B062F723F4E2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F3A7-4BE8-4B84-8E7D-36E6BE9B9BFC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2B05-F9A3-4F2D-8AF9-8B1338201327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68EB-40D5-4CE4-BBA5-CF92029C1D03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BC78-45F7-4502-8DA2-E613E848DE10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C2AE-7EFE-4FF4-958E-676E179D8192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FADB-AC48-4DEE-92E6-3898D9A6A98D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4308-4C9D-455A-8333-46E97A05FF56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811A-EAA9-4B57-ABA1-3D2C341EFD75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E667-C4F1-4F44-8337-F18B4E662D10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4D5D-FDB3-49FB-BAD4-F174B61D84D5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DE97-5875-467B-96C9-8A2E1A1C5015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392D-9723-48FA-B740-589744C7D2EB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4236-E5B5-40A7-B439-FBC8B4261729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8A30-1D5B-44F0-A28A-11090F26F06C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E62B-EF90-49FF-A25E-7B25BF676E31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206C-BD61-4A39-BCEB-07E02CA4F16E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706E-6CC7-4421-8414-99CEC5244240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AC83-DC8C-4A9E-81BB-C4E133A2FF97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5AB0-E2B2-4439-9582-1D8319592EB2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7188-344F-4428-A741-F36F5EA55064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3B3C-6BAE-44A3-8C92-A70595647BB8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CE0D-5835-4675-A916-46E8758B0388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121B-D040-42C6-9C87-5B0DA5660884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B60D-6940-4AD7-AB8E-B65278AD0092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D0CC-1E74-4BA7-ABDB-5222E1252AC7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88FD-941F-4129-A111-B3547923B129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9AA-15A2-4E39-9F32-F10A5ED2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7C09-F7E5-42C8-BE7F-DA55A40F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EC37-2304-4A89-B0BA-E18F6768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CC3B-5BFF-4121-81F6-0898059B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A5AE-F420-4A1F-8E73-963A3946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6661-ABFD-411B-8700-DB1A6E0D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F57E-5B48-46C1-BA70-C0EC32EF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3126-8279-402C-AEFE-0D3C070F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5465-8788-451F-BC1D-8454EA85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000C-570F-40C6-818E-B6D163E9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ABA2-54E7-4823-BB50-230427E4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0AF8-3958-4B87-8323-C055A033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E849-436B-498D-8542-02965217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6923-6B71-4EFC-B4AE-BB6A102E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C7A6-41C7-4C02-A38C-F3ADE366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636D-70CC-4D63-849B-32F4D5BD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5E81-5B7F-458D-B104-EF444BA9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4E6-2D94-4DCF-B76E-49C2B033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5DBA-DD7B-4E6F-BA8B-CCE8B4C3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3D36-9DF6-4C97-B136-425892DB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FC9-5B8F-4DB2-9E55-607C382B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CC36-7E9F-481D-9A01-78F3E872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058C-04D2-45F3-BD38-3CA1DCE9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D7BE-5C22-484B-8B32-EB662A73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6D95-A2A3-4518-B774-20FAB234E8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Line 11"/>
          <p:cNvSpPr/>
          <p:nvPr/>
        </p:nvSpPr>
        <p:spPr>
          <a:xfrm>
            <a:off x="762120" y="1371600"/>
            <a:ext cx="761976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2" name="Line 13"/>
          <p:cNvSpPr/>
          <p:nvPr/>
        </p:nvSpPr>
        <p:spPr>
          <a:xfrm>
            <a:off x="762120" y="1371600"/>
            <a:ext cx="761976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1480-02DC-4E69-9299-B184EE85E89B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moonstonebooks.proboards67.com/index.cgi?board=buckaroo&amp;action=display&amp;thread=228&amp;page=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63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Arial"/>
              </a:rPr>
              <a:t>How to Think like Leonardo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2" name="Picture 3" descr="MonaLisaxxx"/>
          <p:cNvPicPr/>
          <p:nvPr/>
        </p:nvPicPr>
        <p:blipFill>
          <a:blip r:embed="rId1"/>
          <a:stretch/>
        </p:blipFill>
        <p:spPr>
          <a:xfrm>
            <a:off x="2276640" y="-27000"/>
            <a:ext cx="4527360" cy="6885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-73080" y="0"/>
            <a:ext cx="24130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6804000" y="0"/>
            <a:ext cx="241308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6" name="Picture 3" descr="mona"/>
          <p:cNvPicPr/>
          <p:nvPr/>
        </p:nvPicPr>
        <p:blipFill>
          <a:blip r:embed="rId1"/>
          <a:stretch/>
        </p:blipFill>
        <p:spPr>
          <a:xfrm>
            <a:off x="2130480" y="-27000"/>
            <a:ext cx="4817880" cy="6885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8"/>
          <p:cNvSpPr/>
          <p:nvPr/>
        </p:nvSpPr>
        <p:spPr>
          <a:xfrm>
            <a:off x="-73080" y="0"/>
            <a:ext cx="226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6948360" y="0"/>
            <a:ext cx="226872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0" name="Picture 3" descr="monalisa_cp"/>
          <p:cNvPicPr/>
          <p:nvPr/>
        </p:nvPicPr>
        <p:blipFill>
          <a:blip r:embed="rId1"/>
          <a:stretch/>
        </p:blipFill>
        <p:spPr>
          <a:xfrm>
            <a:off x="230508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-73080" y="0"/>
            <a:ext cx="24843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6732720" y="0"/>
            <a:ext cx="248436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4" name="Picture 3" descr="mona"/>
          <p:cNvPicPr/>
          <p:nvPr/>
        </p:nvPicPr>
        <p:blipFill>
          <a:blip r:embed="rId1"/>
          <a:stretch/>
        </p:blipFill>
        <p:spPr>
          <a:xfrm>
            <a:off x="2130480" y="-27000"/>
            <a:ext cx="4817880" cy="6885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-73080" y="0"/>
            <a:ext cx="226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6948360" y="0"/>
            <a:ext cx="226872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mona_CA1"/>
          <p:cNvPicPr/>
          <p:nvPr/>
        </p:nvPicPr>
        <p:blipFill>
          <a:blip r:embed="rId1"/>
          <a:stretch/>
        </p:blipFill>
        <p:spPr>
          <a:xfrm>
            <a:off x="2050920" y="-100080"/>
            <a:ext cx="4897440" cy="7129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-73080" y="0"/>
            <a:ext cx="226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6948360" y="0"/>
            <a:ext cx="226872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1" name="Picture 3" descr="mona"/>
          <p:cNvPicPr/>
          <p:nvPr/>
        </p:nvPicPr>
        <p:blipFill>
          <a:blip r:embed="rId1"/>
          <a:stretch/>
        </p:blipFill>
        <p:spPr>
          <a:xfrm>
            <a:off x="2130480" y="-27000"/>
            <a:ext cx="4817880" cy="6885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8"/>
          <p:cNvSpPr/>
          <p:nvPr/>
        </p:nvSpPr>
        <p:spPr>
          <a:xfrm>
            <a:off x="-73080" y="0"/>
            <a:ext cx="226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6948360" y="0"/>
            <a:ext cx="226872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5" name="Picture 4" descr="Mona_Lisad"/>
          <p:cNvPicPr/>
          <p:nvPr/>
        </p:nvPicPr>
        <p:blipFill>
          <a:blip r:embed="rId1"/>
          <a:stretch/>
        </p:blipFill>
        <p:spPr>
          <a:xfrm>
            <a:off x="2195640" y="-100080"/>
            <a:ext cx="4498920" cy="71294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0"/>
          <p:cNvSpPr/>
          <p:nvPr/>
        </p:nvSpPr>
        <p:spPr>
          <a:xfrm>
            <a:off x="-73080" y="0"/>
            <a:ext cx="23414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6588000" y="0"/>
            <a:ext cx="262908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9" name="Picture 3" descr="mona"/>
          <p:cNvPicPr/>
          <p:nvPr/>
        </p:nvPicPr>
        <p:blipFill>
          <a:blip r:embed="rId1"/>
          <a:stretch/>
        </p:blipFill>
        <p:spPr>
          <a:xfrm>
            <a:off x="2130480" y="-27000"/>
            <a:ext cx="4817880" cy="6885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8"/>
          <p:cNvSpPr/>
          <p:nvPr/>
        </p:nvSpPr>
        <p:spPr>
          <a:xfrm>
            <a:off x="-73080" y="0"/>
            <a:ext cx="226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6948360" y="0"/>
            <a:ext cx="226872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3" name="Picture 3" descr="MonaLisaxcc"/>
          <p:cNvPicPr/>
          <p:nvPr/>
        </p:nvPicPr>
        <p:blipFill>
          <a:blip r:embed="rId1"/>
          <a:stretch/>
        </p:blipFill>
        <p:spPr>
          <a:xfrm>
            <a:off x="2257560" y="-27000"/>
            <a:ext cx="4475160" cy="6885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9"/>
          <p:cNvSpPr/>
          <p:nvPr/>
        </p:nvSpPr>
        <p:spPr>
          <a:xfrm>
            <a:off x="-73080" y="0"/>
            <a:ext cx="23414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6732720" y="0"/>
            <a:ext cx="248436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7" name="Picture 3" descr="mona"/>
          <p:cNvPicPr/>
          <p:nvPr/>
        </p:nvPicPr>
        <p:blipFill>
          <a:blip r:embed="rId1"/>
          <a:stretch/>
        </p:blipFill>
        <p:spPr>
          <a:xfrm>
            <a:off x="2130480" y="-27000"/>
            <a:ext cx="4817880" cy="6885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8"/>
          <p:cNvSpPr/>
          <p:nvPr/>
        </p:nvSpPr>
        <p:spPr>
          <a:xfrm>
            <a:off x="-73080" y="0"/>
            <a:ext cx="226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6948360" y="0"/>
            <a:ext cx="226872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Sfum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1" name="Picture 6" descr="Walters_Gallery"/>
          <p:cNvPicPr/>
          <p:nvPr/>
        </p:nvPicPr>
        <p:blipFill>
          <a:blip r:embed="rId1"/>
          <a:stretch/>
        </p:blipFill>
        <p:spPr>
          <a:xfrm>
            <a:off x="1547640" y="-458640"/>
            <a:ext cx="5761080" cy="7316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9"/>
          <p:cNvSpPr/>
          <p:nvPr/>
        </p:nvSpPr>
        <p:spPr>
          <a:xfrm>
            <a:off x="-649440" y="0"/>
            <a:ext cx="226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7199280" y="0"/>
            <a:ext cx="226872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5" name="Picture 3" descr="mona"/>
          <p:cNvPicPr/>
          <p:nvPr/>
        </p:nvPicPr>
        <p:blipFill>
          <a:blip r:embed="rId1"/>
          <a:stretch/>
        </p:blipFill>
        <p:spPr>
          <a:xfrm>
            <a:off x="2130480" y="-27000"/>
            <a:ext cx="4817880" cy="6885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-73080" y="0"/>
            <a:ext cx="226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6948360" y="0"/>
            <a:ext cx="226872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9" name="Picture 3" descr="monalisa"/>
          <p:cNvPicPr/>
          <p:nvPr/>
        </p:nvPicPr>
        <p:blipFill>
          <a:blip r:embed="rId1"/>
          <a:stretch/>
        </p:blipFill>
        <p:spPr>
          <a:xfrm>
            <a:off x="2268360" y="-27000"/>
            <a:ext cx="4611960" cy="6885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9"/>
          <p:cNvSpPr/>
          <p:nvPr/>
        </p:nvSpPr>
        <p:spPr>
          <a:xfrm>
            <a:off x="-73080" y="0"/>
            <a:ext cx="24130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6877080" y="0"/>
            <a:ext cx="234000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3" name="Picture 3" descr="mona"/>
          <p:cNvPicPr/>
          <p:nvPr/>
        </p:nvPicPr>
        <p:blipFill>
          <a:blip r:embed="rId1"/>
          <a:stretch/>
        </p:blipFill>
        <p:spPr>
          <a:xfrm>
            <a:off x="2130480" y="-27000"/>
            <a:ext cx="4817880" cy="6885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-73080" y="0"/>
            <a:ext cx="226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948360" y="0"/>
            <a:ext cx="226872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fum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When do you have your best ideas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Resting in b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Walking in the outdoo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Listening to musi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While driv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n the bath/show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How many people say “</a:t>
            </a:r>
            <a:r>
              <a:rPr b="0" i="1" lang="en-IE" sz="2800" spc="-1" strike="noStrike">
                <a:solidFill>
                  <a:srgbClr val="292929"/>
                </a:solidFill>
                <a:latin typeface="Arial"/>
              </a:rPr>
              <a:t>at work</a:t>
            </a: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” 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Arte/Sci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e/Sci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development of the balance between science and art, logic and imagination.  “Whole brain” thinking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611280" y="2637000"/>
            <a:ext cx="8208720" cy="2016000"/>
          </a:xfrm>
          <a:prstGeom prst="roundRect">
            <a:avLst>
              <a:gd name="adj" fmla="val 16667"/>
            </a:avLst>
          </a:prstGeom>
          <a:noFill/>
          <a:ln w="190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te/Scienza: Self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 like detail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I am almost always on tim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I am skilled at mathematic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I rely on logi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I am organis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I like lis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I am highly imaginativ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I am good at brainstorm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I often say or do the unexpect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I love to dood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I rely on intui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I often lose track of tim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e/Sci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left_right_brain"/>
          <p:cNvPicPr/>
          <p:nvPr/>
        </p:nvPicPr>
        <p:blipFill>
          <a:blip r:embed="rId1"/>
          <a:stretch/>
        </p:blipFill>
        <p:spPr>
          <a:xfrm>
            <a:off x="1547640" y="1654200"/>
            <a:ext cx="576108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e/Sci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F_70_brain1_f"/>
          <p:cNvPicPr/>
          <p:nvPr/>
        </p:nvPicPr>
        <p:blipFill>
          <a:blip r:embed="rId1"/>
          <a:stretch/>
        </p:blipFill>
        <p:spPr>
          <a:xfrm>
            <a:off x="1471680" y="1643040"/>
            <a:ext cx="64134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fum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iterally “Going up in Smoke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willingness to embrace ambiguity, paradox, and uncertainty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611280" y="2708280"/>
            <a:ext cx="8208720" cy="2016000"/>
          </a:xfrm>
          <a:prstGeom prst="roundRect">
            <a:avLst>
              <a:gd name="adj" fmla="val 16667"/>
            </a:avLst>
          </a:prstGeom>
          <a:noFill/>
          <a:ln w="190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Town_Plan_of_Imola"/>
          <p:cNvPicPr/>
          <p:nvPr/>
        </p:nvPicPr>
        <p:blipFill>
          <a:blip r:embed="rId1"/>
          <a:stretch/>
        </p:blipFill>
        <p:spPr>
          <a:xfrm>
            <a:off x="34920" y="44280"/>
            <a:ext cx="910908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18"/>
          <p:cNvGrpSpPr/>
          <p:nvPr/>
        </p:nvGrpSpPr>
        <p:grpSpPr>
          <a:xfrm>
            <a:off x="0" y="27000"/>
            <a:ext cx="9053640" cy="6813000"/>
            <a:chOff x="0" y="27000"/>
            <a:chExt cx="9053640" cy="6813000"/>
          </a:xfrm>
        </p:grpSpPr>
        <p:pic>
          <p:nvPicPr>
            <p:cNvPr id="191" name="Picture 5" descr="1226391"/>
            <p:cNvPicPr/>
            <p:nvPr/>
          </p:nvPicPr>
          <p:blipFill>
            <a:blip r:embed="rId1"/>
            <a:stretch/>
          </p:blipFill>
          <p:spPr>
            <a:xfrm>
              <a:off x="4500720" y="3330360"/>
              <a:ext cx="4525920" cy="343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7" descr="1226394"/>
            <p:cNvPicPr/>
            <p:nvPr/>
          </p:nvPicPr>
          <p:blipFill>
            <a:blip r:embed="rId2"/>
            <a:stretch/>
          </p:blipFill>
          <p:spPr>
            <a:xfrm>
              <a:off x="108000" y="3376440"/>
              <a:ext cx="4440240" cy="33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11" descr="page2full"/>
            <p:cNvPicPr/>
            <p:nvPr/>
          </p:nvPicPr>
          <p:blipFill>
            <a:blip r:embed="rId3"/>
            <a:stretch/>
          </p:blipFill>
          <p:spPr>
            <a:xfrm>
              <a:off x="2411280" y="215640"/>
              <a:ext cx="2232000" cy="33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8" descr="as"/>
            <p:cNvPicPr/>
            <p:nvPr/>
          </p:nvPicPr>
          <p:blipFill>
            <a:blip r:embed="rId4"/>
            <a:stretch/>
          </p:blipFill>
          <p:spPr>
            <a:xfrm>
              <a:off x="34920" y="215640"/>
              <a:ext cx="2467080" cy="331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2" descr="fred"/>
            <p:cNvPicPr/>
            <p:nvPr/>
          </p:nvPicPr>
          <p:blipFill>
            <a:blip r:embed="rId5"/>
            <a:stretch/>
          </p:blipFill>
          <p:spPr>
            <a:xfrm rot="10800000">
              <a:off x="4444920" y="169200"/>
              <a:ext cx="4608720" cy="34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Rectangle 13"/>
            <p:cNvSpPr/>
            <p:nvPr/>
          </p:nvSpPr>
          <p:spPr>
            <a:xfrm>
              <a:off x="0" y="3455640"/>
              <a:ext cx="9036000" cy="144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97" name="Rectangle 14"/>
            <p:cNvSpPr/>
            <p:nvPr/>
          </p:nvSpPr>
          <p:spPr>
            <a:xfrm>
              <a:off x="0" y="97920"/>
              <a:ext cx="179280" cy="6742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98" name="Rectangle 15"/>
            <p:cNvSpPr/>
            <p:nvPr/>
          </p:nvSpPr>
          <p:spPr>
            <a:xfrm>
              <a:off x="2340000" y="70920"/>
              <a:ext cx="179280" cy="6742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99" name="Rectangle 16"/>
            <p:cNvSpPr/>
            <p:nvPr/>
          </p:nvSpPr>
          <p:spPr>
            <a:xfrm>
              <a:off x="4427640" y="97920"/>
              <a:ext cx="179280" cy="6742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00" name="Rectangle 17"/>
            <p:cNvSpPr/>
            <p:nvPr/>
          </p:nvSpPr>
          <p:spPr>
            <a:xfrm>
              <a:off x="6697800" y="27000"/>
              <a:ext cx="179280" cy="67417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66"/>
          </a:solidFill>
          <a:ln w="936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2" name="Picture 13" descr="LeonardoDaVinciPenAndInk.jpg"/>
          <p:cNvPicPr/>
          <p:nvPr/>
        </p:nvPicPr>
        <p:blipFill>
          <a:blip r:embed="rId1"/>
          <a:stretch/>
        </p:blipFill>
        <p:spPr>
          <a:xfrm>
            <a:off x="1332000" y="1684440"/>
            <a:ext cx="67482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66"/>
          </a:solidFill>
          <a:ln w="936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4" name="Picture 13" descr="LeonardoDaVinciPenAndInk.jpg"/>
          <p:cNvPicPr/>
          <p:nvPr/>
        </p:nvPicPr>
        <p:blipFill>
          <a:blip r:embed="rId1"/>
          <a:stretch/>
        </p:blipFill>
        <p:spPr>
          <a:xfrm>
            <a:off x="1332000" y="1684440"/>
            <a:ext cx="6748200" cy="3112920"/>
          </a:xfrm>
          <a:prstGeom prst="rect">
            <a:avLst/>
          </a:prstGeom>
          <a:ln w="0">
            <a:noFill/>
          </a:ln>
        </p:spPr>
      </p:pic>
      <p:sp>
        <p:nvSpPr>
          <p:cNvPr id="205" name="Straight Connector 5"/>
          <p:cNvSpPr/>
          <p:nvPr/>
        </p:nvSpPr>
        <p:spPr>
          <a:xfrm>
            <a:off x="5148360" y="1700280"/>
            <a:ext cx="0" cy="25923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Straight Connector 7"/>
          <p:cNvSpPr/>
          <p:nvPr/>
        </p:nvSpPr>
        <p:spPr>
          <a:xfrm>
            <a:off x="1332000" y="4292640"/>
            <a:ext cx="23032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Straight Connector 10"/>
          <p:cNvSpPr/>
          <p:nvPr/>
        </p:nvSpPr>
        <p:spPr>
          <a:xfrm>
            <a:off x="3635280" y="4292640"/>
            <a:ext cx="23050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Straight Connector 14"/>
          <p:cNvSpPr/>
          <p:nvPr/>
        </p:nvSpPr>
        <p:spPr>
          <a:xfrm>
            <a:off x="2627280" y="1700280"/>
            <a:ext cx="0" cy="25923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Straight Connector 15"/>
          <p:cNvSpPr/>
          <p:nvPr/>
        </p:nvSpPr>
        <p:spPr>
          <a:xfrm>
            <a:off x="7308720" y="1700280"/>
            <a:ext cx="0" cy="23050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Straight Connector 16"/>
          <p:cNvSpPr/>
          <p:nvPr/>
        </p:nvSpPr>
        <p:spPr>
          <a:xfrm>
            <a:off x="5958000" y="4005360"/>
            <a:ext cx="20890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66"/>
          </a:solidFill>
          <a:ln w="936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2" name="Picture 9" descr="cornell-layout.jpg"/>
          <p:cNvPicPr/>
          <p:nvPr/>
        </p:nvPicPr>
        <p:blipFill>
          <a:blip r:embed="rId1"/>
          <a:stretch/>
        </p:blipFill>
        <p:spPr>
          <a:xfrm>
            <a:off x="1187280" y="1276200"/>
            <a:ext cx="3333960" cy="4305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sample-cornellnotes-thumb.jpg"/>
          <p:cNvPicPr/>
          <p:nvPr/>
        </p:nvPicPr>
        <p:blipFill>
          <a:blip r:embed="rId2"/>
          <a:stretch/>
        </p:blipFill>
        <p:spPr>
          <a:xfrm>
            <a:off x="5076720" y="1268280"/>
            <a:ext cx="30877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leonardo"/>
          <p:cNvPicPr/>
          <p:nvPr/>
        </p:nvPicPr>
        <p:blipFill>
          <a:blip r:embed="rId1"/>
          <a:stretch/>
        </p:blipFill>
        <p:spPr>
          <a:xfrm>
            <a:off x="1857240" y="-27000"/>
            <a:ext cx="4875480" cy="68850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4"/>
          <p:cNvSpPr/>
          <p:nvPr/>
        </p:nvSpPr>
        <p:spPr>
          <a:xfrm>
            <a:off x="6659640" y="0"/>
            <a:ext cx="252072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0" y="0"/>
            <a:ext cx="197964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e/Sci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how-to-think-like-leonardo-da-vinci-Medium"/>
          <p:cNvPicPr/>
          <p:nvPr/>
        </p:nvPicPr>
        <p:blipFill>
          <a:blip r:embed="rId1"/>
          <a:stretch/>
        </p:blipFill>
        <p:spPr>
          <a:xfrm>
            <a:off x="250920" y="1631880"/>
            <a:ext cx="864540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e/Sci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memory"/>
          <p:cNvPicPr/>
          <p:nvPr/>
        </p:nvPicPr>
        <p:blipFill>
          <a:blip r:embed="rId1"/>
          <a:stretch/>
        </p:blipFill>
        <p:spPr>
          <a:xfrm>
            <a:off x="14400" y="1593720"/>
            <a:ext cx="91152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e/Sci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LDT101_2004i"/>
          <p:cNvPicPr/>
          <p:nvPr/>
        </p:nvPicPr>
        <p:blipFill>
          <a:blip r:embed="rId1"/>
          <a:stretch/>
        </p:blipFill>
        <p:spPr>
          <a:xfrm>
            <a:off x="1116000" y="1592280"/>
            <a:ext cx="698508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e/Sci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IaGo_J001ArtdepMind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fumato: Self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am comfortable with ambiguit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am attuned to my intuitio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thrive on chang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see humour in lif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seem to “jump to conclusions”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enjoy riddles, puzzles and pu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usually know when I am feeling anxiou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delight in paradox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think conflict can help creativit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e/Sci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Make a mindmap about your job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Corporal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poral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cultivation of grace, ambidexterity, fitness, and pois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611280" y="2421000"/>
            <a:ext cx="8208720" cy="2016000"/>
          </a:xfrm>
          <a:prstGeom prst="roundRect">
            <a:avLst>
              <a:gd name="adj" fmla="val 16667"/>
            </a:avLst>
          </a:prstGeom>
          <a:noFill/>
          <a:ln w="190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poralita: Self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am aerobically fi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am getting strong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My flexibility is improv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know when I am tens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am knowledgeable about die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Friends describe me as gracefu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am aware of the way my attitude can affect my physical sta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love to mov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poral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Aerobic exercis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Do something you enjo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Walking, running, dancing, swimm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Strength train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Find a coach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Flexibility exercis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Stretching exercis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poral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Study anatom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Read a book on anatom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Take a walk and see how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347840" indent="-457200"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Your head sits on your nec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347840" indent="-457200"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How your arms hang from your shoulde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347840" indent="-457200"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How your hips bend and sw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38" name="Picture 4" descr="ga"/>
          <p:cNvPicPr/>
          <p:nvPr/>
        </p:nvPicPr>
        <p:blipFill>
          <a:blip r:embed="rId1"/>
          <a:stretch/>
        </p:blipFill>
        <p:spPr>
          <a:xfrm>
            <a:off x="6877080" y="44280"/>
            <a:ext cx="22194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poral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741672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The Alexander Techniqu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echnique of body reeducation and coordination, accomplished through physical and psychological principles. The technique focuses on the self-perception of movement and has applications in alleviating back pain, promoting rehabilitation after accidents, improving breathing, playing musical instruments or singing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1" name="Picture 5" descr="POSTURE"/>
          <p:cNvPicPr/>
          <p:nvPr/>
        </p:nvPicPr>
        <p:blipFill>
          <a:blip r:embed="rId1"/>
          <a:stretch/>
        </p:blipFill>
        <p:spPr>
          <a:xfrm>
            <a:off x="7464600" y="1916280"/>
            <a:ext cx="1500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poral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292929"/>
                </a:solidFill>
                <a:latin typeface="Arial"/>
              </a:rPr>
              <a:t>Cultivate Ambidexterit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Cross your arms and legs in the opposite to the normal way you do i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Use your non-dominant hand to turn on lights, brush your teeth, etc. record the feel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Try writing with your non-dominant han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Try drawing with both hands simultaneousl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Experiment with mirror writ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poral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292929"/>
                </a:solidFill>
                <a:latin typeface="Arial"/>
              </a:rPr>
              <a:t>Cultivate Ambidexterit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Learn to jugg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6" name="Picture 4" descr="3-ball_cascade_movie"/>
          <p:cNvPicPr/>
          <p:nvPr/>
        </p:nvPicPr>
        <p:blipFill>
          <a:blip r:embed="rId1"/>
          <a:stretch/>
        </p:blipFill>
        <p:spPr>
          <a:xfrm>
            <a:off x="2717640" y="2944800"/>
            <a:ext cx="355464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Connes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fum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Are there paradoxes at the heart of any of the questions you have listed for yourself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What music do you think best expresses ambiguity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Draw some abstract art in your notebook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s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recognition of and appreciation for the interconnectedness of all things and phenomena, system thinking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611280" y="2637000"/>
            <a:ext cx="8208720" cy="2016000"/>
          </a:xfrm>
          <a:prstGeom prst="roundRect">
            <a:avLst>
              <a:gd name="adj" fmla="val 16667"/>
            </a:avLst>
          </a:prstGeom>
          <a:noFill/>
          <a:ln w="190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67232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ssione: Self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am ecologically awar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enjoy similes, metaphors and analogu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make connections that others don’t se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When I travel, I am struck by people’s similarities than their differen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seek a holistic approach to diet, health, and heal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see things as patterns, systems, and network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My life goals are clearly formulat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feel a sense of connectedness with natur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s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hat does wholeness mean to you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What does disconnection mean to you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What different parts make up your character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Does you experience conflicts between your different parts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E.g. Does your head, heart and body ever disagre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s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king connec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Can you think of a relationship between frogs and the internet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s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king connec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Can you think of a relationship between frogs and the internet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Suggestion: Frogs have WEBbed feet and the internet runs the World-Wide WEB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s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rigin-all Think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Think about the origins of your mobile pho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What are the technical, social, economics forces that led to it’s creation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292929"/>
                </a:solidFill>
                <a:latin typeface="Arial"/>
              </a:rPr>
              <a:t>Political, economic, social, technical, legal, environment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What about your wallet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A boo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Your cloth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AutoShape 4"/>
          <p:cNvSpPr/>
          <p:nvPr/>
        </p:nvSpPr>
        <p:spPr>
          <a:xfrm>
            <a:off x="684360" y="2708280"/>
            <a:ext cx="8280360" cy="2665440"/>
          </a:xfrm>
          <a:prstGeom prst="foldedCorner">
            <a:avLst>
              <a:gd name="adj" fmla="val 12500"/>
            </a:avLst>
          </a:prstGeom>
          <a:solidFill>
            <a:srgbClr val="ccffcc">
              <a:alpha val="99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s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rigin-all Think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Nice example found online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I developed a talent for understanding 'things'. Let me use an example: I look at a 'C' cell battery. I plug in my education and 'talent' and 'see' it's nature - the zinc, the chemical excitement enclosed, the utilitarian design, the appreciation of social structures arriving upon a uniform shape, the marketing use of the bunny, the need for advanced power sources, the triumph of the human mind coupled with opposable thumbs!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moonstonebooks.proboards67.com/index.cgi?board=buckaroo&amp;action=display&amp;thread=228&amp;page=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s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imeline of your lif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Create a time line of your lif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Highlight the key even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Either personally or globall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267" name="Group 42"/>
          <p:cNvGrpSpPr/>
          <p:nvPr/>
        </p:nvGrpSpPr>
        <p:grpSpPr>
          <a:xfrm>
            <a:off x="539640" y="5014800"/>
            <a:ext cx="8425080" cy="1582920"/>
            <a:chOff x="539640" y="5014800"/>
            <a:chExt cx="8425080" cy="1582920"/>
          </a:xfrm>
        </p:grpSpPr>
        <p:sp>
          <p:nvSpPr>
            <p:cNvPr id="268" name="AutoShape 5"/>
            <p:cNvSpPr/>
            <p:nvPr/>
          </p:nvSpPr>
          <p:spPr>
            <a:xfrm>
              <a:off x="539640" y="5014800"/>
              <a:ext cx="8136000" cy="576360"/>
            </a:xfrm>
            <a:prstGeom prst="roundRect">
              <a:avLst>
                <a:gd name="adj" fmla="val 16667"/>
              </a:avLst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69" name="Oval 6"/>
            <p:cNvSpPr/>
            <p:nvPr/>
          </p:nvSpPr>
          <p:spPr>
            <a:xfrm>
              <a:off x="1762200" y="515916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70" name="Oval 7"/>
            <p:cNvSpPr/>
            <p:nvPr/>
          </p:nvSpPr>
          <p:spPr>
            <a:xfrm>
              <a:off x="3778200" y="5159160"/>
              <a:ext cx="28908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71" name="Oval 8"/>
            <p:cNvSpPr/>
            <p:nvPr/>
          </p:nvSpPr>
          <p:spPr>
            <a:xfrm>
              <a:off x="5796000" y="515916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72" name="Line 9"/>
            <p:cNvSpPr/>
            <p:nvPr/>
          </p:nvSpPr>
          <p:spPr>
            <a:xfrm flipV="1">
              <a:off x="1908000" y="5446440"/>
              <a:ext cx="0" cy="144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73" name="Line 12"/>
            <p:cNvSpPr/>
            <p:nvPr/>
          </p:nvSpPr>
          <p:spPr>
            <a:xfrm flipV="1">
              <a:off x="1908000" y="5589360"/>
              <a:ext cx="0" cy="144720"/>
            </a:xfrm>
            <a:prstGeom prst="line">
              <a:avLst/>
            </a:prstGeom>
            <a:ln w="7632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74" name="Oval 18"/>
            <p:cNvSpPr/>
            <p:nvPr/>
          </p:nvSpPr>
          <p:spPr>
            <a:xfrm>
              <a:off x="7738920" y="5159160"/>
              <a:ext cx="28908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75" name="Line 23"/>
            <p:cNvSpPr/>
            <p:nvPr/>
          </p:nvSpPr>
          <p:spPr>
            <a:xfrm flipV="1">
              <a:off x="3924360" y="5446440"/>
              <a:ext cx="0" cy="144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76" name="Line 24"/>
            <p:cNvSpPr/>
            <p:nvPr/>
          </p:nvSpPr>
          <p:spPr>
            <a:xfrm flipV="1">
              <a:off x="3924360" y="5589360"/>
              <a:ext cx="0" cy="144720"/>
            </a:xfrm>
            <a:prstGeom prst="line">
              <a:avLst/>
            </a:prstGeom>
            <a:ln w="7632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77" name="Line 25"/>
            <p:cNvSpPr/>
            <p:nvPr/>
          </p:nvSpPr>
          <p:spPr>
            <a:xfrm flipV="1">
              <a:off x="5940360" y="5446440"/>
              <a:ext cx="0" cy="144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78" name="Line 26"/>
            <p:cNvSpPr/>
            <p:nvPr/>
          </p:nvSpPr>
          <p:spPr>
            <a:xfrm flipV="1">
              <a:off x="5940360" y="5589360"/>
              <a:ext cx="0" cy="144720"/>
            </a:xfrm>
            <a:prstGeom prst="line">
              <a:avLst/>
            </a:prstGeom>
            <a:ln w="7632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V="1">
              <a:off x="7885080" y="5446440"/>
              <a:ext cx="0" cy="144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80" name="Line 28"/>
            <p:cNvSpPr/>
            <p:nvPr/>
          </p:nvSpPr>
          <p:spPr>
            <a:xfrm flipV="1">
              <a:off x="7885080" y="5589360"/>
              <a:ext cx="0" cy="144720"/>
            </a:xfrm>
            <a:prstGeom prst="line">
              <a:avLst/>
            </a:prstGeom>
            <a:ln w="7632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81" name="AutoShape 32"/>
            <p:cNvSpPr/>
            <p:nvPr/>
          </p:nvSpPr>
          <p:spPr>
            <a:xfrm>
              <a:off x="1301760" y="5734080"/>
              <a:ext cx="1225440" cy="7189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82" name="AutoShape 39"/>
            <p:cNvSpPr/>
            <p:nvPr/>
          </p:nvSpPr>
          <p:spPr>
            <a:xfrm>
              <a:off x="3327480" y="5734080"/>
              <a:ext cx="1225440" cy="7189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83" name="AutoShape 40"/>
            <p:cNvSpPr/>
            <p:nvPr/>
          </p:nvSpPr>
          <p:spPr>
            <a:xfrm>
              <a:off x="5334120" y="5734080"/>
              <a:ext cx="1225440" cy="7189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84" name="AutoShape 41"/>
            <p:cNvSpPr/>
            <p:nvPr/>
          </p:nvSpPr>
          <p:spPr>
            <a:xfrm>
              <a:off x="7278840" y="5734080"/>
              <a:ext cx="1225440" cy="7189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85" name="Rectangle 37"/>
            <p:cNvSpPr/>
            <p:nvPr/>
          </p:nvSpPr>
          <p:spPr>
            <a:xfrm>
              <a:off x="684360" y="5949720"/>
              <a:ext cx="8280360" cy="6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s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tting goals – the SMART wa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292929"/>
                </a:solidFill>
                <a:latin typeface="Arial"/>
              </a:rPr>
              <a:t>S </a:t>
            </a: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PECIFI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292929"/>
                </a:solidFill>
                <a:latin typeface="Arial"/>
              </a:rPr>
              <a:t>M </a:t>
            </a: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EASURAB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292929"/>
                </a:solidFill>
                <a:latin typeface="Arial"/>
              </a:rPr>
              <a:t>A </a:t>
            </a: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CCOUNTABILIT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292929"/>
                </a:solidFill>
                <a:latin typeface="Arial"/>
              </a:rPr>
              <a:t>R </a:t>
            </a: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EALISTIC AND RELEV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292929"/>
                </a:solidFill>
                <a:latin typeface="Arial"/>
              </a:rPr>
              <a:t>T </a:t>
            </a: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IME LI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1763640" y="2276640"/>
            <a:ext cx="4176720" cy="25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s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tting goals – the SMART wa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292929"/>
                </a:solidFill>
                <a:latin typeface="Arial"/>
              </a:rPr>
              <a:t>S </a:t>
            </a: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PECIFI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292929"/>
                </a:solidFill>
                <a:latin typeface="Arial"/>
              </a:rPr>
              <a:t>M </a:t>
            </a: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EASURAB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292929"/>
                </a:solidFill>
                <a:latin typeface="Arial"/>
              </a:rPr>
              <a:t>A </a:t>
            </a: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CCOUNTABILIT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292929"/>
                </a:solidFill>
                <a:latin typeface="Arial"/>
              </a:rPr>
              <a:t>R </a:t>
            </a: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EALISTIC AND RELEV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292929"/>
                </a:solidFill>
                <a:latin typeface="Arial"/>
              </a:rPr>
              <a:t>T </a:t>
            </a: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IME LI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fum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List three situations in your life (past or present) where ambiguity reig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Waiting to hear about a college pl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Considering leaving your job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Considering proposing to your partn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Describe the feelings you have in these situations, how did it feel? If it had a shape, colour or taste what would it be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Seven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uriosit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Arial"/>
              </a:rPr>
              <a:t>à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imonstrazion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nsazion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fumat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rte/Scienz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rporalit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nnession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93" name="Picture 4" descr="Leonardoself"/>
          <p:cNvPicPr/>
          <p:nvPr/>
        </p:nvPicPr>
        <p:blipFill>
          <a:blip r:embed="rId1"/>
          <a:stretch/>
        </p:blipFill>
        <p:spPr>
          <a:xfrm>
            <a:off x="4859280" y="1773360"/>
            <a:ext cx="2432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fum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Count the number of times in a day you use absolute terms such as “totally”, “always”, “certainly”, “must”, “never”, and “absolutely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Consider how you close conversations, do you typically end conversations with either a statement or question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fum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Meditate on the Mona Lis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t is so familiar that it is rarely se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Focus on the Mona Lisa for a while, allow time for your analytical mind to be hushed and experience the paint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Picture 3" descr="mona"/>
          <p:cNvPicPr/>
          <p:nvPr/>
        </p:nvPicPr>
        <p:blipFill>
          <a:blip r:embed="rId1"/>
          <a:stretch/>
        </p:blipFill>
        <p:spPr>
          <a:xfrm>
            <a:off x="2130480" y="-27000"/>
            <a:ext cx="4817880" cy="6885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-73080" y="0"/>
            <a:ext cx="226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6948360" y="0"/>
            <a:ext cx="226872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1:07:24Z</dcterms:created>
  <dc:creator>John Musser</dc:creator>
  <dc:description/>
  <dc:language>en-US</dc:language>
  <cp:lastModifiedBy>dgordon</cp:lastModifiedBy>
  <dcterms:modified xsi:type="dcterms:W3CDTF">2011-05-11T11:38:53Z</dcterms:modified>
  <cp:revision>811</cp:revision>
  <dc:subject/>
  <dc:title>Software Project Management </dc:title>
</cp:coreProperties>
</file>