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6858000" cy="1001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Img"/>
          </p:nvPr>
        </p:nvSpPr>
        <p:spPr>
          <a:xfrm>
            <a:off x="927000" y="750600"/>
            <a:ext cx="5004000" cy="375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ftr" idx="11"/>
          </p:nvPr>
        </p:nvSpPr>
        <p:spPr>
          <a:xfrm>
            <a:off x="-36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 type="sldNum" idx="12"/>
          </p:nvPr>
        </p:nvSpPr>
        <p:spPr>
          <a:xfrm>
            <a:off x="3884400" y="951048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23DA-D208-4408-AE7B-2BAB000137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0A9C-1A34-42DA-96F2-965CDDCE08EA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B460-FA21-4CE1-9994-7C786402CB7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511D-7518-46D5-BF83-1AB148FCD582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FC0E-41CF-4144-BB69-C9A32D821C83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C34B-02EC-4E82-A7E2-841922C7B962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583A-EDF4-46AF-A69A-468ED4124529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26A6-0C11-4094-B720-21023E0A9152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FDBF-C076-4737-8B7D-67CDA314E25C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3E06-2A09-4CBB-9861-695D1C70DD10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5051-4F86-4AA2-BFC7-7AE7D0A85549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B2CD-EBAF-4423-BBB7-1569012CA6BF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91A3-98A7-460C-A281-E34B0CC3F694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C49C-2D62-46F3-8C42-70BA9CBB6B41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0F7B-D6B0-4F82-835D-CB0A63EB563E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74CA-347F-4AC8-8542-6C81524B3E9C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DEEA-C979-4218-B9BA-6F8095B66002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A514-5A4B-4303-AED6-2DAE7B920DDD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DBCF-94B7-4637-BA1C-3495DCF456A6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28800" y="750960"/>
            <a:ext cx="5003640" cy="37544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005C-5706-4804-AB39-2865F37EEA58}" type="slidenum">
              <a:rPr b="0" lang="en-GB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9510840"/>
            <a:ext cx="2971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895A-018A-43EA-BDBE-AAFFBA92F53D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27000" y="750960"/>
            <a:ext cx="5004000" cy="37544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756320"/>
            <a:ext cx="5486400" cy="45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136-0884-4D2E-A015-4105DAC3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7B8-51EA-4E25-8C9A-7B087DFA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839-170B-4591-BC4C-BD7C997E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CD45-9FB3-42D2-97B6-BC2B9771E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1772-CFC6-40D3-A37D-D7156482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68E8-8470-4235-942F-E7BD4A85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ABD6-8BA2-4C57-9270-B8AF32EF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FDE0-22E4-4EE8-8419-5D74644E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672F-8E48-423B-8FA3-3DC91BAE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8B71-1B07-40EF-B438-A4796BEA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507A-16F0-4CFF-9AD2-2A3D3BB63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24E-E7A8-4C95-B31C-0512AE1E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C53D-5ED4-4842-B23A-8B864EF2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1294-A8EC-4AAC-AAA6-06A8F567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D05B-6676-4324-B7B3-48E2C637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497C-1D00-48DD-90A6-36DA4D97E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B0EF-8DCF-489C-9D21-178E4304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4BFDA-DD5A-4B50-8C19-8E695BB4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9ED32-2133-45BD-AADD-812741B2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39E38-DEDF-4444-9615-2FC23350D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F62E9-0155-437C-8ED7-5F5FB87D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89673-14C5-4D2F-993A-D2EC5109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D5B-4289-4928-A3F0-DC1AE1E7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E85AF-927F-426F-A80B-649547AB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1D710-22C1-4AA9-88A6-A63F3DB9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3FDD6-22E0-4612-B964-3935D13D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03060-2ABF-49E2-9488-12AD9BA5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6C075-D4B1-4578-8811-4A3B7435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27CD6-43E2-4014-B5B5-3A17C2D7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9335A-1F9F-4E28-AC32-6D68634D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FA8-1D95-435F-8220-1D259B22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F62-C322-4F69-8B3C-E31C2662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A9B-622B-4F7B-9C87-1864980B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3E6E-8CDC-498A-9E49-0EEF4D53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366-4E61-45E6-9C18-B194EF73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2A51-394A-44CF-9C86-54AF5739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lass 2 - Man &amp; 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89A9-128D-4BD3-B197-7CC4B89C26FE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lass 2 - Man &amp; 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5D96-69A5-459A-97AF-F65B4A0E7BA4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Class 2 - Man &amp; Mach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8C36-D79B-42CD-A8B0-5A1F7E2540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Man and Machine:</a:t>
            </a:r>
            <a:br>
              <a:rPr sz="3600"/>
            </a:br>
            <a:r>
              <a:rPr b="1" lang="en-IE" sz="3600" spc="-1" strike="noStrike">
                <a:solidFill>
                  <a:srgbClr val="003366"/>
                </a:solidFill>
                <a:latin typeface="Arial"/>
              </a:rPr>
              <a:t>Introduction to HCI (MMI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lorida Ballots in 20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0" name="Picture 5" descr="2000electionballot"/>
          <p:cNvPicPr/>
          <p:nvPr/>
        </p:nvPicPr>
        <p:blipFill>
          <a:blip r:embed="rId1"/>
          <a:stretch/>
        </p:blipFill>
        <p:spPr>
          <a:xfrm>
            <a:off x="1619280" y="2349360"/>
            <a:ext cx="6134040" cy="45086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9D28-C67C-4AD8-B2B9-C77DB8558979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91200" y="1286640"/>
            <a:ext cx="9047520" cy="66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 measure of usability 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3" name="Picture 48" descr="carat"/>
          <p:cNvPicPr/>
          <p:nvPr/>
        </p:nvPicPr>
        <p:blipFill>
          <a:blip r:embed="rId1"/>
          <a:stretch/>
        </p:blipFill>
        <p:spPr>
          <a:xfrm>
            <a:off x="1187280" y="2357280"/>
            <a:ext cx="7056720" cy="42148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49"/>
          <p:cNvSpPr/>
          <p:nvPr/>
        </p:nvSpPr>
        <p:spPr>
          <a:xfrm>
            <a:off x="755640" y="6524640"/>
            <a:ext cx="70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Return on investment in the range of 3:1 to 100:1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FECF-E159-4E65-BE72-B997E0A97356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Design Rules: Guidelines, Principles &amp; Theor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ign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Design rules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re rules a designer can follow in order to increase the usability of the eventual software product. These rules can be classified based on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authorit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generality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wher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Authority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 whether rule must be followed or is merely a sugges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Generality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: whether rule is applicable to many or limited applic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197496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(Dix et al., 2004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F779-595D-4C02-B892-224B5A45E60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928800" y="228600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</a:rPr>
              <a:t>Guidelines</a:t>
            </a: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 are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bas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determining a course of action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ow in authority and general in appl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ess abstract than princip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ore technology oriented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3366"/>
                </a:solidFill>
                <a:latin typeface="Arial"/>
              </a:rPr>
              <a:t>Principles</a:t>
            </a: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 ar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bstract design rul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High generality and low author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rived from psychology, computing and soci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Require deeper understanding of human element in interac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Largely independent of technolog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	</a:t>
            </a:r>
            <a:r>
              <a:rPr b="0" lang="en-GB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esign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5F8B-2BA5-46F4-BF7C-1589B73F752F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uidel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42920" y="23569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velop a shared langu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Promote consist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rd best pract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will look a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4 sample guidel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6BF9-A293-45BD-AAAD-5967BFE0DC0B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avigating the interf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00000" y="2428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ple of the National Cancer Institute’s guidelin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ndardise task sequ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sure that embedded links are descriptiv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unique and descriptive heading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check boxes for binary cho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 pages that will print properl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e thumbnail images to preview larger im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3F813-4DF8-4C2C-B28A-9C89839662A7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rganising the displa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71640" y="23569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ith and Mosier (1986) offer five high-level 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stency of data displ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fficient information assimilation by the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al memory load on the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tibility of data display with data en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for user control of data displ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D000-34EA-43E6-AB42-C8DC2831502E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cilitating data entr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042920" y="245916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mith and Mosier (1986) offer five high-level objectives as part of their guidelines for data en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sistency of data-entry transa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al input actions by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imal memory load on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mpatibility of data entry with data displ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for user control of data ent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7C26-899F-4F88-86FF-CD0FE46DBE62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918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droid Development User Interface Guideli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1042920" y="2276640"/>
            <a:ext cx="316872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con de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get de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ctivity &amp; Task de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nu desig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B840-BF1C-42E0-89A6-D841B8DBB4A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Left Arrow Callout 5"/>
          <p:cNvSpPr/>
          <p:nvPr/>
        </p:nvSpPr>
        <p:spPr>
          <a:xfrm>
            <a:off x="3924360" y="2060640"/>
            <a:ext cx="4751280" cy="936720"/>
          </a:xfrm>
          <a:prstGeom prst="leftArrowCallout">
            <a:avLst>
              <a:gd name="adj1" fmla="val 25002"/>
              <a:gd name="adj2" fmla="val 25000"/>
              <a:gd name="adj3" fmla="val 31091"/>
              <a:gd name="adj4" fmla="val 80253"/>
            </a:avLst>
          </a:prstGeom>
          <a:gradFill rotWithShape="0">
            <a:gsLst>
              <a:gs pos="0">
                <a:srgbClr val="edfbed"/>
              </a:gs>
              <a:gs pos="100000">
                <a:srgbClr val="bff0bf"/>
              </a:gs>
            </a:gsLst>
            <a:lin ang="54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Use a wide variety of icon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Technical specs, with templates provided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Left Arrow Callout 8"/>
          <p:cNvSpPr/>
          <p:nvPr/>
        </p:nvSpPr>
        <p:spPr>
          <a:xfrm>
            <a:off x="3995640" y="3141720"/>
            <a:ext cx="4753080" cy="934920"/>
          </a:xfrm>
          <a:prstGeom prst="leftArrowCallout">
            <a:avLst>
              <a:gd name="adj1" fmla="val 25002"/>
              <a:gd name="adj2" fmla="val 25000"/>
              <a:gd name="adj3" fmla="val 31092"/>
              <a:gd name="adj4" fmla="val 80253"/>
            </a:avLst>
          </a:prstGeom>
          <a:gradFill rotWithShape="0">
            <a:gsLst>
              <a:gs pos="0">
                <a:srgbClr val="edfbed"/>
              </a:gs>
              <a:gs pos="100000">
                <a:srgbClr val="bff0bf"/>
              </a:gs>
            </a:gsLst>
            <a:lin ang="54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scribes how widgets fit together with graphics template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Left Arrow Callout 9"/>
          <p:cNvSpPr/>
          <p:nvPr/>
        </p:nvSpPr>
        <p:spPr>
          <a:xfrm>
            <a:off x="4356000" y="4149720"/>
            <a:ext cx="4392720" cy="1150920"/>
          </a:xfrm>
          <a:prstGeom prst="leftArrowCallout">
            <a:avLst>
              <a:gd name="adj1" fmla="val 25002"/>
              <a:gd name="adj2" fmla="val 25000"/>
              <a:gd name="adj3" fmla="val 31081"/>
              <a:gd name="adj4" fmla="val 80253"/>
            </a:avLst>
          </a:prstGeom>
          <a:gradFill rotWithShape="0">
            <a:gsLst>
              <a:gs pos="0">
                <a:srgbClr val="edfbed"/>
              </a:gs>
              <a:gs pos="100000">
                <a:srgbClr val="bff0bf"/>
              </a:gs>
            </a:gsLst>
            <a:lin ang="54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scribes navigation, multitasking, activity re-use, intents, and the activity stack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Left Arrow Callout 11"/>
          <p:cNvSpPr/>
          <p:nvPr/>
        </p:nvSpPr>
        <p:spPr>
          <a:xfrm>
            <a:off x="4211640" y="5300640"/>
            <a:ext cx="4392720" cy="1297080"/>
          </a:xfrm>
          <a:prstGeom prst="leftArrowCallout">
            <a:avLst>
              <a:gd name="adj1" fmla="val 25002"/>
              <a:gd name="adj2" fmla="val 25000"/>
              <a:gd name="adj3" fmla="val 31091"/>
              <a:gd name="adj4" fmla="val 80253"/>
            </a:avLst>
          </a:prstGeom>
          <a:gradFill rotWithShape="0">
            <a:gsLst>
              <a:gs pos="0">
                <a:srgbClr val="edfbed"/>
              </a:gs>
              <a:gs pos="100000">
                <a:srgbClr val="bff0bf"/>
              </a:gs>
            </a:gsLst>
            <a:lin ang="5400000"/>
          </a:gradFill>
          <a:ln w="9360">
            <a:solidFill>
              <a:srgbClr val="86b686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Describes how to arrange menu items, when to put commands on-screen, and other details about menu desig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45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844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CI: Introdu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sign Rul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Guidel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Princip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Theor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395D-AD3D-428B-8853-9B4FB7C53B8A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918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6666"/>
                </a:solidFill>
                <a:latin typeface="Arial"/>
              </a:rPr>
              <a:t>Apple’s Human Interface Princ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198900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esthetic integ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7480" indent="-26748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7480" indent="-26748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rect manipul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7480" indent="-26748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Metaph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267480" indent="-26748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er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0A86-9BB9-406F-BA19-901C26C387DF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hat is HCI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3366"/>
                </a:solidFill>
                <a:latin typeface="Arial"/>
              </a:rPr>
              <a:t>Human–computer interaction (HCI)  </a:t>
            </a: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or </a:t>
            </a:r>
            <a:r>
              <a:rPr b="1" lang="en-IE" sz="2800" spc="-1" strike="noStrike">
                <a:solidFill>
                  <a:srgbClr val="003366"/>
                </a:solidFill>
                <a:latin typeface="Arial"/>
              </a:rPr>
              <a:t>Man-Machine Interaction (MMI) </a:t>
            </a:r>
            <a:r>
              <a:rPr b="0" lang="en-IE" sz="2800" spc="-1" strike="noStrike">
                <a:solidFill>
                  <a:srgbClr val="003366"/>
                </a:solidFill>
                <a:latin typeface="Arial"/>
              </a:rPr>
              <a:t>is the study of interaction between people (users) and comput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0AB1-DE06-448F-A544-DFD5A130926D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857160" y="857160"/>
            <a:ext cx="7429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HCI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838080" y="2670120"/>
            <a:ext cx="76964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Arial"/>
              </a:rPr>
              <a:t>Human-computer interaction</a:t>
            </a:r>
            <a:r>
              <a:rPr b="0" lang="en-US" sz="2800" spc="-1" strike="noStrike">
                <a:solidFill>
                  <a:srgbClr val="00808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Arial"/>
              </a:rPr>
              <a:t>(HCI)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is: 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  <a:ea typeface="Arial"/>
              </a:rPr>
              <a:t>“</a:t>
            </a: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oncerned with the design, evaluation and implementation of interactive computing systems for human use and with the study of major phenomena surrounding them</a:t>
            </a:r>
            <a:r>
              <a:rPr b="0" lang="ja-JP" sz="2800" spc="-1" strike="noStrike">
                <a:solidFill>
                  <a:srgbClr val="003366"/>
                </a:solidFill>
                <a:latin typeface="Arial"/>
                <a:ea typeface="Arial"/>
              </a:rPr>
              <a:t>”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(ACM SIGCHI, 1992, p.6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C91E-AC14-4663-9395-B72571B451E1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58240" y="929160"/>
            <a:ext cx="8999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Goal of HC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62120" y="2743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s to enhance the interaction between humans and computer system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4ABE-28DF-406B-B7BC-D090522A1DE6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ability = Qualit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1514520" y="2230200"/>
            <a:ext cx="7089840" cy="4583520"/>
            <a:chOff x="1514520" y="2230200"/>
            <a:chExt cx="7089840" cy="4583520"/>
          </a:xfrm>
        </p:grpSpPr>
        <p:sp>
          <p:nvSpPr>
            <p:cNvPr id="165" name="Freeform 4"/>
            <p:cNvSpPr/>
            <p:nvPr/>
          </p:nvSpPr>
          <p:spPr>
            <a:xfrm rot="20241600">
              <a:off x="1746000" y="3309840"/>
              <a:ext cx="6094440" cy="2424240"/>
            </a:xfrm>
            <a:custGeom>
              <a:avLst/>
              <a:gdLst>
                <a:gd name="textAreaLeft" fmla="*/ 0 w 6094440"/>
                <a:gd name="textAreaRight" fmla="*/ 6094800 w 6094440"/>
                <a:gd name="textAreaTop" fmla="*/ 0 h 2424240"/>
                <a:gd name="textAreaBottom" fmla="*/ 2424600 h 242424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1d1e0">
                    <a:alpha val="36078"/>
                  </a:srgbClr>
                </a:gs>
                <a:gs pos="100000">
                  <a:srgbClr val="666699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Oval 5"/>
            <p:cNvSpPr/>
            <p:nvPr/>
          </p:nvSpPr>
          <p:spPr>
            <a:xfrm rot="20056200">
              <a:off x="4697280" y="32508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Oval 6"/>
            <p:cNvSpPr/>
            <p:nvPr/>
          </p:nvSpPr>
          <p:spPr>
            <a:xfrm rot="20056200">
              <a:off x="7364160" y="340308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 rot="20056200">
              <a:off x="3249360" y="6070320"/>
              <a:ext cx="1067040" cy="30456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 rot="20056200">
              <a:off x="5840280" y="546048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 rot="20056200">
              <a:off x="2411280" y="462240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84a5ca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3780000" y="2565360"/>
              <a:ext cx="2016360" cy="1101600"/>
            </a:xfrm>
            <a:prstGeom prst="ellipse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00122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1908360" y="3882960"/>
              <a:ext cx="1440000" cy="110160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1040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2052720" y="5349960"/>
              <a:ext cx="2136960" cy="1101600"/>
            </a:xfrm>
            <a:prstGeom prst="ellipse">
              <a:avLst/>
            </a:prstGeom>
            <a:gradFill rotWithShape="0">
              <a:gsLst>
                <a:gs pos="0">
                  <a:srgbClr val="99cc99"/>
                </a:gs>
                <a:gs pos="100000">
                  <a:srgbClr val="3749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" name="Oval 13"/>
            <p:cNvSpPr/>
            <p:nvPr/>
          </p:nvSpPr>
          <p:spPr>
            <a:xfrm>
              <a:off x="5193000" y="4805280"/>
              <a:ext cx="1827000" cy="11016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424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Oval 14"/>
            <p:cNvSpPr/>
            <p:nvPr/>
          </p:nvSpPr>
          <p:spPr>
            <a:xfrm>
              <a:off x="6818400" y="2762280"/>
              <a:ext cx="1785960" cy="1103400"/>
            </a:xfrm>
            <a:prstGeom prst="ellipse">
              <a:avLst/>
            </a:prstGeom>
            <a:gradFill rotWithShape="0">
              <a:gsLst>
                <a:gs pos="0">
                  <a:srgbClr val="cc99ff"/>
                </a:gs>
                <a:gs pos="100000">
                  <a:srgbClr val="46355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Text Box 15"/>
            <p:cNvSpPr/>
            <p:nvPr/>
          </p:nvSpPr>
          <p:spPr>
            <a:xfrm>
              <a:off x="2249280" y="4278240"/>
              <a:ext cx="87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Errors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4087080" y="296064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Satisfactio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6959520" y="3070080"/>
              <a:ext cx="156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Learnabilit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Text Box 18"/>
            <p:cNvSpPr/>
            <p:nvPr/>
          </p:nvSpPr>
          <p:spPr>
            <a:xfrm>
              <a:off x="5546880" y="5200560"/>
              <a:ext cx="127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Efficienc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Text Box 19"/>
            <p:cNvSpPr/>
            <p:nvPr/>
          </p:nvSpPr>
          <p:spPr>
            <a:xfrm>
              <a:off x="2279520" y="5738760"/>
              <a:ext cx="1722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Memorabilit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Text Box 20"/>
            <p:cNvSpPr/>
            <p:nvPr/>
          </p:nvSpPr>
          <p:spPr>
            <a:xfrm>
              <a:off x="3783240" y="416556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</a:rPr>
                <a:t>Usability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2" name="Slide Number Placeholder 2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3EB0-B9CC-420A-904A-39D9A860EC6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58160" y="1110960"/>
            <a:ext cx="7427160" cy="80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6666"/>
                </a:solidFill>
                <a:latin typeface="Arial"/>
              </a:rPr>
              <a:t>Good UIs on Successful Products</a:t>
            </a:r>
            <a:endParaRPr b="1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68160" y="2204640"/>
            <a:ext cx="6856560" cy="57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lm succeeded where other handhelds had failed due to a focus on usabi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e iPod / Apple iPhon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pple iP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i controller, vs. XBox, PS3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aphics &amp; po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Picture 4" descr="newton"/>
          <p:cNvPicPr/>
          <p:nvPr/>
        </p:nvPicPr>
        <p:blipFill>
          <a:blip r:embed="rId1"/>
          <a:stretch/>
        </p:blipFill>
        <p:spPr>
          <a:xfrm>
            <a:off x="7615080" y="2205000"/>
            <a:ext cx="1524240" cy="106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150px-Original_iPod_5GB"/>
          <p:cNvPicPr/>
          <p:nvPr/>
        </p:nvPicPr>
        <p:blipFill>
          <a:blip r:embed="rId2"/>
          <a:stretch/>
        </p:blipFill>
        <p:spPr>
          <a:xfrm>
            <a:off x="7164360" y="3645000"/>
            <a:ext cx="576360" cy="81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wiimote"/>
          <p:cNvPicPr/>
          <p:nvPr/>
        </p:nvPicPr>
        <p:blipFill>
          <a:blip r:embed="rId3"/>
          <a:srcRect l="15064" t="0" r="18631" b="4435"/>
          <a:stretch/>
        </p:blipFill>
        <p:spPr>
          <a:xfrm>
            <a:off x="5796000" y="5477040"/>
            <a:ext cx="1176480" cy="1380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upload.wikimedia.org/wikipedia/en/thumb/7/7c/1stGen-iPad-HomeScreen.jpg/250px-1stGen-iPad-HomeScreen.jpg"/>
          <p:cNvPicPr/>
          <p:nvPr/>
        </p:nvPicPr>
        <p:blipFill>
          <a:blip r:embed="rId4"/>
          <a:stretch/>
        </p:blipFill>
        <p:spPr>
          <a:xfrm>
            <a:off x="7236000" y="4869000"/>
            <a:ext cx="1380960" cy="1484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iphone-parallels"/>
          <p:cNvPicPr/>
          <p:nvPr/>
        </p:nvPicPr>
        <p:blipFill>
          <a:blip r:embed="rId5"/>
          <a:stretch/>
        </p:blipFill>
        <p:spPr>
          <a:xfrm>
            <a:off x="8217000" y="3573360"/>
            <a:ext cx="927000" cy="1081080"/>
          </a:xfrm>
          <a:prstGeom prst="rect">
            <a:avLst/>
          </a:prstGeom>
          <a:ln w="0">
            <a:noFill/>
          </a:ln>
        </p:spPr>
      </p:pic>
      <p:sp>
        <p:nvSpPr>
          <p:cNvPr id="190" name="Slide Number Placeholder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3CD7-3855-4BBF-BB02-542FBD0CC633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d UIs can Sink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ducts &amp; Compan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35120" y="2319120"/>
            <a:ext cx="82296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d dropped in ratings due to touch screen interf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spite Ford’s improvements in manufacturing quality, their overall ratings fell precipitously this year due solely to the poor software interaction on their dashboards.” – NYT, Cooper Repor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’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noying’ behavior of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ir driver-facing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active systems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at caused their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atings to plummet.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2" descr="Ford Display"/>
          <p:cNvPicPr/>
          <p:nvPr/>
        </p:nvPicPr>
        <p:blipFill>
          <a:blip r:embed="rId1"/>
          <a:stretch/>
        </p:blipFill>
        <p:spPr>
          <a:xfrm>
            <a:off x="4859280" y="4076640"/>
            <a:ext cx="4284720" cy="2781360"/>
          </a:xfrm>
          <a:prstGeom prst="rect">
            <a:avLst/>
          </a:prstGeom>
          <a:ln w="0">
            <a:noFill/>
          </a:ln>
        </p:spPr>
      </p:pic>
      <p:sp>
        <p:nvSpPr>
          <p:cNvPr id="194" name="Footer Placeholder 9"/>
          <p:cNvSpPr/>
          <p:nvPr/>
        </p:nvSpPr>
        <p:spPr>
          <a:xfrm>
            <a:off x="755640" y="6230880"/>
            <a:ext cx="335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Brad Myers (Human Computer Institute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47EC-D107-4F65-B04D-6DF63AF7579C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d UIs Can Cause Disas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4360" y="2205000"/>
            <a:ext cx="8650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eg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uly 4, 1988; Iranian Airbus shootdown by the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Vincen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http://www.washingtonpost.com/wp-srv/inatl/longterm/flight801/stories/july88crash.htm http://en.wikipedia.org/wiki/USS_Vincennes_%28CG-49%29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aths in kids: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http://pediatrics.aappublications.org/cgi/content/abstract/116/6/1506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expected Increased Mortality After Implementation of a Commercially Sold Computerized Physician Order Entry (CPOE) System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cause it took so much longer, did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reduce errors overa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lorida ballots (2000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3366"/>
                </a:solidFill>
                <a:latin typeface="Arial"/>
              </a:rPr>
              <a:t>http://www.asktog.com/columns/042ButterflyBallot.html </a:t>
            </a: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Slide Number Placeholder 1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E191-A6FA-4194-8262-BF278EDF2335}" type="slidenum">
              <a:rPr b="1" lang="en-GB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3:43:16Z</dcterms:created>
  <dc:creator>Dept of Maths</dc:creator>
  <dc:description/>
  <dc:language>en-US</dc:language>
  <cp:lastModifiedBy>DIT</cp:lastModifiedBy>
  <cp:lastPrinted>2012-01-09T18:31:09Z</cp:lastPrinted>
  <dcterms:modified xsi:type="dcterms:W3CDTF">2013-04-19T21:56:25Z</dcterms:modified>
  <cp:revision>62</cp:revision>
  <dc:subject/>
  <dc:title>Man and Machine: Introduction</dc:title>
</cp:coreProperties>
</file>