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10012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6858000" cy="1001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0"/>
          </p:nvPr>
        </p:nvSpPr>
        <p:spPr>
          <a:xfrm>
            <a:off x="388440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sldImg"/>
          </p:nvPr>
        </p:nvSpPr>
        <p:spPr>
          <a:xfrm>
            <a:off x="927000" y="750600"/>
            <a:ext cx="5004000" cy="375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ftr" idx="11"/>
          </p:nvPr>
        </p:nvSpPr>
        <p:spPr>
          <a:xfrm>
            <a:off x="-360" y="951048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 type="sldNum" idx="12"/>
          </p:nvPr>
        </p:nvSpPr>
        <p:spPr>
          <a:xfrm>
            <a:off x="3884400" y="951048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21718-BA10-4644-A4DC-532D2BECA42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8FF52-D657-4A42-A9FC-A0DE1A27846C}" type="slidenum">
              <a:rPr b="0" lang="en-GB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19E5F-3AD2-49F2-A962-DAE5938D9A60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0EE4F-544F-44C0-8CFF-927C0E36F04F}" type="slidenum">
              <a:rPr b="0" lang="en-GB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22D48-EDA4-487B-8AD1-DD85CB84A185}" type="slidenum">
              <a:rPr b="0" lang="en-GB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293B5-56EC-4D3C-AB0D-B0E60D755978}" type="slidenum">
              <a:rPr b="0" lang="en-GB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2F7E4-EB71-476E-909D-BE8E593E3BB5}" type="slidenum">
              <a:rPr b="0" lang="en-GB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35760-C466-44C7-A529-49CA88BACD5F}" type="slidenum">
              <a:rPr b="0" lang="en-GB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75EFA-CB38-43F6-8F0F-5151586015F3}" type="slidenum">
              <a:rPr b="0" lang="en-GB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5899E-4D2B-4B2C-AE09-028D313BF79A}" type="slidenum">
              <a:rPr b="0" lang="en-GB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61330-2C38-495C-9CED-3BCD856F4F93}" type="slidenum">
              <a:rPr b="0" lang="en-GB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7516A-2146-4B6D-BBB5-7F0BD48D1145}" type="slidenum">
              <a:rPr b="0" lang="en-GB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BD8B6-098C-43EF-851E-9FF7268C2934}" type="slidenum">
              <a:rPr b="0" lang="en-GB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05CD-AE10-4200-82EF-78FC0DDD1D59}" type="slidenum">
              <a:rPr b="0" lang="en-GB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7724-8AA5-4F3E-9AAE-C5BD7DB040FC}" type="slidenum">
              <a:rPr b="0" lang="en-GB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4BEC6-5153-40A1-9DB5-C41E5352998E}" type="slidenum">
              <a:rPr b="0" lang="en-GB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E1F2E-1C03-4AC7-A752-59316FFD2ADE}" type="slidenum">
              <a:rPr b="0" lang="en-GB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B99CF-BE36-413B-9605-2BA1AC824930}" type="slidenum">
              <a:rPr b="0" lang="en-GB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CD867-25C4-41AE-AB50-B123C5E54197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28800" y="750960"/>
            <a:ext cx="5003640" cy="37544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D38C8-9AFC-4F67-8FE3-B3F1611F8C69}" type="slidenum">
              <a:rPr b="0" lang="en-GB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D24F3-8A1F-4E7A-AB7F-72BE068287AF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8DE4-6547-499D-B0ED-7D7BA31CD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451E-6906-4192-A5B8-A5B25A0F2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965F-10A9-46E0-908C-AE101C98E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A4F8-E8B3-4210-85B9-5710039A1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41F8F-8CAE-46F5-8B6A-5BA465B79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CEBB2-9588-4012-BB73-B09E3CB56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D66D2-FF44-47CD-9F64-B7E72E2E2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ACC54-E43F-4AD4-937E-4EF359ABE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E6FEF-3B47-4BDD-B26D-28A527C47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B8776-3742-47D8-953E-6E18C866F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18837-F063-4249-8C32-DE520953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CF73-A4F4-4B3C-A92F-FEDCE0DF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2CAAD-ED9F-4B88-B524-12E220D8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E4B95-F39A-4329-A863-4C9EAA98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3D917-570D-4986-A19C-A2ABD53BF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AAFCF-9F71-43C5-881E-4D3FBD81D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DD71A-7302-4D82-9F09-DF6351340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9D26B-A811-466A-BAFC-F946E554F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6F752-FC17-4DD9-8C31-1E6A649DA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075EE-F7D1-4A53-BB67-0A83BBAC4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4F1D1-43B4-456E-9C9B-C5555C882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07E23-04F2-4968-B8F7-A599DCA7F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815F-E3F4-4779-9620-52C0F399B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13115-C9FD-4B65-AA4F-F9A5F1AEE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6B86F-430E-409A-B280-D0615156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A74F5-CC47-4676-93A4-60C1DC7F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D336A-C350-427A-B87E-7927DB67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83358-B62E-4FDA-90BB-845AEBA94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C0224-D6B3-4AEF-83A8-E081C2802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9A084-C12D-43F1-971A-4A803DEE1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DE65-4C0B-456B-8C3F-2AAC555D0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0484-D12B-4140-B09A-024483C32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71FD-B329-4EE0-80DF-7272F48B9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4A65-2A34-4819-A3BF-E1DF6FB4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D111-3CAF-418D-9CDE-50717A10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0A9F-192E-47CF-8D7F-AC0A3B35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lass 2 - Man &amp; Mach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11D66-2B3A-4AED-A321-D7F3220BB879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lass 2 - Man &amp; Mach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8CB9F-1DBC-48F1-90DC-2EFB188C9A27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96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00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1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Class 2 - Man &amp; Mach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A3CE7-F14B-4FEC-9BFF-A949B883C79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3366"/>
                </a:solidFill>
                <a:latin typeface="Arial"/>
              </a:rPr>
              <a:t>Man and Machine:</a:t>
            </a:r>
            <a:br>
              <a:rPr sz="3600"/>
            </a:br>
            <a:r>
              <a:rPr b="1" lang="en-IE" sz="3600" spc="-1" strike="noStrike">
                <a:solidFill>
                  <a:srgbClr val="003366"/>
                </a:solidFill>
                <a:latin typeface="Arial"/>
              </a:rPr>
              <a:t>Introduction to HCI (MMI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lorida Ballots in 200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00" name="Picture 5" descr="2000electionballot"/>
          <p:cNvPicPr/>
          <p:nvPr/>
        </p:nvPicPr>
        <p:blipFill>
          <a:blip r:embed="rId1"/>
          <a:stretch/>
        </p:blipFill>
        <p:spPr>
          <a:xfrm>
            <a:off x="1619280" y="2349360"/>
            <a:ext cx="6134040" cy="45086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2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18D97-F4AD-4962-8D32-BB650741B942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691200" y="1286640"/>
            <a:ext cx="904752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A measure of usability …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03" name="Picture 48" descr="carat"/>
          <p:cNvPicPr/>
          <p:nvPr/>
        </p:nvPicPr>
        <p:blipFill>
          <a:blip r:embed="rId1"/>
          <a:stretch/>
        </p:blipFill>
        <p:spPr>
          <a:xfrm>
            <a:off x="1187280" y="2357280"/>
            <a:ext cx="7056720" cy="421488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49"/>
          <p:cNvSpPr/>
          <p:nvPr/>
        </p:nvSpPr>
        <p:spPr>
          <a:xfrm>
            <a:off x="755640" y="6524640"/>
            <a:ext cx="70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Return on investment in the range of 3:1 to 100:1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Slide Number Placeholder 2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B60F9-E8D5-4E35-B476-DC84F9778FE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"/>
              </a:rPr>
              <a:t>Design Rules: Guidelines, Principles &amp; Theor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esign Ru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Design rules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re rules a designer can follow in order to increase the usability of the eventual software product. These rules can be classified based on </a:t>
            </a:r>
            <a:r>
              <a:rPr b="0" i="1" lang="en-GB" sz="2800" spc="-1" strike="noStrike">
                <a:solidFill>
                  <a:srgbClr val="003366"/>
                </a:solidFill>
                <a:latin typeface="Arial"/>
              </a:rPr>
              <a:t>authority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i="1" lang="en-GB" sz="2800" spc="-1" strike="noStrike">
                <a:solidFill>
                  <a:srgbClr val="003366"/>
                </a:solidFill>
                <a:latin typeface="Arial"/>
              </a:rPr>
              <a:t>generality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wher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Authority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: whether rule must be followed or is merely a sugges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Generality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: whether rule is applicable to many or limited applica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4" marL="197496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(Dix et al., 2004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Slide Number Placeholder 2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EBAF0-A9ED-4C34-A6FD-D69921884F68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3"/>
          <p:cNvSpPr/>
          <p:nvPr/>
        </p:nvSpPr>
        <p:spPr>
          <a:xfrm>
            <a:off x="928800" y="2286000"/>
            <a:ext cx="769284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3366"/>
                </a:solidFill>
                <a:latin typeface="Arial"/>
              </a:rPr>
              <a:t>Guidelines</a:t>
            </a:r>
            <a:r>
              <a:rPr b="0" lang="en-IE" sz="2400" spc="-1" strike="noStrike">
                <a:solidFill>
                  <a:srgbClr val="003366"/>
                </a:solidFill>
                <a:latin typeface="Arial"/>
              </a:rPr>
              <a:t> are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basi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for determining a course of action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low in authority and general in applic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Less abstract than princip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More technology oriented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3366"/>
                </a:solidFill>
                <a:latin typeface="Arial"/>
              </a:rPr>
              <a:t>Principles</a:t>
            </a:r>
            <a:r>
              <a:rPr b="0" lang="en-IE" sz="2400" spc="-1" strike="noStrike">
                <a:solidFill>
                  <a:srgbClr val="003366"/>
                </a:solidFill>
                <a:latin typeface="Arial"/>
              </a:rPr>
              <a:t> are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abstract design rule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High generality and low authori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Derived from psychology, computing and sociolog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Require deeper understanding of human element in interac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Largely independent of technolog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	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	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esign Ru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Slide Number Placeholder 2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983C9-8A6B-46C6-9077-F503C23647C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uidelin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1042920" y="23569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velop a shared langua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66"/>
                </a:solidFill>
                <a:latin typeface="Arial"/>
              </a:rPr>
              <a:t>Promote consistenc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cord best practi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 will look at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4 sample guideli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Slide Number Placeholder 2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FB6E5-98C4-44B3-B3B6-D1FD999790D8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avigating the interf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900000" y="24285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ample of the National Cancer Institute’s guidelin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ndardise task sequenc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nsure that embedded links are descriptiv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 unique and descriptive heading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 check boxes for binary choic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velop pages that will print properl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 thumbnail images to preview larger imag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Slide Number Placeholder 2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BACC-4A0C-4533-B336-8FC78CDD1AB8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rganising the displa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971640" y="23569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mith and Mosier (1986) offer five high-level goa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sistency of data displa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fficient information assimilation by the us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nimal memory load on the us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patibility of data display with data entr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lexibility for user control of data displa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Slide Number Placeholder 2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E8A8F-E9E9-40F1-B25B-B96572B938B8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acilitating data ent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1042920" y="245916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mith and Mosier (1986) offer five high-level objectives as part of their guidelines for data ent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sistency of data-entry transac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nimal input actions by us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nimal memory load on us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patibility of data entry with data displa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lexibility for user control of data entr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Slide Number Placeholder 2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BA333-7CDC-4F6B-95FF-B7E1301F439A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34120" y="918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ndroid Development User Interface Guidelin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1042920" y="2276640"/>
            <a:ext cx="316872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con desig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dget desig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ctivity &amp; Task desig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nu desig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Slide Number Placeholder 2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FB42C-1E65-4CAC-A0FC-3D74FE8A6932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Left Arrow Callout 5"/>
          <p:cNvSpPr/>
          <p:nvPr/>
        </p:nvSpPr>
        <p:spPr>
          <a:xfrm>
            <a:off x="3924360" y="2060640"/>
            <a:ext cx="4751280" cy="936720"/>
          </a:xfrm>
          <a:prstGeom prst="leftArrowCallout">
            <a:avLst>
              <a:gd name="adj1" fmla="val 25002"/>
              <a:gd name="adj2" fmla="val 25000"/>
              <a:gd name="adj3" fmla="val 31091"/>
              <a:gd name="adj4" fmla="val 80253"/>
            </a:avLst>
          </a:prstGeom>
          <a:gradFill rotWithShape="0">
            <a:gsLst>
              <a:gs pos="0">
                <a:srgbClr val="edfbed"/>
              </a:gs>
              <a:gs pos="100000">
                <a:srgbClr val="bff0bf"/>
              </a:gs>
            </a:gsLst>
            <a:lin ang="5400000"/>
          </a:gradFill>
          <a:ln w="9360">
            <a:solidFill>
              <a:srgbClr val="86b686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Use a wide variety of icon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Technical specs, with templates provided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Left Arrow Callout 8"/>
          <p:cNvSpPr/>
          <p:nvPr/>
        </p:nvSpPr>
        <p:spPr>
          <a:xfrm>
            <a:off x="3995640" y="3141720"/>
            <a:ext cx="4753080" cy="934920"/>
          </a:xfrm>
          <a:prstGeom prst="leftArrowCallout">
            <a:avLst>
              <a:gd name="adj1" fmla="val 25002"/>
              <a:gd name="adj2" fmla="val 25000"/>
              <a:gd name="adj3" fmla="val 31092"/>
              <a:gd name="adj4" fmla="val 80253"/>
            </a:avLst>
          </a:prstGeom>
          <a:gradFill rotWithShape="0">
            <a:gsLst>
              <a:gs pos="0">
                <a:srgbClr val="edfbed"/>
              </a:gs>
              <a:gs pos="100000">
                <a:srgbClr val="bff0bf"/>
              </a:gs>
            </a:gsLst>
            <a:lin ang="5400000"/>
          </a:gradFill>
          <a:ln w="9360">
            <a:solidFill>
              <a:srgbClr val="86b686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Describes how widgets fit together with graphics template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Left Arrow Callout 9"/>
          <p:cNvSpPr/>
          <p:nvPr/>
        </p:nvSpPr>
        <p:spPr>
          <a:xfrm>
            <a:off x="4356000" y="4149720"/>
            <a:ext cx="4392720" cy="1150920"/>
          </a:xfrm>
          <a:prstGeom prst="leftArrowCallout">
            <a:avLst>
              <a:gd name="adj1" fmla="val 25002"/>
              <a:gd name="adj2" fmla="val 25000"/>
              <a:gd name="adj3" fmla="val 31081"/>
              <a:gd name="adj4" fmla="val 80253"/>
            </a:avLst>
          </a:prstGeom>
          <a:gradFill rotWithShape="0">
            <a:gsLst>
              <a:gs pos="0">
                <a:srgbClr val="edfbed"/>
              </a:gs>
              <a:gs pos="100000">
                <a:srgbClr val="bff0bf"/>
              </a:gs>
            </a:gsLst>
            <a:lin ang="5400000"/>
          </a:gradFill>
          <a:ln w="9360">
            <a:solidFill>
              <a:srgbClr val="86b686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Describes navigation, multitasking, activity re-use, intents, and the activity stack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Left Arrow Callout 11"/>
          <p:cNvSpPr/>
          <p:nvPr/>
        </p:nvSpPr>
        <p:spPr>
          <a:xfrm>
            <a:off x="4211640" y="5300640"/>
            <a:ext cx="4392720" cy="1297080"/>
          </a:xfrm>
          <a:prstGeom prst="leftArrowCallout">
            <a:avLst>
              <a:gd name="adj1" fmla="val 25002"/>
              <a:gd name="adj2" fmla="val 25000"/>
              <a:gd name="adj3" fmla="val 31091"/>
              <a:gd name="adj4" fmla="val 80253"/>
            </a:avLst>
          </a:prstGeom>
          <a:gradFill rotWithShape="0">
            <a:gsLst>
              <a:gs pos="0">
                <a:srgbClr val="edfbed"/>
              </a:gs>
              <a:gs pos="100000">
                <a:srgbClr val="bff0bf"/>
              </a:gs>
            </a:gsLst>
            <a:lin ang="5400000"/>
          </a:gradFill>
          <a:ln w="9360">
            <a:solidFill>
              <a:srgbClr val="86b686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Describes how to arrange menu items, when to put commands on-screen, and other details about menu design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45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844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HCI: Introdu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esign Rul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3366"/>
                </a:solidFill>
                <a:latin typeface="Arial"/>
              </a:rPr>
              <a:t>Guideli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3366"/>
                </a:solidFill>
                <a:latin typeface="Arial"/>
              </a:rPr>
              <a:t>Princip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3366"/>
                </a:solidFill>
                <a:latin typeface="Arial"/>
              </a:rPr>
              <a:t>Theor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Slide Number Placeholder 2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8FA65-65A8-4BF7-9F7D-B948E5269087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834120" y="918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Apple’s Human Interface Princip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838080" y="198900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2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esthetic integr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67480" indent="-267480">
              <a:lnSpc>
                <a:spcPct val="2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istenc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67480" indent="-267480">
              <a:lnSpc>
                <a:spcPct val="2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rect manipul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67480" indent="-267480">
              <a:lnSpc>
                <a:spcPct val="2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etapho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67480" indent="-267480">
              <a:lnSpc>
                <a:spcPct val="2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User contro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Slide Number Placeholder 2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3D14B-A244-4FA9-94AB-AFCF681B7B07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What is HCI 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3366"/>
                </a:solidFill>
                <a:latin typeface="Arial"/>
              </a:rPr>
              <a:t>Human–computer interaction (HCI)  </a:t>
            </a:r>
            <a:r>
              <a:rPr b="0" lang="en-IE" sz="2800" spc="-1" strike="noStrike">
                <a:solidFill>
                  <a:srgbClr val="003366"/>
                </a:solidFill>
                <a:latin typeface="Arial"/>
              </a:rPr>
              <a:t>or </a:t>
            </a:r>
            <a:r>
              <a:rPr b="1" lang="en-IE" sz="2800" spc="-1" strike="noStrike">
                <a:solidFill>
                  <a:srgbClr val="003366"/>
                </a:solidFill>
                <a:latin typeface="Arial"/>
              </a:rPr>
              <a:t>Man-Machine Interaction (MMI) </a:t>
            </a:r>
            <a:r>
              <a:rPr b="0" lang="en-IE" sz="2800" spc="-1" strike="noStrike">
                <a:solidFill>
                  <a:srgbClr val="003366"/>
                </a:solidFill>
                <a:latin typeface="Arial"/>
              </a:rPr>
              <a:t>is the study of interaction between people (users) and computer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Slide Number Placeholder 2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F75B-33DA-465A-A717-092F1427CE6F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857160" y="857160"/>
            <a:ext cx="7429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HCI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838080" y="2670120"/>
            <a:ext cx="769644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Arial"/>
                <a:ea typeface="Arial"/>
              </a:rPr>
              <a:t>Human-computer interaction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8080"/>
                </a:solidFill>
                <a:latin typeface="Arial"/>
                <a:ea typeface="Arial"/>
              </a:rPr>
              <a:t>(HCI)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 is: </a:t>
            </a: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“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concerned with the design, evaluation and implementation of interactive computing systems for human use and with the study of major phenomena surrounding them</a:t>
            </a:r>
            <a:r>
              <a:rPr b="0" lang="ja-JP" sz="2800" spc="-1" strike="noStrike">
                <a:solidFill>
                  <a:srgbClr val="003366"/>
                </a:solidFill>
                <a:latin typeface="Arial"/>
                <a:ea typeface="Arial"/>
              </a:rPr>
              <a:t>”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 (ACM SIGCHI, 1992, p.6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Slide Number Placeholder 2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0C737-4F75-431F-8FDF-86AA7CB7005A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58240" y="929160"/>
            <a:ext cx="89992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Goal of HC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762120" y="2743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s to enhance the interaction between humans and computer system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Slide Number Placeholder 2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BB0B2-5CB3-4DF9-94A2-689A14AF15B8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sability = Qualit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64" name="Group 3"/>
          <p:cNvGrpSpPr/>
          <p:nvPr/>
        </p:nvGrpSpPr>
        <p:grpSpPr>
          <a:xfrm>
            <a:off x="1514520" y="2230200"/>
            <a:ext cx="7089840" cy="4583520"/>
            <a:chOff x="1514520" y="2230200"/>
            <a:chExt cx="7089840" cy="4583520"/>
          </a:xfrm>
        </p:grpSpPr>
        <p:sp>
          <p:nvSpPr>
            <p:cNvPr id="165" name="Freeform 4"/>
            <p:cNvSpPr/>
            <p:nvPr/>
          </p:nvSpPr>
          <p:spPr>
            <a:xfrm rot="20241600">
              <a:off x="1746000" y="3309840"/>
              <a:ext cx="6094440" cy="2424240"/>
            </a:xfrm>
            <a:custGeom>
              <a:avLst/>
              <a:gdLst>
                <a:gd name="textAreaLeft" fmla="*/ 0 w 6094440"/>
                <a:gd name="textAreaRight" fmla="*/ 6094800 w 6094440"/>
                <a:gd name="textAreaTop" fmla="*/ 0 h 2424240"/>
                <a:gd name="textAreaBottom" fmla="*/ 2424600 h 2424240"/>
              </a:gdLst>
              <a:ahLst/>
              <a:rect l="textAreaLeft" t="textAreaTop" r="textAreaRight" b="textAreaBottom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1d1e0">
                    <a:alpha val="36078"/>
                  </a:srgbClr>
                </a:gs>
                <a:gs pos="100000">
                  <a:srgbClr val="666699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6" name="Oval 5"/>
            <p:cNvSpPr/>
            <p:nvPr/>
          </p:nvSpPr>
          <p:spPr>
            <a:xfrm rot="20056200">
              <a:off x="4697280" y="325080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7" name="Oval 6"/>
            <p:cNvSpPr/>
            <p:nvPr/>
          </p:nvSpPr>
          <p:spPr>
            <a:xfrm rot="20056200">
              <a:off x="7364160" y="340308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8" name="Oval 7"/>
            <p:cNvSpPr/>
            <p:nvPr/>
          </p:nvSpPr>
          <p:spPr>
            <a:xfrm rot="20056200">
              <a:off x="3249360" y="607032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9" name="Oval 8"/>
            <p:cNvSpPr/>
            <p:nvPr/>
          </p:nvSpPr>
          <p:spPr>
            <a:xfrm rot="20056200">
              <a:off x="5840280" y="546048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0" name="Oval 9"/>
            <p:cNvSpPr/>
            <p:nvPr/>
          </p:nvSpPr>
          <p:spPr>
            <a:xfrm rot="20056200">
              <a:off x="2411280" y="462240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1" name="Oval 10"/>
            <p:cNvSpPr/>
            <p:nvPr/>
          </p:nvSpPr>
          <p:spPr>
            <a:xfrm>
              <a:off x="3780000" y="2565360"/>
              <a:ext cx="2016360" cy="110160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122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2" name="Oval 11"/>
            <p:cNvSpPr/>
            <p:nvPr/>
          </p:nvSpPr>
          <p:spPr>
            <a:xfrm>
              <a:off x="1908360" y="3882960"/>
              <a:ext cx="1440000" cy="110160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040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3" name="Oval 12"/>
            <p:cNvSpPr/>
            <p:nvPr/>
          </p:nvSpPr>
          <p:spPr>
            <a:xfrm>
              <a:off x="2052720" y="5349960"/>
              <a:ext cx="2136960" cy="1101600"/>
            </a:xfrm>
            <a:prstGeom prst="ellipse">
              <a:avLst/>
            </a:prstGeom>
            <a:gradFill rotWithShape="0">
              <a:gsLst>
                <a:gs pos="0">
                  <a:srgbClr val="99cc99"/>
                </a:gs>
                <a:gs pos="100000">
                  <a:srgbClr val="37493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4" name="Oval 13"/>
            <p:cNvSpPr/>
            <p:nvPr/>
          </p:nvSpPr>
          <p:spPr>
            <a:xfrm>
              <a:off x="5193000" y="4805280"/>
              <a:ext cx="1827000" cy="11016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4243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5" name="Oval 14"/>
            <p:cNvSpPr/>
            <p:nvPr/>
          </p:nvSpPr>
          <p:spPr>
            <a:xfrm>
              <a:off x="6818400" y="2762280"/>
              <a:ext cx="1785960" cy="1103400"/>
            </a:xfrm>
            <a:prstGeom prst="ellipse">
              <a:avLst/>
            </a:prstGeom>
            <a:gradFill rotWithShape="0">
              <a:gsLst>
                <a:gs pos="0">
                  <a:srgbClr val="cc99ff"/>
                </a:gs>
                <a:gs pos="100000">
                  <a:srgbClr val="46355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6" name="Text Box 15"/>
            <p:cNvSpPr/>
            <p:nvPr/>
          </p:nvSpPr>
          <p:spPr>
            <a:xfrm>
              <a:off x="2249280" y="4278240"/>
              <a:ext cx="87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Errors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7" name="Text Box 16"/>
            <p:cNvSpPr/>
            <p:nvPr/>
          </p:nvSpPr>
          <p:spPr>
            <a:xfrm>
              <a:off x="4087080" y="2960640"/>
              <a:ext cx="153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Satisfaction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8" name="Text Box 17"/>
            <p:cNvSpPr/>
            <p:nvPr/>
          </p:nvSpPr>
          <p:spPr>
            <a:xfrm>
              <a:off x="6959520" y="3070080"/>
              <a:ext cx="156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Learnability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9" name="Text Box 18"/>
            <p:cNvSpPr/>
            <p:nvPr/>
          </p:nvSpPr>
          <p:spPr>
            <a:xfrm>
              <a:off x="5546880" y="5200560"/>
              <a:ext cx="127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Efficiency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0" name="Text Box 19"/>
            <p:cNvSpPr/>
            <p:nvPr/>
          </p:nvSpPr>
          <p:spPr>
            <a:xfrm>
              <a:off x="2279520" y="5738760"/>
              <a:ext cx="172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Memorability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1" name="Text Box 20"/>
            <p:cNvSpPr/>
            <p:nvPr/>
          </p:nvSpPr>
          <p:spPr>
            <a:xfrm>
              <a:off x="3783240" y="416556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Arial"/>
                </a:rPr>
                <a:t>Usability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82" name="Slide Number Placeholder 2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D23D9-A457-4A00-BD31-5AADDCCEA054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758160" y="1110960"/>
            <a:ext cx="7427160" cy="80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6666"/>
                </a:solidFill>
                <a:latin typeface="Arial"/>
              </a:rPr>
              <a:t>Good UIs on Successful Products</a:t>
            </a:r>
            <a:endParaRPr b="1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68160" y="2204640"/>
            <a:ext cx="6856560" cy="57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lm succeeded where other handhelds had failed due to a focus on usabil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pple iPod / Apple iPhon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pple iP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i controller, vs. XBox, PS3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aphics &amp; pow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5" name="Picture 4" descr="newton"/>
          <p:cNvPicPr/>
          <p:nvPr/>
        </p:nvPicPr>
        <p:blipFill>
          <a:blip r:embed="rId1"/>
          <a:stretch/>
        </p:blipFill>
        <p:spPr>
          <a:xfrm>
            <a:off x="7615080" y="2205000"/>
            <a:ext cx="1524240" cy="1069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150px-Original_iPod_5GB"/>
          <p:cNvPicPr/>
          <p:nvPr/>
        </p:nvPicPr>
        <p:blipFill>
          <a:blip r:embed="rId2"/>
          <a:stretch/>
        </p:blipFill>
        <p:spPr>
          <a:xfrm>
            <a:off x="7164360" y="3645000"/>
            <a:ext cx="576360" cy="811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wiimote"/>
          <p:cNvPicPr/>
          <p:nvPr/>
        </p:nvPicPr>
        <p:blipFill>
          <a:blip r:embed="rId3"/>
          <a:srcRect l="15064" t="0" r="18631" b="4435"/>
          <a:stretch/>
        </p:blipFill>
        <p:spPr>
          <a:xfrm>
            <a:off x="5796000" y="5477040"/>
            <a:ext cx="1176480" cy="13809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http://upload.wikimedia.org/wikipedia/en/thumb/7/7c/1stGen-iPad-HomeScreen.jpg/250px-1stGen-iPad-HomeScreen.jpg"/>
          <p:cNvPicPr/>
          <p:nvPr/>
        </p:nvPicPr>
        <p:blipFill>
          <a:blip r:embed="rId4"/>
          <a:stretch/>
        </p:blipFill>
        <p:spPr>
          <a:xfrm>
            <a:off x="7236000" y="4869000"/>
            <a:ext cx="1380960" cy="1484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iphone-parallels"/>
          <p:cNvPicPr/>
          <p:nvPr/>
        </p:nvPicPr>
        <p:blipFill>
          <a:blip r:embed="rId5"/>
          <a:stretch/>
        </p:blipFill>
        <p:spPr>
          <a:xfrm>
            <a:off x="8217000" y="3573360"/>
            <a:ext cx="927000" cy="1081080"/>
          </a:xfrm>
          <a:prstGeom prst="rect">
            <a:avLst/>
          </a:prstGeom>
          <a:ln w="0">
            <a:noFill/>
          </a:ln>
        </p:spPr>
      </p:pic>
      <p:sp>
        <p:nvSpPr>
          <p:cNvPr id="190" name="Slide Number Placeholder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7C564-D8D2-493D-BBF9-9957574E0CF2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83412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ad UIs can Sink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ducts &amp; Compan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735120" y="2319120"/>
            <a:ext cx="8229600" cy="47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rd dropped in ratings due to touch screen interfa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spite Ford’s improvements in manufacturing quality, their overall ratings fell precipitously this year due solely to the poor software interaction on their dashboards.” – NYT, Cooper Repor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“’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nnoying’ behavior of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ir driver-facing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teractive systems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at caused their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atings to plummet.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3" name="Picture 2" descr="Ford Display"/>
          <p:cNvPicPr/>
          <p:nvPr/>
        </p:nvPicPr>
        <p:blipFill>
          <a:blip r:embed="rId1"/>
          <a:stretch/>
        </p:blipFill>
        <p:spPr>
          <a:xfrm>
            <a:off x="4859280" y="4076640"/>
            <a:ext cx="4284720" cy="2781360"/>
          </a:xfrm>
          <a:prstGeom prst="rect">
            <a:avLst/>
          </a:prstGeom>
          <a:ln w="0">
            <a:noFill/>
          </a:ln>
        </p:spPr>
      </p:pic>
      <p:sp>
        <p:nvSpPr>
          <p:cNvPr id="194" name="Footer Placeholder 9"/>
          <p:cNvSpPr/>
          <p:nvPr/>
        </p:nvSpPr>
        <p:spPr>
          <a:xfrm>
            <a:off x="755640" y="6230880"/>
            <a:ext cx="3352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Brad Myers (Human Computer Institute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F499A-B495-4264-99C0-7373A03DE4DB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ad UIs Can Cause Disast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4360" y="2205000"/>
            <a:ext cx="8650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eg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July 4, 1988; Iranian Airbus shootdown by the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Vincen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http://www.washingtonpost.com/wp-srv/inatl/longterm/flight801/stories/july88crash.htm http://en.wikipedia.org/wiki/USS_Vincennes_%28CG-49%29 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aths in kids: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http://pediatrics.aappublications.org/cgi/content/abstract/116/6/1506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expected Increased Mortality After Implementation of a Commercially Sold Computerized Physician Order Entry (CPOE) System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ecause it took so much longer, did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reduce errors overal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lorida ballots (2000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http://www.asktog.com/columns/042ButterflyBallot.html 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Slide Number Placeholder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95AB-0B71-44EF-85B8-BD6EC6E7B6BC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13:43:16Z</dcterms:created>
  <dc:creator>Dept of Maths</dc:creator>
  <dc:description/>
  <dc:language>en-US</dc:language>
  <cp:lastModifiedBy>DIT</cp:lastModifiedBy>
  <cp:lastPrinted>2012-01-09T18:31:09Z</cp:lastPrinted>
  <dcterms:modified xsi:type="dcterms:W3CDTF">2013-04-19T21:56:25Z</dcterms:modified>
  <cp:revision>62</cp:revision>
  <dc:subject/>
  <dc:title>Man and Machine: Introduction</dc:title>
</cp:coreProperties>
</file>