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CB4-497F-4906-91C4-5CEA89F35426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E2F2-77F8-4513-93DB-8E7641F67782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20DE-2A98-42BB-8D35-F51A6B724A2A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F09-E299-4BF7-AE56-72BD2E5D252F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858-7F2E-4D42-BAA9-F1F7F67B8704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99C8-8F2F-462A-8206-812516BA5222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B90B-27D0-456A-B699-1081F3FD119F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E68-F319-4E56-8F3D-9D2F077D36A6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378-DDAD-4EC1-9BB3-B7D8ECE1A763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723-FAFD-4C25-B24C-609E6DA1074B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4988-AEC3-4A7C-B813-9C229E263953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E66C-60D7-44B0-929E-447954BD1972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4CD-7308-4F94-BB7E-894FD992108E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C633-62BE-43E2-A927-DF4355A87740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8085-917A-4B6B-8524-09C72F7114BB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1E5D-DCB5-43B5-8122-C45F452D6830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9067-9A3D-48AB-BE59-5033986D4FB9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B21-32E4-4C37-A514-53D23C0C7CFA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D35D-858E-4A70-8B07-AC9751F8A0BD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421-E36B-4B76-9165-86AFD88338F9}" type="slidenum">
              <a:rPr b="0" lang="en-I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98E-3BB0-42DD-8114-650ADE69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563-1912-4E11-A7DC-5F185D04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D3B-302C-42A2-AB0C-FD74FED9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7FF-A7A4-4636-A704-52DEB7F3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80BB-8A78-4A2F-8621-8D3BAE79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1CC6-5D99-46CD-B9FB-2C3234F0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4706-91C7-4B7F-B423-5D9ADC0B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448-95E5-40F7-9387-B67DA0F6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BFF-156B-4593-8707-36AD3152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67BA-6C31-4F56-AC94-BCE8389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A14-3168-40ED-8AF4-178A2AE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636-F773-4506-A1A3-704FF57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0AAA-2857-471F-90CC-CB83D44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D8F1-A53B-4B16-AE9E-2F8D986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052-E776-4C24-8296-D658A4D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3A14-29A8-4B05-8EAB-7AF83862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38A-63F0-416E-8130-F4C3FEAC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D48D-24C7-4810-855A-788B9685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7195-8ADC-4474-A720-DD060D18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39BA-37F5-4BFB-A591-9E5B4FD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64BD-8500-456D-B8B6-153320B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9E09-DBB0-437D-BAC1-36725DB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34F-932D-49E4-943F-A3679CA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6A7A-FDD7-4595-819D-694458A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5306-7E89-412A-8E76-AD06D7C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BDBF-28CA-4A7D-B539-B8441AAC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8C56-22D2-40E3-816F-71A2FBC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4A1A-2A9F-4362-8554-3BAAA16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7E6C-0A4A-42B8-B9E0-7C2FA5AA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2E89-2F26-4E1F-9190-84B4AB40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BD5-8060-4F99-8C10-C290ABD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BB5-F4B7-4963-B26D-2468D9D1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E29-2750-4ADA-A36D-3CF4DB9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AF0-5689-4B77-89CD-01FF6B0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E5D-A672-4A1C-AA01-15930BC3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BA0-6B02-42D1-ADA8-0E0E897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603-29D6-4F0C-AAA4-DC1000E0B281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5FA-18A6-452E-AA92-1861C61F31FB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C70-BF9E-481A-883E-3AA7CC98C6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emierathome.com/products/text_t1.jpg&amp;imgrefurl=http://www.premierathome.com/products/texttoaudio.php&amp;h=480&amp;w=615&amp;sz=70&amp;hl=en&amp;start=3&amp;um=1&amp;usg=__Ai6WFlK_pK-43JSS7l0w9-Z-mvU=&amp;tbnid=Z6QG70LjH1Y9_M:&amp;tbnh=106&amp;tbnw=136&amp;prev=/images?q=%2522text+to+audio%2522&amp;imgsz=small%257Cmedium%257Clarge%257Cxlarge&amp;um=1&amp;hl=en&amp;rls=ADBS,ADBS:2006-33,ADBS:en&amp;sa=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Consider the Us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Subtitle 1"/>
          <p:cNvSpPr/>
          <p:nvPr/>
        </p:nvSpPr>
        <p:spPr>
          <a:xfrm>
            <a:off x="5867280" y="2349360"/>
            <a:ext cx="32227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Andrea Curl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hysically disab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gnitively disab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03880" y="131616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Physically Disabl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332080"/>
            <a:ext cx="885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mpairments can include lack of mobility, low vision, blind and hea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ternative channels of interac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peech recogn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une recogn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ip-rea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ody-electric sens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0" y="2332080"/>
            <a:ext cx="87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Design Guidelines (Nielsen, 1995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ovide keyboard access to application featu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ollow key-mapping guidelines or the local environ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void placing frequently used functions deep in a menu struc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o not hard-code colours, graphics, or font sizes and sty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ovide visual information that is redundant with audible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low users to configure frequency and volume of audible c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6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Physical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amples of cognitive impairments would be learning disabilities, dyslexia and poor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7" descr="http://tbn0.google.com/images?q=tbn:Z6QG70LjH1Y9_M:http://www.premierathome.com/products/text_t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645000"/>
            <a:ext cx="3095640" cy="2592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Cognitive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-181080" y="2359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wis (2004) made the following observations on these use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cial inclusion is most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ess to information is critical to social inclusion and increasingly reliant on technolo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me research shows that these users have the same problems with web-sites as other users but with greater seve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ess to textual information is diffic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bilities: Cognitively Disabl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haracters, numerals, special characters, and diacritical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ft-to-right versus right-to-left versus vertical input and read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te and time forma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umeric and currency forma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eights and measur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elephone numbers and address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ames and titles (Mr., Ms., Mme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cial-security, national identification, and passport numb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pitalization and punctua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rting sequ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cons, buttons, col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luralization, grammar, spell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tiquette, policies, tone, formality, metapho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755640" y="126828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tur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Draw a picture of how you would create a hands-free brolly which could be used with a buggy or p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xercise 2: A solution …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84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http://www.handsfreebrolly.co.uk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320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2420640"/>
            <a:ext cx="8785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Wyeth, P. &amp; Purchase, H. (2003)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Using Developmental Theories to Inform the Design of Technology for Child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Hawthorn, D. (2003)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How Universal is Good Design for Old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ec0"/>
                </a:solidFill>
                <a:latin typeface="Arial"/>
              </a:rPr>
              <a:t>Lewis (200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) ‘And When Did You Last See Your Father?’ Exploring the views of children with learning difficulties/ disabilities.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British Journal of Special Education,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31(1), 4-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0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5ec0"/>
                </a:solidFill>
                <a:latin typeface="Arial"/>
              </a:rPr>
              <a:t>Nielsen, J. (1995)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Advances in Human-Computer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ature of U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3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y different categories of users, impossible to consider 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you group us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0388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r Grou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0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rs vary with respect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omputer skills &amp; knowled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Disabil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3260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mputer Skills &amp;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86407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ndiscretionary users vs. discretionary 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vice  vs. exp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at design rules could be employed for each of these catego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32600" y="1244880"/>
            <a:ext cx="90475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86407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geing user vs. young u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at effect will they have on interface desig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8"/>
          <p:cNvSpPr/>
          <p:nvPr/>
        </p:nvSpPr>
        <p:spPr>
          <a:xfrm>
            <a:off x="3203640" y="3139920"/>
            <a:ext cx="2592360" cy="13687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Impairmen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due to 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222160" y="2341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62880" y="3494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hea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061800" y="23414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mo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89440" y="3637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268360" y="3781440"/>
            <a:ext cx="719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635280" y="2701800"/>
            <a:ext cx="21600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5364000" y="2773440"/>
            <a:ext cx="21600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6012000" y="3710160"/>
            <a:ext cx="57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4282920" y="471816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280320" y="573264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Loss of conf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Difficulty in orien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Absorption of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Agei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560" y="2060640"/>
            <a:ext cx="87850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Arial"/>
              </a:rPr>
              <a:t>Design Guidelines (Hawthorn, 2003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Simplify screen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rovide users with simple linear search spaces with few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ncrease size of fonts and contr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Reduce both windows management tasks and scro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Ensure contrast between text and back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Menus can introduce problems, toolbars may be an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Agei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8560" y="184464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Active learners drawing on physical and social experienc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Learn by do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Require something that they can see, touch and he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Prior to the age of 8, children rely on visual and auditory perception for knowled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78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3366"/>
                </a:solidFill>
                <a:latin typeface="Arial"/>
              </a:rPr>
              <a:t>Learning is through first hand experien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684360" y="1197000"/>
            <a:ext cx="914400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Young Us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: Young U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8080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008080"/>
                </a:solidFill>
                <a:latin typeface="Arial"/>
              </a:rPr>
              <a:t>Design Guidelines (Wyeth &amp; Purchase, 2003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Activities are open-ended and discovery-orie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action encourages child-initiated pl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volve active manipulation and transformation of real materi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Entry-level knowledge and skill is kept to a minim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Provision is made for children’s varied skill and ability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Construction activities that involve design, creation and evaluation processes form the basis of inter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1-12-02T12:47:06Z</cp:lastPrinted>
  <dcterms:modified xsi:type="dcterms:W3CDTF">2013-02-13T22:18:32Z</dcterms:modified>
  <cp:revision>44</cp:revision>
  <dc:subject/>
  <dc:title>Man and Machine: Introduction</dc:title>
</cp:coreProperties>
</file>