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11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12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7A26-D0E6-437C-B10C-19E57DD7FD32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5E0A-2D09-4973-92F9-CFB9ECA32EBD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3388-15A2-4308-A66B-7BE27E3B2F86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BCF3-5EDE-490C-B6A3-2B8585723404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3A17-9DA3-420F-88B9-9A9F9A4C4733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3E88-A85A-4EFD-9586-D983DF5506A7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83E0-E769-410F-959F-E17D597F2C7C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2798-CA7E-49E3-8702-9CDA24182B1A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B905-E6F1-46F8-9C12-ACC33B557490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B55E-347D-42FA-91F6-256EE84CCD8C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2992-952F-46C7-BF06-50EF74A1FBD1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AF71-183C-4395-A45D-D00CB1BA0B3E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7181-03D8-44D3-8330-34F06A1E477C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41C4-DB52-4C81-A612-B6CA070CBE02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03D9-65A5-4CCD-BE83-0A6FC035DFB2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35AD-F70A-4F61-BB50-6381993152B0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1030-CAF2-4339-A8A6-517DDF1993A0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982E-CB50-419E-B501-6A980AA140D4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C891-4D49-4DA8-9E65-649AF08D8695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DC1-54B2-43FE-93CC-802F1A099C4F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721-19C0-4EF8-8336-0F0B0B13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0D9-C988-4910-8D83-25E7064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CD2-08AD-4BE6-9928-2C9D19C9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CDC-2AAF-478D-B196-79FC54A7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3D1C-6B0A-4ACD-BABF-60B71BD7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DC0B-A28A-448C-A7DB-D53D720F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74CC-FA0A-4617-92B7-7D08B054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A5DC-1812-4C18-BD71-4766EAF3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3008-AAB9-417F-B664-5E696DEB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DAEA-96BD-48BA-8C4D-73016A4A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FDE2-FA05-47D3-897D-07EDA440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617-83C3-481A-876F-6CAB95FB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59B6-DDB3-4EC5-B139-80E76F69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C4C0-BA3E-4224-B491-6C7371EC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F2BD-0DC6-4E0B-A1B0-B6C644C4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8A72-01DA-47A2-8565-C8442F9E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D490-FFCD-44BA-AF54-08BB228C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9827-C18B-4579-AD57-3095739C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BABB-5514-4AD9-8F23-AA4C9667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2C8A-4089-4FCD-9DE8-E2056E0E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4B20-0D8E-4E7F-829F-5F99EDC2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AD61-75FD-4DFA-98A8-0B443036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68E-7435-4AE7-9125-47C8CF8C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653B-DBA1-4CB2-8F9A-24221D5B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8A0F-36F6-4915-BFAF-51EE0FE6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F236-18A5-41FF-B3E5-749A2370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CC03-C828-4DAF-AF32-1863751E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BDDA-8D12-4105-8930-4D7DA5CE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AD7C-5C24-4183-8A03-1929457E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9145-8A7F-4A53-88B5-C98D6910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DB3-956E-4A59-8DF8-D5DD2610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F4F-F8BC-4B9E-AE32-60B9A7BB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4DE-55B6-421A-B7CE-D800C3F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3CB-3C94-4D36-92BA-1B322684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EC6-CA5D-4A70-AFE3-1B1FCFA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D6F-4A19-42A5-A518-CF19CD4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62A7-6190-4202-95D5-AC619F106A4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FB5A-5418-4C55-B3B2-8513D44F174D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A9BF-6820-4605-AB03-C199EB0DD6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emierathome.com/products/text_t1.jpg&amp;imgrefurl=http://www.premierathome.com/products/texttoaudio.php&amp;h=480&amp;w=615&amp;sz=70&amp;hl=en&amp;start=3&amp;um=1&amp;usg=__Ai6WFlK_pK-43JSS7l0w9-Z-mvU=&amp;tbnid=Z6QG70LjH1Y9_M:&amp;tbnh=106&amp;tbnw=136&amp;prev=/images?q=%2522text+to+audio%2522&amp;imgsz=small%257Cmedium%257Clarge%257Cxlarge&amp;um=1&amp;hl=en&amp;rls=ADBS,ADBS:2006-33,ADBS:en&amp;sa=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Damian Gor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Consider the Us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Subtitle 1"/>
          <p:cNvSpPr/>
          <p:nvPr/>
        </p:nvSpPr>
        <p:spPr>
          <a:xfrm>
            <a:off x="5867280" y="2349360"/>
            <a:ext cx="322272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Andrea Curl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0388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hysically disabl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gnitively disabl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03880" y="131616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: Physically Disab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2332080"/>
            <a:ext cx="885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mpairments can include lack of mobility, low vision, blind and hea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lternative channels of interact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peech recogn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une recogn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ip-rea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ody-electric sens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0" y="2332080"/>
            <a:ext cx="87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Design Guidelines (Nielsen, 1995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rovide keyboard access to application featu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ollow key-mapping guidelines or the local environ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void placing frequently used functions deep in a menu struc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o not hard-code colours, graphics, or font sizes and sty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rovide visual information that is redundant with audible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llow users to configure frequency and volume of audible c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6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755640" y="126828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: Physically Disabl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amples of cognitive impairments would be learning disabilities, dyslexia and poor mem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7" descr="http://tbn0.google.com/images?q=tbn:Z6QG70LjH1Y9_M:http://www.premierathome.com/products/text_t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645000"/>
            <a:ext cx="3095640" cy="25923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755640" y="126828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: Cognitively Disabl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-181080" y="2359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ewis (2004) made the following observations on these user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cial inclusion is most import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ccess to information is critical to social inclusion and increasingly reliant on technolo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me research shows that these users have the same problems with web-sites as other users but with greater seve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ccess to textual information is difficu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755640" y="126828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: Cognitively Disabl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haracters, numerals, special characters, and diacritical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eft-to-right versus right-to-left versus vertical input and readi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ate and time forma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umeric and currency forma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Weights and measur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elephone numbers and address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ames and titles (Mr., Ms., Mme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cial-security, national identification, and passport numb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apitalization and punctua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rting sequen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cons, buttons, colo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luralization, grammar, spelli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tiquette, policies, tone, formality, metapho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755640" y="126828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ultur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Draw a picture of how you would create a hands-free brolly which could be used with a buggy or p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xercise 2: A solution …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844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http://www.handsfreebrolly.co.uk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03200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918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9280" y="2420640"/>
            <a:ext cx="8785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90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5ec0"/>
                </a:solidFill>
                <a:latin typeface="Arial"/>
              </a:rPr>
              <a:t>Wyeth, P. &amp; Purchase, H. (2003) 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Using Developmental Theories to Inform the Design of Technology for Child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0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5ec0"/>
                </a:solidFill>
                <a:latin typeface="Arial"/>
              </a:rPr>
              <a:t>Hawthorn, D. (2003)</a:t>
            </a: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How Universal is Good Design for Old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0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ec0"/>
                </a:solidFill>
                <a:latin typeface="Arial"/>
              </a:rPr>
              <a:t>Lewis (200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) ‘And When Did You Last See Your Father?’ Exploring the views of children with learning difficulties/ disabilities.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 British Journal of Special Education,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31(1), 4-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0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5ec0"/>
                </a:solidFill>
                <a:latin typeface="Arial"/>
              </a:rPr>
              <a:t>Nielsen, J. (1995) 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Advances in Human-Computer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0388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ature of Us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3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ny different categories of users, impossible to consider 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you group us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0388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r Grou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0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s vary with respect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Computer skills &amp; knowled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Disabil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3260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mputer Skills &amp; Knowle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864072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ndiscretionary users vs. discretionary 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vice  vs. expe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What design rules could be employed for each of these catego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3260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864072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geing user vs. young u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What effect will they have on interface desig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8"/>
          <p:cNvSpPr/>
          <p:nvPr/>
        </p:nvSpPr>
        <p:spPr>
          <a:xfrm>
            <a:off x="3203640" y="3139920"/>
            <a:ext cx="2592360" cy="13687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Impairmen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due to 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222160" y="23414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vi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662880" y="3494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hear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061800" y="23414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mo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89440" y="3637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268360" y="3781440"/>
            <a:ext cx="719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3635280" y="2701800"/>
            <a:ext cx="21600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H="1">
            <a:off x="5364000" y="2773440"/>
            <a:ext cx="21600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6012000" y="3710160"/>
            <a:ext cx="57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4282920" y="471816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280320" y="5732640"/>
            <a:ext cx="271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Loss of confid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Difficulty in orient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Absorption of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684360" y="119700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: Ageing Use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8560" y="2060640"/>
            <a:ext cx="87850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Arial"/>
              </a:rPr>
              <a:t>Design Guidelines (Hawthorn, 2003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Simplify screen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Provide users with simple linear search spaces with few o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Increase size of fonts and contr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Reduce both windows management tasks and scro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Ensure contrast between text and backgr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Menus can introduce problems, toolbars may be an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684360" y="119700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: Ageing Use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8560" y="184464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Active learners drawing on physical and social experienc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Learn by do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Require something that they can see, touch and he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Prior to the age of 8, children rely on visual and auditory perception for knowledg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Learning is through first hand experienc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684360" y="119700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: Young Use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: Young Us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IE" sz="2000" spc="-1" strike="noStrike">
                <a:solidFill>
                  <a:srgbClr val="008080"/>
                </a:solidFill>
                <a:latin typeface="Arial"/>
              </a:rPr>
              <a:t>Design Guidelines (Wyeth &amp; Purchase, 2003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Activities are open-ended and discovery-orien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Interaction encourages child-initiated pl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Involve active manipulation and transformation of real materia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Entry-level knowledge and skill is kept to a minim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Provision is made for children’s varied skill and ability lev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Construction activities that involve design, creation and evaluation processes form the basis of inter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43:16Z</dcterms:created>
  <dc:creator>Dept of Maths</dc:creator>
  <dc:description/>
  <dc:language>en-US</dc:language>
  <cp:lastModifiedBy>DIT</cp:lastModifiedBy>
  <cp:lastPrinted>2011-12-02T12:47:06Z</cp:lastPrinted>
  <dcterms:modified xsi:type="dcterms:W3CDTF">2013-02-13T22:18:32Z</dcterms:modified>
  <cp:revision>44</cp:revision>
  <dc:subject/>
  <dc:title>Man and Machine: Introduction</dc:title>
</cp:coreProperties>
</file>