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3177-4BD5-4279-9281-9F42C91642BC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8967-389F-4EDF-AD76-4E667B64DD9F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1E2-45C7-4496-9C18-C5FEFAFA9D4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505-F2EE-4BA3-8D2B-4CC8C037632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0B2-75DA-470F-8555-0571B4B823F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7EC-CC62-4925-8B96-CE85FBCB436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452-45DD-463D-B0CF-9E7DBCF0A8C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317F-6C54-48F0-8ABC-68AAA18E80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EC9-2F56-4B4E-B316-A11780E7173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D30-F527-434E-B444-DC619760EE7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ess, but better – because it concentrates on the essential aspects, and the designs are not burdened with non-essent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28EB-9C77-4F06-A514-B9B68EF4C73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othing must be arbitrary or left to chance. Care and accuracy in the design process show respect towards the us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A6A-CA4B-44CB-8CE1-1FAB98B1C65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B09-879F-4324-8FF7-A555F238862B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nest – O.K., I know it’s a strange way of talking about design to first years, but the student needs to know that they have to design sincerely, they have to put a genuine effort into creating a good design, they can’t just throw something together, they have to “believe” in their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5BC-D92E-4420-A07E-2065A53E7A4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D691-4145-437A-BF9B-091329EF7E0A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554-B98B-4B78-9F7B-78C18950A7ED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3CC-0BE1-4F22-8157-CA2B7FB00FA8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95F-7954-4B68-9E38-A34C3EF72023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ED6-B11D-43DA-8767-333EBAA1BFA5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CC2-AF0C-4C7D-B8BC-01971DFACAF3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CE7-8E56-4136-9BA4-322AD78B6CA8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D55F-A77F-44BC-937B-64F0D4C793D6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F74-9A2A-4DB6-B46B-47506286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1D4-8FD5-428C-AC71-1D55517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DBD-1A2D-48A0-98E8-332CC99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C1B-F110-4D2D-855F-C5ED33B1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ADD0-8C4E-49D9-80A6-E2C7B0DF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4E6B-EEBF-4276-8E43-2DED41E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097D-4614-49F7-89C4-8E57FE55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4A06-7B09-4335-9C1E-4F8E1CFB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298E-D060-435F-BCE8-B492A25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6A3-5B13-4552-AC41-3ACDF65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E0C-7947-45DA-94CD-D7BFFCD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B0F-BD25-4DC4-9D15-958F0B1C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C2E-466D-47CB-8B9A-ACF896E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9A1D-FBFD-4FB9-8913-82F5F45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855B-8EBC-4359-8EC3-53E65F98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09D7-A73E-4507-87A9-BFBE9696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349B-8D2F-491C-B323-EE301776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56C-0A2C-46BA-A3F3-34B5AC0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BD3-E6B2-4D68-BC14-05260E16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B4C-0C86-4659-9CAE-0BB1283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529-9B83-4429-BF0F-4AD5543E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EAA-AADB-423B-B07F-41CEE6B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532-B8E3-41FF-85F4-562F12B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43B-C875-4EE7-AE11-252FCBB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9C87-609C-4575-B8EE-00DFC91C3C0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408-2BB5-40A7-9217-BBBCCD864B2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 (well, really it’s all from Dieter Ram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3366"/>
                </a:solidFill>
                <a:latin typeface="Arial"/>
              </a:rPr>
              <a:t>To start off thinking about design in detail, the following slides have statements about design by Dieter Rams, I want us to discuss the following statement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Creative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Aesthetic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Sustainable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Consistent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2349000"/>
            <a:ext cx="8569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Understandable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Unobtrusive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Useful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Minimalist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Thorough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Rams_BW_portrait-Abisag-Tullmann.jpg"/>
          <p:cNvPicPr/>
          <p:nvPr/>
        </p:nvPicPr>
        <p:blipFill>
          <a:blip r:embed="rId1"/>
          <a:stretch/>
        </p:blipFill>
        <p:spPr>
          <a:xfrm>
            <a:off x="0" y="981000"/>
            <a:ext cx="9124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Good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~ is ~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3366"/>
                </a:solidFill>
                <a:latin typeface="Arial"/>
              </a:rPr>
              <a:t>Honest Design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Good Design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Creative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Aesthetic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Sustainable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Consistent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Understandable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Unobtrusive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Useful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Minimalist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horough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Honest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Dieter 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born May 20, 1932 in Wiesbaden, Hess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s a German industrial designer closely associated with the consumer products company Braun and the Functionalist school of industrial desig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Dieter 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e designed the SK-4 record player and the high-quality 'D'-series (D45, D46) of 35 mm film slide projectors. He is also known for designing the 606 Universal Shelving System by Vitsœ in 196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Braun-ABR 21-Dieter-Rams-Dietrich-Lubs-1978_edited-1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3" descr="dr3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3" descr="braun-dieter-rams-and-lubs-calculator-apple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dieter-rams_tootedisain_88bik4.jpg"/>
          <p:cNvPicPr/>
          <p:nvPr/>
        </p:nvPicPr>
        <p:blipFill>
          <a:blip r:embed="rId1"/>
          <a:stretch/>
        </p:blipFill>
        <p:spPr>
          <a:xfrm>
            <a:off x="-3240" y="836640"/>
            <a:ext cx="91504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dieter_rams_031.jpg"/>
          <p:cNvPicPr/>
          <p:nvPr/>
        </p:nvPicPr>
        <p:blipFill>
          <a:blip r:embed="rId1"/>
          <a:stretch/>
        </p:blipFill>
        <p:spPr>
          <a:xfrm>
            <a:off x="1908000" y="119160"/>
            <a:ext cx="57754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1-12-02T12:47:06Z</cp:lastPrinted>
  <dcterms:modified xsi:type="dcterms:W3CDTF">2013-02-13T22:23:05Z</dcterms:modified>
  <cp:revision>49</cp:revision>
  <dc:subject/>
  <dc:title>Man and Machine: Introduction</dc:title>
</cp:coreProperties>
</file>