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E7D2-23C7-4861-96F7-172FCBD3CC1D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53D4-48DA-467E-BFB0-0E734826AE64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DD8E-11FA-47DE-8396-01D94031100D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348E-37B0-4CA8-A495-89838BBDBEC7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962B-0DDE-47FD-8DD1-B0BC2CEE7C2C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07F9-AB35-41F9-B2CB-76529FEF5AAA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45F9-9011-42DC-A82F-D65987BFD9AB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6FA-4AD1-4C80-9670-AD157580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0BF-BFDF-43DE-AF8A-0ED141B9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A79-0196-490E-AB98-CCD3A2AD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8F8-A2D5-4177-8C25-73F46A42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18FD-7A50-4E0B-AE0A-29042A23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AF53-AC17-47B2-B5C4-66AF536A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5D78-6EB4-46D3-BF2F-94BFF1AD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2BD9-65AC-4E60-81BD-77E06CF5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9F7F-624C-4FD6-B20E-DBB7C53B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7D73-DAB6-424E-BB2D-2F79BC54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1AD4-08EE-477E-8A10-8F0D0BB7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02B-AB40-41D8-B5AA-71322890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88FC-0E03-4C71-9A09-E6F05DB3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43CA-9295-4C95-8D17-E27D2A5F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9EF3-0A8E-495A-84CA-7F6DBA9B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ED7F-2833-43B5-BABE-E428461D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2E3E-7301-4EDA-B4BE-64F00F86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25E-BCE3-4655-9D48-300DC36D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A7D-14ED-4C58-92FD-766932A6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019-F6A1-4035-80AD-C5FFAC74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398-67FB-4061-9327-585432C7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53B-A6E9-4B72-A2BF-A870FF2A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0A6-ACAD-4BCF-9055-CB64ADD8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850-D830-44B8-A042-0DB691B2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9595-5D58-4D54-8133-E1941A4C264A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77CE-90F3-4BAC-AA82-9665031D9D6A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73520" y="297504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Damian Gord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Why Do I Need This Modul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Subtitle 1"/>
          <p:cNvSpPr/>
          <p:nvPr/>
        </p:nvSpPr>
        <p:spPr>
          <a:xfrm>
            <a:off x="5888160" y="2349360"/>
            <a:ext cx="322092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Andrea Curl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20360" y="720000"/>
            <a:ext cx="898920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xample of bad and good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I plug the USB connector in, I frequently turn it the wrong 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esign sugges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296360" y="65437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</a:rPr>
              <a:t>From: www.baddesigns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3348000" y="3141720"/>
            <a:ext cx="2343240" cy="1752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4788000" y="5084640"/>
            <a:ext cx="257148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62920" y="847080"/>
            <a:ext cx="898992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here do I put my laser/credit car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7380360" cy="45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720000" y="715320"/>
            <a:ext cx="898992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do I set the statio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838836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What is wrong with thi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Picture 2" descr="Screen Shot 2011-12-01 at 14.10.15.png"/>
          <p:cNvPicPr/>
          <p:nvPr/>
        </p:nvPicPr>
        <p:blipFill>
          <a:blip r:embed="rId1"/>
          <a:stretch/>
        </p:blipFill>
        <p:spPr>
          <a:xfrm>
            <a:off x="19080" y="2492280"/>
            <a:ext cx="91440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xercis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Pick any 4 items from around the roo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E.g. Chairs, windows, floor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How well do they achieve their fun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How effective would they be for each of the Normal fami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3:43:16Z</dcterms:created>
  <dc:creator>Dept of Maths</dc:creator>
  <dc:description/>
  <dc:language>en-US</dc:language>
  <cp:lastModifiedBy>DIT</cp:lastModifiedBy>
  <cp:lastPrinted>2011-12-02T12:47:06Z</cp:lastPrinted>
  <dcterms:modified xsi:type="dcterms:W3CDTF">2013-02-13T21:30:44Z</dcterms:modified>
  <cp:revision>44</cp:revision>
  <dc:subject/>
  <dc:title>Man and Machine: Introduction</dc:title>
</cp:coreProperties>
</file>