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9867-0EBB-4768-BC11-D4A11EA1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BD76-FBFB-4782-99AB-2AEB24A8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4354-820E-486E-BA69-2C5F6EEB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AB7-0860-4F37-A355-DE270DB3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B928-CE80-4A57-9893-1DF3F9C0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1977-D6E3-4062-B513-D6D94B4C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5B76-CB17-439B-A533-5159ECE9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61DC-95D9-47A7-9904-F6DC5EA6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5569E-8B4A-40DD-868B-8E60A78B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4308-755A-4A06-82FD-8DC4B3EB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6D8B-0F5F-428A-A883-BABC9846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B314-6073-4030-B2DD-F2A19B56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5DBB-0100-4CE2-AF30-9FFE9560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CEC8-E786-4328-B178-DCE5F3E3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4BB3-28F2-466E-A7E1-2535D7B3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A75D-62EF-4A08-8692-AD69E052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DCFE-8689-45AA-A76F-E5338AA7D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0246-D977-42FB-B004-92FB0135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C8F-4247-44BD-8CBB-F4396F87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415-796D-4E9B-9EBB-98B982B8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30E-EA81-4680-83DD-DC0EB925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8097-FEC2-46B9-8832-9469DD3D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66DE-1A08-4EE7-A3B1-5FA8DE54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F473-8D35-4CAF-89D7-C417A4B1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D63F-3259-4877-8446-4CF8867ED8F7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A479-C0BF-4935-90AD-DA152CD9A0D0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Universal Design for Learning:</a:t>
            </a:r>
            <a:br>
              <a:rPr sz="3600"/>
            </a:b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iverse Learn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7" name="Picture 5" descr="FECover"/>
          <p:cNvPicPr/>
          <p:nvPr/>
        </p:nvPicPr>
        <p:blipFill>
          <a:blip r:embed="rId1"/>
          <a:stretch/>
        </p:blipFill>
        <p:spPr>
          <a:xfrm>
            <a:off x="1092240" y="3132000"/>
            <a:ext cx="215748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Gender Iss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fferences that are socially constructed and often taken for granted in socie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d may vary from culture to cul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es gender influence the roles people take and what can educators do to challenge these assumption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Gender Iss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es gender operate within different specialism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Gender Iss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es gender operate within different specialism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puter Sc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Gender Iss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es gender operate within different specialism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mputer Sc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Ambient belonging: How stereotypical cues impact gender participation in computer science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Sapna Cheryan, Victoria C. Plaut, Paul G. Davies, Claude M. Steele. Journal of Personality and Social Psychology 2009; 97(6): 1045-1060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Gender Iss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ngs to consi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ow well balanced is the distribution of gender in you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Gro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Teaching tea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Labour marke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ere is the course advertise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kind of language is employe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s there childcare availabl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re staff trained in gender equa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s there contacts with those working in a labour marke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mo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motional state effects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t would be wonderful to imagine that learning is purely an intellectual pursuit, but your emotions have a very significant impact on your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mo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e behaviouristic view would have it that emotions are merely forms of behaviour and have no inherent rationa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rom a humanistic perspective (Carl Rogers) new ideas can sometimes be threatening to students therefore it is important for the teacher to form a relationship with the stu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mo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eachers must try to take account the “emotional climate” of the cla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is the morale lik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How is conflict and dissent handle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What are the beginnings and ends of class lik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Always respect feelings no matter how inappropriate they may appe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on’t be afraid to include students emotions in the classroom, “How do you feel about…?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ge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nsider the potential diversity of age range in your classroom, are there any younger or older than typically expected ranges in the classroom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does it affect your “duty-of-care”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nd contractual responsibilities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yslexi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Very misunderst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ny theor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nner-ear issues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ay have issues with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pel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Rea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ri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Learn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peakers of Other Langu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Gen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mo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yslex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yslexi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f you are using new or complex terminology, make sure you explain it, or it is clear from the context of the sentence around 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ometimes students are so focused on understanding each work, they can miss the meaning of the sentence or skip a line in the middle of the sent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Keep sentences short 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yslexi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PEL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ARTs: Directed Activities for Reading Texts, activities involving highlighting, cutting-and-pasting and moving around enlarged 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Where possible use visual information as well as tex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Help learners devise their own pictures and diagr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yslexi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SCWC: Look, Say, Cover, Write, Che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se word processing, and spell-che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se dragon dict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peakers of Other Langua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People for whom English is their second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SOL – English for Speakers of Other Langu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SL – English as a Second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AL – English as an Additional Langu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SP – English for Special Purpo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AP – English for Academic Purpo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eaching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eaching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4" name="Picture 3" descr="euros"/>
          <p:cNvPicPr/>
          <p:nvPr/>
        </p:nvPicPr>
        <p:blipFill>
          <a:blip r:embed="rId1"/>
          <a:stretch/>
        </p:blipFill>
        <p:spPr>
          <a:xfrm>
            <a:off x="1332000" y="2781360"/>
            <a:ext cx="684036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istory of Language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Early theories of language learning suggested that there is only a limited capacity in the brain for language learning, and the more of a second language you learn, the more you forget your first language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Although a body of research shows that this is not at all the case, nonetheless some people still see this as “commonsens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t fact the contrary is true, the better you speak one language, the easier you will find it to learn anoth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Baker, C. (2002) Foundations of Bilingual Education and Bilingualism. Third Edition. Cleved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Valuing Multilingualis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ultilingualism can be a real asset in the classroom and teachers need to find the benefits of it  for all students in the classro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raw on the cultures, languages, experiences of all students in the classroo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me Sugg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 short sent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void Idioms, colloquialisms, and figurative language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.g. “raining cats and dogs”, “chalk and cheese”, “turning your nose up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nsider the use of technical terms that have an alternative common mea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E.g. “Mouse” (computer, rodent), Weight (Mass, Force), Artefacts (distortions on video, stuf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ome Sugg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dentify anecdotes and digres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udents may not be able to distingui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en speaking try to avoid words with similar sound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heap” and “Chic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rteen” and “Thirty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ridge” and “Fringe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21:49:20Z</dcterms:created>
  <dc:creator>dgordon</dc:creator>
  <dc:description/>
  <dc:language>en-US</dc:language>
  <cp:lastModifiedBy>dgordon</cp:lastModifiedBy>
  <dcterms:modified xsi:type="dcterms:W3CDTF">2011-03-22T11:53:39Z</dcterms:modified>
  <cp:revision>5</cp:revision>
  <dc:subject/>
  <dc:title>Universal Design for Learning: Diverse Learners</dc:title>
</cp:coreProperties>
</file>