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F43-5B42-4CA5-BCFB-894053FA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2EB-2BA1-4B21-8925-66B192D5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E55-606B-42AE-9FE1-F7FBBE0E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309-D5F0-4B5E-BD19-DC1E6A3F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75D1-740D-40D6-8ECB-DDB02BFF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9116-BB01-4E3B-9C25-91AFE029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D85E-2580-4803-9B2F-CF6EB1D2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22D6-F4B3-4C7A-BE52-7FA9534C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A636-3ADE-42B4-8828-EAC629CF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50B2-50A7-40C3-A585-81275757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D553-D5B3-492B-B56D-35280730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17D-84A0-492B-982F-131EE6AF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53A7-6D9E-4AA5-A4F5-8B800B34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0B32-CE88-4DC8-8E66-562AAC69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AA9F-85D8-4A1B-8B36-323E5262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CB52-1E9F-4F42-9475-026384F0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AC9B-CD59-49F7-BEBD-CDE06498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81F-9AB4-445D-A949-79ACC1FB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2D9-4789-442D-8CE0-DA069465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98D-F9C8-4BD6-9EB2-F596C1F6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3C8-32B9-4BB6-A72F-21649C38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052-2960-4C38-91AE-C1FED206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38F3-7E81-4D0E-82B6-7EA12AE2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99D-3599-4898-A7F7-20069D7D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952F-C7C8-4FF1-A744-A9379B82C148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DF76-97E8-494F-898F-EF5F8F7D54C2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Universal Design for Learning:</a:t>
            </a:r>
            <a:br>
              <a:rPr sz="3600"/>
            </a:b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iverse Learn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5" descr="FECover"/>
          <p:cNvPicPr/>
          <p:nvPr/>
        </p:nvPicPr>
        <p:blipFill>
          <a:blip r:embed="rId1"/>
          <a:stretch/>
        </p:blipFill>
        <p:spPr>
          <a:xfrm>
            <a:off x="1092240" y="3132000"/>
            <a:ext cx="21574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Gender Iss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fferences that are socially constructed and often taken for granted in socie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d may vary from culture to cul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es gender influence the roles people take and what can educators do to challenge these assump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Gender Iss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es gender operate within different specialism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Gender Iss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es gender operate within different specialism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puter Sc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Gender Iss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es gender operate within different specialism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puter Sc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Ambient belonging: How stereotypical cues impact gender participation in computer science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Sapna Cheryan, Victoria C. Plaut, Paul G. Davies, Claude M. Steele. Journal of Personality and Social Psychology 2009; 97(6): 1045-1060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Gender Iss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ngs to consi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w well balanced is the distribution of gender in you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Gro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eaching tea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Labour mark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is the course advertise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kind of language is employe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s there childcare availabl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re staff trained in gender equa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s there contacts with those working in a labour marke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mo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motional state effects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t would be wonderful to imagine that learning is purely an intellectual pursuit, but your emotions have a very significant impact on your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mo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behaviouristic view would have it that emotions are merely forms of behaviour and have no inherent ration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rom a humanistic perspective (Carl Rogers) new ideas can sometimes be threatening to students therefore it is important for the teacher to form a relationship with the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mo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eachers must try to take account the “emotional climate” of the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s the morale lik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w is conflict and dissent handle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are the beginnings and ends of class lik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lways respect feelings no matter how inappropriate they may appe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on’t be afraid to include students emotions in the classroom, “How do you feel about…?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ge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sider the potential diversity of age range in your classroom, are there any younger or older than typically expected ranges in the classroom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es it affect your “duty-of-care”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d contractual responsibilities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yslexi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Very misunderst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ny the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ner-ear issues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y have issues wi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pel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a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Learn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peakers of Other Langu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mo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yslex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yslexi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f you are using new or complex terminology, make sure you explain it, or it is clear from the context of the sentence around 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ometimes students are so focused on understanding each work, they can miss the meaning of the sentence or skip a line in the middle of the sent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Keep sentences short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yslexi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PE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ARTs: Directed Activities for Reading Texts, activities involving highlighting, cutting-and-pasting and moving around enlarged 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ere possible use visual information as well as 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Help learners devise their own pictures and diagr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yslexi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SCWC: Look, Say, Cover, Write, Che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 word processing, and spell-che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 dragon dict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peakers of Other Langua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eople for whom English is their second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SOL – English for Speakers of Other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SL – English as a Second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AL – English as an Additional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SP – English for Special Purpo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AP – English for Academic Purpo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eaching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eaching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3" descr="euros"/>
          <p:cNvPicPr/>
          <p:nvPr/>
        </p:nvPicPr>
        <p:blipFill>
          <a:blip r:embed="rId1"/>
          <a:stretch/>
        </p:blipFill>
        <p:spPr>
          <a:xfrm>
            <a:off x="1332000" y="2781360"/>
            <a:ext cx="68403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istory of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arly theories of language learning suggested that there is only a limited capacity in the brain for language learning, and the more of a second language you learn, the more you forget your first language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lthough a body of research shows that this is not at all the case, nonetheless some people still see this as “commonsens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t fact the contrary is true, the better you speak one language, the easier you will find it to learn anoth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Baker, C. (2002) Foundations of Bilingual Education and Bilingualism. Third Edition. Cleved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Valuing Multilingual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ultilingualism can be a real asset in the classroom and teachers need to find the benefits of it  for all students in the classro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raw on the cultures, languages, experiences of all students in the classro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me Sugg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 short sent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void Idioms, colloquialisms, and figurative language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.g. “raining cats and dogs”, “chalk and cheese”, “turning your nose up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sider the use of technical terms that have an alternative common mea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.g. “Mouse” (computer, rodent), Weight (Mass, Force), Artefacts (distortions on video, stuf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me Sugg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dentify anecdotes and digres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udents may not be able to distingui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en speaking try to avoid words with similar sound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heap” and “Chic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rteen” and “Thirty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ridge” and “Fring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1:49:20Z</dcterms:created>
  <dc:creator>dgordon</dc:creator>
  <dc:description/>
  <dc:language>en-US</dc:language>
  <cp:lastModifiedBy>dgordon</cp:lastModifiedBy>
  <dcterms:modified xsi:type="dcterms:W3CDTF">2011-03-22T11:53:39Z</dcterms:modified>
  <cp:revision>5</cp:revision>
  <dc:subject/>
  <dc:title>Universal Design for Learning: Diverse Learners</dc:title>
</cp:coreProperties>
</file>