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gif" ContentType="image/gif"/>
  <Override PartName="/ppt/media/image28.jpeg" ContentType="image/jpeg"/>
  <Override PartName="/ppt/media/image26.gif" ContentType="image/gif"/>
  <Override PartName="/ppt/media/image20.jpeg" ContentType="image/jpeg"/>
  <Override PartName="/ppt/media/image22.png" ContentType="image/png"/>
  <Override PartName="/ppt/media/image24.jpeg" ContentType="image/jpeg"/>
  <Override PartName="/ppt/media/image21.png" ContentType="image/png"/>
  <Override PartName="/ppt/media/image18.jpeg" ContentType="image/jpeg"/>
  <Override PartName="/ppt/media/image17.jpeg" ContentType="image/jpeg"/>
  <Override PartName="/ppt/media/image6.jpeg" ContentType="image/jpeg"/>
  <Override PartName="/ppt/media/image8.png" ContentType="image/png"/>
  <Override PartName="/ppt/media/image33.png" ContentType="image/png"/>
  <Override PartName="/ppt/media/image29.jpeg" ContentType="image/jpeg"/>
  <Override PartName="/ppt/media/image30.jpeg" ContentType="image/jpeg"/>
  <Override PartName="/ppt/media/image32.jpeg" ContentType="image/jpeg"/>
  <Override PartName="/ppt/media/image35.png" ContentType="image/png"/>
  <Override PartName="/ppt/media/image13.jpeg" ContentType="image/jpeg"/>
  <Override PartName="/ppt/media/image23.png" ContentType="image/png"/>
  <Override PartName="/ppt/media/image11.png" ContentType="image/png"/>
  <Override PartName="/ppt/media/image34.png" ContentType="image/png"/>
  <Override PartName="/ppt/media/image12.jpeg" ContentType="image/jpeg"/>
  <Override PartName="/ppt/media/image3.jpeg" ContentType="image/jpeg"/>
  <Override PartName="/ppt/media/image37.jpeg" ContentType="image/jpeg"/>
  <Override PartName="/ppt/media/image39.png" ContentType="image/png"/>
  <Override PartName="/ppt/media/image38.jpeg" ContentType="image/jpeg"/>
  <Override PartName="/ppt/media/image7.jpeg" ContentType="image/jpeg"/>
  <Override PartName="/ppt/media/image4.jpeg" ContentType="image/jpeg"/>
  <Override PartName="/ppt/media/image19.jpeg" ContentType="image/jpeg"/>
  <Override PartName="/ppt/media/image25.png" ContentType="image/png"/>
  <Override PartName="/ppt/media/image36.jpeg" ContentType="image/jpeg"/>
  <Override PartName="/ppt/media/image2.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5.wmf" ContentType="image/x-wmf"/>
  <Override PartName="/ppt/media/image9.gif" ContentType="image/gi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9A1CE-9A96-45D3-9A2C-5ADF11F84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2D98C-5B68-41A7-B29E-0D3E83469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4ECD6-2D00-459A-B42C-D4337BA80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31161-13B1-4863-9BD7-8314434E9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A2E29-87B6-4E10-A8D3-45975F86A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5BE33-3FAB-418E-849A-73A96632C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9574E-6AF7-4EB8-B0B0-4BC0BDAD0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1C029-804C-4DF0-AD8A-E34CEC3B3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A0C5F-5A17-43F3-947E-4E2BA97B7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0F98B-445D-4EE4-81C9-37CCB803A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51867-D868-4D6A-9950-291F72236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CD9DE-8028-4399-B4BE-915ED97E0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76877-4D52-4764-ACD6-3D3B96704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FD2DA-8B3C-4351-B065-9D45A7007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DF507-E18E-48DC-904C-137F1774B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7D853-4685-4FB6-B928-41B699D08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73095-C279-41A1-8BCF-67FF7B019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FBC38-7DA2-4489-AB68-E19805254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88D34-DA14-4E12-9E36-753E22C6E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C0DB2-CB15-479C-9FED-09A216945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24FDC-9CE1-46D8-AC8C-EABA1C44C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99D46-44A8-48FC-8746-AE98BC065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6BCA-B9A5-4786-9437-094CB4E19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3C1B9-1784-43E9-A457-39680AB56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E911-F126-419C-AE0A-D6B50156545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17D3-C05D-450C-9A40-EABE692C790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Cognitivism</a:t>
            </a:r>
            <a:endParaRPr b="1" lang="en-US" sz="4800" spc="-1" strike="noStrike">
              <a:solidFill>
                <a:srgbClr val="330066"/>
              </a:solidFill>
              <a:latin typeface="Arial"/>
            </a:endParaRPr>
          </a:p>
        </p:txBody>
      </p:sp>
      <p:pic>
        <p:nvPicPr>
          <p:cNvPr id="150" name="Picture 7" descr="RubinGestalt"/>
          <p:cNvPicPr/>
          <p:nvPr/>
        </p:nvPicPr>
        <p:blipFill>
          <a:blip r:embed="rId1"/>
          <a:stretch/>
        </p:blipFill>
        <p:spPr>
          <a:xfrm>
            <a:off x="4137120" y="2862360"/>
            <a:ext cx="3085920" cy="34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stalt Psychology</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ut it is better stated that </a:t>
            </a:r>
            <a:r>
              <a:rPr b="0" i="1" lang="en-GB" sz="3000" spc="-1" strike="noStrike">
                <a:solidFill>
                  <a:srgbClr val="000000"/>
                </a:solidFill>
                <a:latin typeface="Arial"/>
              </a:rPr>
              <a:t>the qualities of the whole have additional qualities that that parts do not have, </a:t>
            </a:r>
            <a:r>
              <a:rPr b="0" lang="en-GB" sz="3000" spc="-1" strike="noStrike">
                <a:solidFill>
                  <a:srgbClr val="000000"/>
                </a:solidFill>
                <a:latin typeface="Arial"/>
              </a:rPr>
              <a:t>e.g. the four lines on the right have the additional quality of “squareness” that the lines on the left do not.</a:t>
            </a:r>
            <a:endParaRPr b="0" lang="en-US" sz="3000" spc="-1" strike="noStrike">
              <a:solidFill>
                <a:srgbClr val="000000"/>
              </a:solidFill>
              <a:latin typeface="Arial"/>
            </a:endParaRPr>
          </a:p>
        </p:txBody>
      </p:sp>
      <p:pic>
        <p:nvPicPr>
          <p:cNvPr id="178" name="Picture 4" descr="RubinGestalt"/>
          <p:cNvPicPr/>
          <p:nvPr/>
        </p:nvPicPr>
        <p:blipFill>
          <a:blip r:embed="rId1"/>
          <a:stretch/>
        </p:blipFill>
        <p:spPr>
          <a:xfrm>
            <a:off x="7542360" y="115920"/>
            <a:ext cx="1484280" cy="1657440"/>
          </a:xfrm>
          <a:prstGeom prst="rect">
            <a:avLst/>
          </a:prstGeom>
          <a:ln w="0">
            <a:noFill/>
          </a:ln>
        </p:spPr>
      </p:pic>
      <p:sp>
        <p:nvSpPr>
          <p:cNvPr id="179" name="Straight Connector 5"/>
          <p:cNvSpPr/>
          <p:nvPr/>
        </p:nvSpPr>
        <p:spPr>
          <a:xfrm>
            <a:off x="183528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6"/>
          <p:cNvSpPr/>
          <p:nvPr/>
        </p:nvSpPr>
        <p:spPr>
          <a:xfrm>
            <a:off x="241128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8"/>
          <p:cNvSpPr/>
          <p:nvPr/>
        </p:nvSpPr>
        <p:spPr>
          <a:xfrm>
            <a:off x="298764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0"/>
          <p:cNvSpPr/>
          <p:nvPr/>
        </p:nvSpPr>
        <p:spPr>
          <a:xfrm>
            <a:off x="363528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11"/>
          <p:cNvSpPr/>
          <p:nvPr/>
        </p:nvSpPr>
        <p:spPr>
          <a:xfrm>
            <a:off x="529272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12"/>
          <p:cNvSpPr/>
          <p:nvPr/>
        </p:nvSpPr>
        <p:spPr>
          <a:xfrm>
            <a:off x="5364000" y="4437000"/>
            <a:ext cx="180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13"/>
          <p:cNvSpPr/>
          <p:nvPr/>
        </p:nvSpPr>
        <p:spPr>
          <a:xfrm flipH="1">
            <a:off x="5363640" y="6453360"/>
            <a:ext cx="180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14"/>
          <p:cNvSpPr/>
          <p:nvPr/>
        </p:nvSpPr>
        <p:spPr>
          <a:xfrm>
            <a:off x="7236000" y="4508640"/>
            <a:ext cx="0" cy="187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stalt Psychology</a:t>
            </a:r>
            <a:endParaRPr b="1" lang="en-US" sz="3900" spc="-1" strike="noStrike">
              <a:solidFill>
                <a:srgbClr val="330066"/>
              </a:solidFill>
              <a:latin typeface="Arial"/>
            </a:endParaRPr>
          </a:p>
        </p:txBody>
      </p:sp>
      <p:sp>
        <p:nvSpPr>
          <p:cNvPr id="188" name="PlaceHolder 2"/>
          <p:cNvSpPr>
            <a:spLocks noGrp="1"/>
          </p:cNvSpPr>
          <p:nvPr>
            <p:ph/>
          </p:nvPr>
        </p:nvSpPr>
        <p:spPr>
          <a:xfrm>
            <a:off x="456840" y="1719360"/>
            <a:ext cx="764388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Gestaltists see </a:t>
            </a:r>
            <a:r>
              <a:rPr b="0" i="1" lang="en-GB" sz="3000" spc="-1" strike="noStrike">
                <a:solidFill>
                  <a:srgbClr val="000000"/>
                </a:solidFill>
                <a:latin typeface="Arial"/>
              </a:rPr>
              <a:t>objects as perceived within an environment</a:t>
            </a:r>
            <a:r>
              <a:rPr b="0" lang="en-GB" sz="3000" spc="-1" strike="noStrike">
                <a:solidFill>
                  <a:srgbClr val="000000"/>
                </a:solidFill>
                <a:latin typeface="Arial"/>
              </a:rPr>
              <a:t> according to all of their elements taken together as a global construc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estalt-seven-horses.jpg"/>
          <p:cNvPicPr/>
          <p:nvPr/>
        </p:nvPicPr>
        <p:blipFill>
          <a:blip r:embed="rId1"/>
          <a:stretch/>
        </p:blipFill>
        <p:spPr>
          <a:xfrm>
            <a:off x="1346040" y="-9360"/>
            <a:ext cx="6394680" cy="6885000"/>
          </a:xfrm>
          <a:prstGeom prst="rect">
            <a:avLst/>
          </a:prstGeom>
          <a:ln w="0">
            <a:noFill/>
          </a:ln>
        </p:spPr>
      </p:pic>
      <p:sp>
        <p:nvSpPr>
          <p:cNvPr id="190" name="Rectangle 7"/>
          <p:cNvSpPr/>
          <p:nvPr/>
        </p:nvSpPr>
        <p:spPr>
          <a:xfrm>
            <a:off x="0" y="0"/>
            <a:ext cx="140328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7740720" y="-9360"/>
            <a:ext cx="143964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0" y="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250560" y="259920"/>
            <a:ext cx="404316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ax Wertheimer</a:t>
            </a:r>
            <a:endParaRPr b="1" lang="en-US" sz="3900" spc="-1" strike="noStrike">
              <a:solidFill>
                <a:srgbClr val="330066"/>
              </a:solidFill>
              <a:latin typeface="Arial"/>
            </a:endParaRPr>
          </a:p>
        </p:txBody>
      </p:sp>
      <p:sp>
        <p:nvSpPr>
          <p:cNvPr id="194"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April 15, 1880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ed Oct 12, 1943</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Prague, Czech Republi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sychologis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ather of Gestalt psychology</a:t>
            </a:r>
            <a:endParaRPr b="0" lang="en-US" sz="2600" spc="-1" strike="noStrike">
              <a:solidFill>
                <a:srgbClr val="000000"/>
              </a:solidFill>
              <a:latin typeface="Arial"/>
            </a:endParaRPr>
          </a:p>
        </p:txBody>
      </p:sp>
      <p:pic>
        <p:nvPicPr>
          <p:cNvPr id="195" name="Picture 6" descr="mw.jpg"/>
          <p:cNvPicPr/>
          <p:nvPr/>
        </p:nvPicPr>
        <p:blipFill>
          <a:blip r:embed="rId1"/>
          <a:stretch/>
        </p:blipFill>
        <p:spPr>
          <a:xfrm>
            <a:off x="4278240" y="115920"/>
            <a:ext cx="4757760" cy="65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spiration</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1910 he bought a toy stroboscope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 saw two separate and alternating light patterns</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 discovered that if the spacing, on-time, and off-time were just right for these lights, his mind would perceive the dual lights as one single flashing light moving back and forth </a:t>
            </a:r>
            <a:endParaRPr b="0" lang="en-US" sz="2200" spc="-1" strike="noStrike">
              <a:solidFill>
                <a:srgbClr val="000000"/>
              </a:solidFill>
              <a:latin typeface="Arial"/>
            </a:endParaRPr>
          </a:p>
        </p:txBody>
      </p:sp>
      <p:pic>
        <p:nvPicPr>
          <p:cNvPr id="198" name="Picture 6" descr="physics7"/>
          <p:cNvPicPr/>
          <p:nvPr/>
        </p:nvPicPr>
        <p:blipFill>
          <a:blip r:embed="rId1"/>
          <a:stretch/>
        </p:blipFill>
        <p:spPr>
          <a:xfrm>
            <a:off x="4716360" y="1268280"/>
            <a:ext cx="3606840" cy="425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hi phenomenon</a:t>
            </a:r>
            <a:endParaRPr b="1" lang="en-US" sz="3900" spc="-1" strike="noStrike">
              <a:solidFill>
                <a:srgbClr val="330066"/>
              </a:solidFill>
              <a:latin typeface="Arial"/>
            </a:endParaRPr>
          </a:p>
        </p:txBody>
      </p:sp>
      <p:sp>
        <p:nvSpPr>
          <p:cNvPr id="200"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 perceptual illusion in which a perception of motion is produced by a succession of still imag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ead to important questions about how perception and the brain works.</a:t>
            </a:r>
            <a:endParaRPr b="0" lang="en-US" sz="2600" spc="-1" strike="noStrike">
              <a:solidFill>
                <a:srgbClr val="000000"/>
              </a:solidFill>
              <a:latin typeface="Arial"/>
            </a:endParaRPr>
          </a:p>
        </p:txBody>
      </p:sp>
      <p:pic>
        <p:nvPicPr>
          <p:cNvPr id="201" name="Picture 6" descr="beta_movement"/>
          <p:cNvPicPr/>
          <p:nvPr/>
        </p:nvPicPr>
        <p:blipFill>
          <a:blip r:embed="rId1"/>
          <a:stretch/>
        </p:blipFill>
        <p:spPr>
          <a:xfrm>
            <a:off x="5148360" y="1268280"/>
            <a:ext cx="316872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urt Koffka</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March 18, 1886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ed Nov 22, 1941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Berlin, German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sychologi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other of the founders of Gestalt psycholog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theorist</a:t>
            </a:r>
            <a:endParaRPr b="0" lang="en-US" sz="2600" spc="-1" strike="noStrike">
              <a:solidFill>
                <a:srgbClr val="000000"/>
              </a:solidFill>
              <a:latin typeface="Arial"/>
            </a:endParaRPr>
          </a:p>
        </p:txBody>
      </p:sp>
      <p:pic>
        <p:nvPicPr>
          <p:cNvPr id="205" name="Picture 6" descr="10420-004-6AB1A856"/>
          <p:cNvPicPr/>
          <p:nvPr/>
        </p:nvPicPr>
        <p:blipFill>
          <a:blip r:embed="rId1"/>
          <a:stretch/>
        </p:blipFill>
        <p:spPr>
          <a:xfrm>
            <a:off x="4408560" y="333360"/>
            <a:ext cx="4627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ies on learning</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offka believed that most of early learning is what he referred to as, "</a:t>
            </a:r>
            <a:r>
              <a:rPr b="0" i="1" lang="en-GB" sz="2600" spc="-1" strike="noStrike">
                <a:solidFill>
                  <a:srgbClr val="000000"/>
                </a:solidFill>
                <a:latin typeface="Arial"/>
              </a:rPr>
              <a:t>sensorimotor learning</a:t>
            </a:r>
            <a:r>
              <a:rPr b="0" lang="en-GB" sz="2600" spc="-1" strike="noStrike">
                <a:solidFill>
                  <a:srgbClr val="000000"/>
                </a:solidFill>
                <a:latin typeface="Arial"/>
              </a:rPr>
              <a:t>," which is a type of learning which occurs after a consequence. For example, a child who touches a hot stove will learn not to touch it agai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ies on learning</a:t>
            </a: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offka also believed that a lot of learning occurs by </a:t>
            </a:r>
            <a:r>
              <a:rPr b="0" i="1" lang="en-GB" sz="2600" spc="-1" strike="noStrike">
                <a:solidFill>
                  <a:srgbClr val="000000"/>
                </a:solidFill>
                <a:latin typeface="Arial"/>
              </a:rPr>
              <a:t>imitation</a:t>
            </a:r>
            <a:r>
              <a:rPr b="0" lang="en-GB" sz="2600" spc="-1" strike="noStrike">
                <a:solidFill>
                  <a:srgbClr val="000000"/>
                </a:solidFill>
                <a:latin typeface="Arial"/>
              </a:rPr>
              <a:t>, though he argued that it is not important to understand how imitation works, but rather to acknowledge that it is a natural occurrenc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ccording to Koffka, the highest type of learning is “</a:t>
            </a:r>
            <a:r>
              <a:rPr b="0" i="1" lang="en-GB" sz="2600" spc="-1" strike="noStrike">
                <a:solidFill>
                  <a:srgbClr val="000000"/>
                </a:solidFill>
                <a:latin typeface="Arial"/>
              </a:rPr>
              <a:t>ideational learning</a:t>
            </a:r>
            <a:r>
              <a:rPr b="0" lang="en-GB" sz="2600" spc="-1" strike="noStrike">
                <a:solidFill>
                  <a:srgbClr val="000000"/>
                </a:solidFill>
                <a:latin typeface="Arial"/>
              </a:rPr>
              <a:t>”, which makes use of languag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0" y="0"/>
            <a:ext cx="9144000" cy="6858000"/>
          </a:xfrm>
          <a:prstGeom prst="rect">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p:nvPr>
        </p:nvSpPr>
        <p:spPr>
          <a:xfrm>
            <a:off x="178920" y="1557000"/>
            <a:ext cx="4038840" cy="4411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in Jan 21, 1887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ied in June 11, 1967</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Born in Reval (now Tallinn), Estoni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sychologist and phenomenologis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nother of the founders of Gestalt psychology</a:t>
            </a:r>
            <a:endParaRPr b="0" lang="en-US" sz="2600" spc="-1" strike="noStrike">
              <a:solidFill>
                <a:srgbClr val="000000"/>
              </a:solidFill>
              <a:latin typeface="Arial"/>
            </a:endParaRPr>
          </a:p>
        </p:txBody>
      </p:sp>
      <p:pic>
        <p:nvPicPr>
          <p:cNvPr id="212" name="Picture 6" descr="Kohler180"/>
          <p:cNvPicPr/>
          <p:nvPr/>
        </p:nvPicPr>
        <p:blipFill>
          <a:blip r:embed="rId1"/>
          <a:stretch/>
        </p:blipFill>
        <p:spPr>
          <a:xfrm>
            <a:off x="4152960" y="0"/>
            <a:ext cx="4991040" cy="6858000"/>
          </a:xfrm>
          <a:prstGeom prst="rect">
            <a:avLst/>
          </a:prstGeom>
          <a:ln w="0">
            <a:noFill/>
          </a:ln>
        </p:spPr>
      </p:pic>
      <p:sp>
        <p:nvSpPr>
          <p:cNvPr id="213" name="PlaceHolder 2"/>
          <p:cNvSpPr>
            <a:spLocks noGrp="1"/>
          </p:cNvSpPr>
          <p:nvPr>
            <p:ph type="title"/>
          </p:nvPr>
        </p:nvSpPr>
        <p:spPr>
          <a:xfrm>
            <a:off x="178920" y="188640"/>
            <a:ext cx="7543800" cy="94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Wolfgang Köhler</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st Week: Behaviourism</a:t>
            </a:r>
            <a:endParaRPr b="1" lang="en-US" sz="3900" spc="-1" strike="noStrike">
              <a:solidFill>
                <a:srgbClr val="330066"/>
              </a:solidFill>
              <a:latin typeface="Arial"/>
            </a:endParaRPr>
          </a:p>
        </p:txBody>
      </p:sp>
      <p:pic>
        <p:nvPicPr>
          <p:cNvPr id="152" name="Picture 6" descr="ilt2-wordcloud"/>
          <p:cNvPicPr/>
          <p:nvPr/>
        </p:nvPicPr>
        <p:blipFill>
          <a:blip r:embed="rId1"/>
          <a:stretch/>
        </p:blipFill>
        <p:spPr>
          <a:xfrm>
            <a:off x="250920" y="1832040"/>
            <a:ext cx="8642160" cy="440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oblem solving</a:t>
            </a: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1913, Köhler went to the island of Tenerife in the Canary Islands for six year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öhler observed the manner in which chimpanzees solve problems, such as that of retrieving bananas when positioned out of reach. He found that they stacked wooden crates to use as makeshift ladders, in order to retrieve the food.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bananas were placed on the ground outside of the cage, they used sticks to lengthen the reach of their arm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Picture 6" descr="kohler5"/>
          <p:cNvPicPr/>
          <p:nvPr/>
        </p:nvPicPr>
        <p:blipFill>
          <a:blip r:embed="rId1"/>
          <a:stretch/>
        </p:blipFill>
        <p:spPr>
          <a:xfrm>
            <a:off x="5508720" y="1339920"/>
            <a:ext cx="272232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oblem solving</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5122800" cy="441144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Köhler concluded that the chimps had not arrived at these methods through trial-and-error (which American psychologist Edward Thorndike had claimed to be the basis of all animal learning, through his law of effect), but rather that they had experienced an insight (also sometimes known as an “</a:t>
            </a:r>
            <a:r>
              <a:rPr b="0" i="1" lang="en-IE" sz="2400" spc="-1" strike="noStrike">
                <a:solidFill>
                  <a:srgbClr val="000000"/>
                </a:solidFill>
                <a:latin typeface="Arial"/>
              </a:rPr>
              <a:t>aha experience</a:t>
            </a:r>
            <a:r>
              <a:rPr b="0" lang="en-IE" sz="2400" spc="-1" strike="noStrike">
                <a:solidFill>
                  <a:srgbClr val="000000"/>
                </a:solidFill>
                <a:latin typeface="Arial"/>
              </a:rPr>
              <a:t>”), in which, having realized the answer, they then proceeded to carry it out in a way that was, in Köhler’s words, “</a:t>
            </a:r>
            <a:r>
              <a:rPr b="0" i="1" lang="en-IE" sz="2400" spc="-1" strike="noStrike">
                <a:solidFill>
                  <a:srgbClr val="000000"/>
                </a:solidFill>
                <a:latin typeface="Arial"/>
              </a:rPr>
              <a:t>unwaveringly purposeful</a:t>
            </a:r>
            <a:r>
              <a:rPr b="0" lang="en-IE" sz="2400" spc="-1" strike="noStrike">
                <a:solidFill>
                  <a:srgbClr val="000000"/>
                </a:solidFill>
                <a:latin typeface="Arial"/>
              </a:rPr>
              <a:t>”.</a:t>
            </a:r>
            <a:endParaRPr b="0" lang="en-US" sz="2400" spc="-1" strike="noStrike">
              <a:solidFill>
                <a:srgbClr val="000000"/>
              </a:solidFill>
              <a:latin typeface="Arial"/>
            </a:endParaRPr>
          </a:p>
        </p:txBody>
      </p:sp>
      <p:pic>
        <p:nvPicPr>
          <p:cNvPr id="219" name="Picture 6" descr="kohler3"/>
          <p:cNvPicPr/>
          <p:nvPr/>
        </p:nvPicPr>
        <p:blipFill>
          <a:blip r:embed="rId1"/>
          <a:stretch/>
        </p:blipFill>
        <p:spPr>
          <a:xfrm>
            <a:off x="5557680" y="1338120"/>
            <a:ext cx="2686320" cy="4467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7" descr="BoobaKiki"/>
          <p:cNvPicPr/>
          <p:nvPr/>
        </p:nvPicPr>
        <p:blipFill>
          <a:blip r:embed="rId1"/>
          <a:stretch/>
        </p:blipFill>
        <p:spPr>
          <a:xfrm>
            <a:off x="352440" y="115920"/>
            <a:ext cx="8612280" cy="4392720"/>
          </a:xfrm>
          <a:prstGeom prst="rect">
            <a:avLst/>
          </a:prstGeom>
          <a:ln w="0">
            <a:noFill/>
          </a:ln>
        </p:spPr>
      </p:pic>
      <p:sp>
        <p:nvSpPr>
          <p:cNvPr id="221" name="Rectangle 2"/>
          <p:cNvSpPr/>
          <p:nvPr/>
        </p:nvSpPr>
        <p:spPr>
          <a:xfrm>
            <a:off x="1150920" y="4869000"/>
            <a:ext cx="7000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The bouba/kiki effec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BoobaKiki"/>
          <p:cNvPicPr/>
          <p:nvPr/>
        </p:nvPicPr>
        <p:blipFill>
          <a:blip r:embed="rId1"/>
          <a:stretch/>
        </p:blipFill>
        <p:spPr>
          <a:xfrm>
            <a:off x="468360" y="1044720"/>
            <a:ext cx="8064360" cy="4113000"/>
          </a:xfrm>
          <a:prstGeom prst="rect">
            <a:avLst/>
          </a:prstGeom>
          <a:ln w="0">
            <a:noFill/>
          </a:ln>
        </p:spPr>
      </p:pic>
      <p:sp>
        <p:nvSpPr>
          <p:cNvPr id="223" name="WordArt 3"/>
          <p:cNvSpPr txBox="1"/>
          <p:nvPr/>
        </p:nvSpPr>
        <p:spPr>
          <a:xfrm>
            <a:off x="3780000" y="4941720"/>
            <a:ext cx="1377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ffffff"/>
                </a:solidFill>
                <a:latin typeface="Arial Black"/>
              </a:rPr>
              <a:t>"Kiki"</a:t>
            </a:r>
            <a:endParaRPr b="0" lang="en-US" sz="1800" spc="1" strike="noStrike">
              <a:ln w="28440">
                <a:solidFill>
                  <a:srgbClr val="000000"/>
                </a:solidFill>
                <a:miter/>
              </a:ln>
              <a:solidFill>
                <a:srgbClr val="ffffff"/>
              </a:solidFill>
              <a:latin typeface="Arial Black"/>
              <a:ea typeface="Arial Black"/>
            </a:endParaRPr>
          </a:p>
        </p:txBody>
      </p:sp>
      <p:sp>
        <p:nvSpPr>
          <p:cNvPr id="224" name="WordArt 4"/>
          <p:cNvSpPr txBox="1"/>
          <p:nvPr/>
        </p:nvSpPr>
        <p:spPr>
          <a:xfrm>
            <a:off x="3635280" y="766800"/>
            <a:ext cx="1594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ffffff"/>
                </a:solidFill>
                <a:latin typeface="Arial Black"/>
              </a:rPr>
              <a:t>"Bouba"</a:t>
            </a:r>
            <a:endParaRPr b="0" lang="en-US" sz="1800" spc="1" strike="noStrike">
              <a:ln w="2844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repeatCount="2000">
                                  <p:stCondLst>
                                    <p:cond delay="0"/>
                                  </p:stCondLst>
                                  <p:childTnLst>
                                    <p:animMotion origin="layout" path="M -4.44444E-006 2.58154E-006 C -0.12829 2.58154E-006 -0.23229 0.14457 -0.23229 0.32292 C -0.23229 0.50058 -0.12829 0.64585 -4.44444E-006 0.64585 C 0.1283 0.64585 0.2323 0.50058 0.2323 0.32292 C 0.2323 0.14457 0.1283 2.58154E-006 -4.44444E-006 2.58154E-006 Z">
                                      <p:cBhvr>
                                        <p:cTn id="6" dur="5000" fill="hold"/>
                                        <p:tgtEl>
                                          <p:spTgt spid="224"/>
                                        </p:tgtEl>
                                      </p:cBhvr>
                                    </p:animMotion>
                                  </p:childTnLst>
                                </p:cTn>
                              </p:par>
                              <p:par>
                                <p:cTn id="7" nodeType="withEffect" fill="hold" presetClass="path" presetID="1" repeatCount="2000">
                                  <p:stCondLst>
                                    <p:cond delay="0"/>
                                  </p:stCondLst>
                                  <p:childTnLst>
                                    <p:animMotion origin="layout" path="M -0.00035 -1.23294E-006 C 0.1276 -1.23294E-006 0.23177 -0.14504 0.23177 -0.32107 C 0.23177 -0.49688 0.1276 -0.64053 -0.00035 -0.64053 C -0.12882 -0.64053 -0.23282 -0.49688 -0.23282 -0.32107 C -0.23282 -0.14504 -0.12882 -1.23294E-006 -0.00035 -1.23294E-006 Z">
                                      <p:cBhvr>
                                        <p:cTn id="8" dur="5000" fill="hold"/>
                                        <p:tgtEl>
                                          <p:spTgt spid="2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Bouba/Kiki Effect was first observed by German-American psychologist Wolfgang Köhler in 1929. </a:t>
            </a:r>
            <a:endParaRPr b="0" lang="en-US" sz="2800" spc="-1" strike="noStrike">
              <a:solidFill>
                <a:srgbClr val="000000"/>
              </a:solidFill>
              <a:latin typeface="Arial"/>
            </a:endParaRPr>
          </a:p>
        </p:txBody>
      </p:sp>
      <p:pic>
        <p:nvPicPr>
          <p:cNvPr id="227" name="Picture 7" descr="Kohler180"/>
          <p:cNvPicPr/>
          <p:nvPr/>
        </p:nvPicPr>
        <p:blipFill>
          <a:blip r:embed="rId1"/>
          <a:stretch/>
        </p:blipFill>
        <p:spPr>
          <a:xfrm>
            <a:off x="5486400" y="1700280"/>
            <a:ext cx="2830680" cy="3889440"/>
          </a:xfrm>
          <a:prstGeom prst="rect">
            <a:avLst/>
          </a:prstGeom>
          <a:ln w="0">
            <a:noFill/>
          </a:ln>
        </p:spPr>
      </p:pic>
      <p:pic>
        <p:nvPicPr>
          <p:cNvPr id="228" name="Picture 4" descr="BoobaKiki"/>
          <p:cNvPicPr/>
          <p:nvPr/>
        </p:nvPicPr>
        <p:blipFill>
          <a:blip r:embed="rId2"/>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 psychological experiments, first conducted on the island of Tenerife  (in which the primary language is Spanish), Köhler showed forms in the previous slides asked participants which shape was called "takete" and which was called "baluba" ("maluma" in the 1947 version). Data suggested a strong preference to pair the jagged shape with "takete" and the rounded shape with "baluba". </a:t>
            </a:r>
            <a:endParaRPr b="0" lang="en-US" sz="2800" spc="-1" strike="noStrike">
              <a:solidFill>
                <a:srgbClr val="000000"/>
              </a:solidFill>
              <a:latin typeface="Arial"/>
            </a:endParaRPr>
          </a:p>
        </p:txBody>
      </p:sp>
      <p:pic>
        <p:nvPicPr>
          <p:cNvPr id="230" name="Picture 4" descr="BoobaKiki"/>
          <p:cNvPicPr/>
          <p:nvPr/>
        </p:nvPicPr>
        <p:blipFill>
          <a:blip r:embed="rId1"/>
          <a:stretch/>
        </p:blipFill>
        <p:spPr>
          <a:xfrm>
            <a:off x="6072120" y="115920"/>
            <a:ext cx="2965680" cy="1584360"/>
          </a:xfrm>
          <a:prstGeom prst="rect">
            <a:avLst/>
          </a:prstGeom>
          <a:ln w="0">
            <a:noFill/>
          </a:ln>
        </p:spPr>
      </p:pic>
      <p:sp>
        <p:nvSpPr>
          <p:cNvPr id="231"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484280"/>
            <a:ext cx="8229600" cy="5068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 2001, Vilayanur S. Ramachandran and Edward Hubbard repeated Köhler's experiment using the words "kiki" and "bouba" and asked American college undergraduates and Tamil speakers in India “Which of these shapes is bouba and which is kiki?”</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 both the English and the Tamil speakers, 95% to 98% selected the curvy shape as "bouba" and the jagged one as "kiki", suggesting that the human brain is somehow able to extract abstract properties from the shapes and sound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34"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2044800"/>
          </a:xfrm>
          <a:prstGeom prst="rect">
            <a:avLst/>
          </a:prstGeom>
          <a:noFill/>
          <a:ln w="0">
            <a:noFill/>
          </a:ln>
        </p:spPr>
        <p:txBody>
          <a:bodyPr anchor="t">
            <a:normAutofit fontScale="60000"/>
          </a:bodyPr>
          <a:p>
            <a:pPr marL="20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5560" indent="-2055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ecent work by Daphne Maurer and colleagues has shown that even children as young as 2.5 (too young to read) show this effect.</a:t>
            </a:r>
            <a:endParaRPr b="0" lang="en-US" sz="2800" spc="-1" strike="noStrike">
              <a:solidFill>
                <a:srgbClr val="000000"/>
              </a:solidFill>
              <a:latin typeface="Arial"/>
            </a:endParaRPr>
          </a:p>
          <a:p>
            <a:pPr marL="20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5560" indent="-20556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amachandran and Hubbard suggest that the kiki/bouba effect has implications for the evolution of language, because it suggests that the naming of objects is not completely arbitrary. </a:t>
            </a:r>
            <a:endParaRPr b="0" lang="en-US" sz="2800" spc="-1" strike="noStrike">
              <a:solidFill>
                <a:srgbClr val="000000"/>
              </a:solidFill>
              <a:latin typeface="Arial"/>
            </a:endParaRPr>
          </a:p>
          <a:p>
            <a:pPr marL="20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37"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rounded shape may most commonly be named "bouba" because the mouth makes a more rounded shape to produce that sound while a more taut, angular mouth shape is needed to make the sound "kiki".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sounds of a K are harder and more forceful than those of a B, as well. </a:t>
            </a:r>
            <a:endParaRPr b="0" lang="en-US" sz="2800" spc="-1" strike="noStrike">
              <a:solidFill>
                <a:srgbClr val="000000"/>
              </a:solidFill>
              <a:latin typeface="Arial"/>
            </a:endParaRPr>
          </a:p>
        </p:txBody>
      </p:sp>
      <p:sp>
        <p:nvSpPr>
          <p:cNvPr id="239"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40"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presence of these "synesthesia-like mappings" suggest that this effect might be the neurological basis for sound symbolism, in which sounds are non-arbitrarily mapped to objects and events in the world.</a:t>
            </a:r>
            <a:endParaRPr b="0" lang="en-US" sz="2800" spc="-1" strike="noStrike">
              <a:solidFill>
                <a:srgbClr val="000000"/>
              </a:solidFill>
              <a:latin typeface="Arial"/>
            </a:endParaRPr>
          </a:p>
        </p:txBody>
      </p:sp>
      <p:sp>
        <p:nvSpPr>
          <p:cNvPr id="242"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43"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3" descr="noam3.jpg"/>
          <p:cNvPicPr/>
          <p:nvPr/>
        </p:nvPicPr>
        <p:blipFill>
          <a:blip r:embed="rId1"/>
          <a:stretch/>
        </p:blipFill>
        <p:spPr>
          <a:xfrm>
            <a:off x="4676760" y="1413000"/>
            <a:ext cx="2919600" cy="3024000"/>
          </a:xfrm>
          <a:prstGeom prst="rect">
            <a:avLst/>
          </a:prstGeom>
          <a:ln w="0">
            <a:noFill/>
          </a:ln>
        </p:spPr>
      </p:pic>
      <p:sp>
        <p:nvSpPr>
          <p:cNvPr id="1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gnitivism</a:t>
            </a:r>
            <a:endParaRPr b="1" lang="en-US" sz="3900" spc="-1" strike="noStrike">
              <a:solidFill>
                <a:srgbClr val="330066"/>
              </a:solidFill>
              <a:latin typeface="Arial"/>
            </a:endParaRPr>
          </a:p>
        </p:txBody>
      </p:sp>
      <p:sp>
        <p:nvSpPr>
          <p:cNvPr id="155" name="PlaceHolder 2"/>
          <p:cNvSpPr>
            <a:spLocks noGrp="1"/>
          </p:cNvSpPr>
          <p:nvPr>
            <p:ph/>
          </p:nvPr>
        </p:nvSpPr>
        <p:spPr>
          <a:xfrm>
            <a:off x="456840" y="1719360"/>
            <a:ext cx="425916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ognitivist revolution replaced behaviourism in 1960s/1970s as the dominant paradigm.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We recall Chomsky's argument that language could not be acquired purely through conditioning (even though radical behaviourists never argued that), and must be at least partly explained by the existence of internal mental states.</a:t>
            </a:r>
            <a:endParaRPr b="0" lang="en-US" sz="2100" spc="-1" strike="noStrike">
              <a:solidFill>
                <a:srgbClr val="000000"/>
              </a:solidFill>
              <a:latin typeface="Arial"/>
            </a:endParaRPr>
          </a:p>
        </p:txBody>
      </p:sp>
      <p:pic>
        <p:nvPicPr>
          <p:cNvPr id="156" name="Picture 5" descr="review"/>
          <p:cNvPicPr/>
          <p:nvPr/>
        </p:nvPicPr>
        <p:blipFill>
          <a:blip r:embed="rId2"/>
          <a:stretch/>
        </p:blipFill>
        <p:spPr>
          <a:xfrm>
            <a:off x="6586560" y="3355920"/>
            <a:ext cx="2087640" cy="3097440"/>
          </a:xfrm>
          <a:prstGeom prst="rect">
            <a:avLst/>
          </a:prstGeom>
          <a:ln w="0">
            <a:noFill/>
          </a:ln>
        </p:spPr>
      </p:pic>
      <p:sp>
        <p:nvSpPr>
          <p:cNvPr id="157" name="Rectangle 6"/>
          <p:cNvSpPr/>
          <p:nvPr/>
        </p:nvSpPr>
        <p:spPr>
          <a:xfrm>
            <a:off x="6586560" y="3357720"/>
            <a:ext cx="2089080" cy="32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9975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dividuals with autism do not show as strong a preference. Where average people agree with the typical result 90% of the time, individuals with autism only agree 60% of the time (</a:t>
            </a:r>
            <a:r>
              <a:rPr b="0" lang="en-GB" sz="2800" spc="-1" strike="noStrike">
                <a:solidFill>
                  <a:srgbClr val="000000"/>
                </a:solidFill>
                <a:latin typeface="Arial"/>
              </a:rPr>
              <a:t>Ramachandran, V.S., Oberman, L.M. </a:t>
            </a:r>
            <a:r>
              <a:rPr b="0" i="1" lang="en-GB" sz="2800" spc="-1" strike="noStrike">
                <a:solidFill>
                  <a:srgbClr val="000000"/>
                </a:solidFill>
                <a:latin typeface="Arial"/>
              </a:rPr>
              <a:t>Evidence for Deficits in Mirror Neuron Function, Multisensory Integration, and Sound-form Symbolism in Autism Spectrum Disorders</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245"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bouba/kiki effect</a:t>
            </a:r>
            <a:endParaRPr b="1" lang="en-US" sz="3900" spc="-1" strike="noStrike">
              <a:solidFill>
                <a:srgbClr val="330066"/>
              </a:solidFill>
              <a:latin typeface="Arial"/>
            </a:endParaRPr>
          </a:p>
        </p:txBody>
      </p:sp>
      <p:pic>
        <p:nvPicPr>
          <p:cNvPr id="246" name="Picture 4" descr="BoobaKiki"/>
          <p:cNvPicPr/>
          <p:nvPr/>
        </p:nvPicPr>
        <p:blipFill>
          <a:blip r:embed="rId1"/>
          <a:stretch/>
        </p:blipFill>
        <p:spPr>
          <a:xfrm>
            <a:off x="6072120" y="115920"/>
            <a:ext cx="2965680" cy="15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Main principles </a:t>
            </a:r>
            <a:br>
              <a:rPr sz="4800"/>
            </a:br>
            <a:r>
              <a:rPr b="1" lang="en-GB" sz="4800" spc="-1" strike="noStrike">
                <a:solidFill>
                  <a:srgbClr val="330066"/>
                </a:solidFill>
                <a:latin typeface="Arial"/>
              </a:rPr>
              <a:t>of Gestalt Psychology</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stalt Principles</a:t>
            </a:r>
            <a:endParaRPr b="1" lang="en-US" sz="3900" spc="-1" strike="noStrike">
              <a:solidFill>
                <a:srgbClr val="330066"/>
              </a:solidFill>
              <a:latin typeface="Arial"/>
            </a:endParaRPr>
          </a:p>
        </p:txBody>
      </p:sp>
      <p:sp>
        <p:nvSpPr>
          <p:cNvPr id="24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merg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ific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ultistabi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vari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ägnanz</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Emergence </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Objects in an images are not recognised by their component parts, but are rather </a:t>
            </a:r>
            <a:r>
              <a:rPr b="0" lang="en-GB" sz="3000" spc="-1" strike="noStrike" u="sng">
                <a:solidFill>
                  <a:srgbClr val="000000"/>
                </a:solidFill>
                <a:uFillTx/>
                <a:latin typeface="Arial"/>
              </a:rPr>
              <a:t>perceived as a whole</a:t>
            </a:r>
            <a:r>
              <a:rPr b="0" lang="en-GB" sz="3000" spc="-1" strike="noStrike">
                <a:solidFill>
                  <a:srgbClr val="000000"/>
                </a:solidFill>
                <a:latin typeface="Arial"/>
              </a:rPr>
              <a:t>, all at onc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Emergence </a:t>
            </a:r>
            <a:br>
              <a:rPr sz="3900"/>
            </a:br>
            <a:endParaRPr b="1" lang="en-US" sz="3900" spc="-1" strike="noStrike">
              <a:solidFill>
                <a:srgbClr val="330066"/>
              </a:solidFill>
              <a:latin typeface="Arial"/>
            </a:endParaRPr>
          </a:p>
        </p:txBody>
      </p:sp>
      <p:pic>
        <p:nvPicPr>
          <p:cNvPr id="253" name="Picture 7" descr="Emergence"/>
          <p:cNvPicPr/>
          <p:nvPr/>
        </p:nvPicPr>
        <p:blipFill>
          <a:blip r:embed="rId1"/>
          <a:stretch/>
        </p:blipFill>
        <p:spPr>
          <a:xfrm>
            <a:off x="612720" y="836640"/>
            <a:ext cx="7344000" cy="586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Emergence </a:t>
            </a:r>
            <a:br>
              <a:rPr sz="3900"/>
            </a:br>
            <a:endParaRPr b="1" lang="en-US" sz="3900" spc="-1" strike="noStrike">
              <a:solidFill>
                <a:srgbClr val="330066"/>
              </a:solidFill>
              <a:latin typeface="Arial"/>
            </a:endParaRPr>
          </a:p>
        </p:txBody>
      </p:sp>
      <p:pic>
        <p:nvPicPr>
          <p:cNvPr id="255" name="Picture 7" descr="Emergence"/>
          <p:cNvPicPr/>
          <p:nvPr/>
        </p:nvPicPr>
        <p:blipFill>
          <a:blip r:embed="rId1"/>
          <a:stretch/>
        </p:blipFill>
        <p:spPr>
          <a:xfrm>
            <a:off x="612720" y="836640"/>
            <a:ext cx="7344000" cy="5865840"/>
          </a:xfrm>
          <a:prstGeom prst="rect">
            <a:avLst/>
          </a:prstGeom>
          <a:ln w="0">
            <a:noFill/>
          </a:ln>
        </p:spPr>
      </p:pic>
      <p:sp>
        <p:nvSpPr>
          <p:cNvPr id="256" name="Freeform 5"/>
          <p:cNvSpPr/>
          <p:nvPr/>
        </p:nvSpPr>
        <p:spPr>
          <a:xfrm>
            <a:off x="3836880" y="2428920"/>
            <a:ext cx="3122640" cy="2219400"/>
          </a:xfrm>
          <a:custGeom>
            <a:avLst/>
            <a:gdLst/>
            <a:ahLst/>
            <a:rect l="l" t="t" r="r" b="b"/>
            <a:pathLst>
              <a:path w="3123287" h="2219960">
                <a:moveTo>
                  <a:pt x="247374" y="812800"/>
                </a:moveTo>
                <a:cubicBezTo>
                  <a:pt x="236367" y="825500"/>
                  <a:pt x="195938" y="811984"/>
                  <a:pt x="171174" y="817880"/>
                </a:cubicBezTo>
                <a:cubicBezTo>
                  <a:pt x="159295" y="820708"/>
                  <a:pt x="150854" y="831427"/>
                  <a:pt x="140694" y="838200"/>
                </a:cubicBezTo>
                <a:cubicBezTo>
                  <a:pt x="97018" y="867317"/>
                  <a:pt x="152278" y="832408"/>
                  <a:pt x="110214" y="853440"/>
                </a:cubicBezTo>
                <a:cubicBezTo>
                  <a:pt x="104753" y="856170"/>
                  <a:pt x="100435" y="860870"/>
                  <a:pt x="94974" y="863600"/>
                </a:cubicBezTo>
                <a:cubicBezTo>
                  <a:pt x="90185" y="865995"/>
                  <a:pt x="84415" y="866079"/>
                  <a:pt x="79734" y="868680"/>
                </a:cubicBezTo>
                <a:cubicBezTo>
                  <a:pt x="69060" y="874610"/>
                  <a:pt x="49254" y="889000"/>
                  <a:pt x="49254" y="889000"/>
                </a:cubicBezTo>
                <a:cubicBezTo>
                  <a:pt x="36485" y="927306"/>
                  <a:pt x="53709" y="880089"/>
                  <a:pt x="34014" y="919480"/>
                </a:cubicBezTo>
                <a:cubicBezTo>
                  <a:pt x="31619" y="924269"/>
                  <a:pt x="31329" y="929931"/>
                  <a:pt x="28934" y="934720"/>
                </a:cubicBezTo>
                <a:cubicBezTo>
                  <a:pt x="9239" y="974111"/>
                  <a:pt x="26463" y="926894"/>
                  <a:pt x="13694" y="965200"/>
                </a:cubicBezTo>
                <a:cubicBezTo>
                  <a:pt x="15387" y="997373"/>
                  <a:pt x="15857" y="1029634"/>
                  <a:pt x="18774" y="1061720"/>
                </a:cubicBezTo>
                <a:cubicBezTo>
                  <a:pt x="19259" y="1067053"/>
                  <a:pt x="20068" y="1073174"/>
                  <a:pt x="23854" y="1076960"/>
                </a:cubicBezTo>
                <a:cubicBezTo>
                  <a:pt x="27640" y="1080746"/>
                  <a:pt x="34014" y="1080347"/>
                  <a:pt x="39094" y="1082040"/>
                </a:cubicBezTo>
                <a:cubicBezTo>
                  <a:pt x="37401" y="1112520"/>
                  <a:pt x="39726" y="1143492"/>
                  <a:pt x="34014" y="1173480"/>
                </a:cubicBezTo>
                <a:cubicBezTo>
                  <a:pt x="32670" y="1180537"/>
                  <a:pt x="23373" y="1183201"/>
                  <a:pt x="18774" y="1188720"/>
                </a:cubicBezTo>
                <a:cubicBezTo>
                  <a:pt x="7832" y="1201850"/>
                  <a:pt x="8625" y="1203926"/>
                  <a:pt x="3534" y="1219200"/>
                </a:cubicBezTo>
                <a:cubicBezTo>
                  <a:pt x="5227" y="1242907"/>
                  <a:pt x="0" y="1268169"/>
                  <a:pt x="8614" y="1290320"/>
                </a:cubicBezTo>
                <a:cubicBezTo>
                  <a:pt x="13040" y="1301701"/>
                  <a:pt x="28934" y="1303867"/>
                  <a:pt x="39094" y="1310640"/>
                </a:cubicBezTo>
                <a:lnTo>
                  <a:pt x="54334" y="1320800"/>
                </a:lnTo>
                <a:cubicBezTo>
                  <a:pt x="79427" y="1283161"/>
                  <a:pt x="48153" y="1334262"/>
                  <a:pt x="74654" y="1254760"/>
                </a:cubicBezTo>
                <a:cubicBezTo>
                  <a:pt x="86745" y="1218488"/>
                  <a:pt x="78873" y="1233191"/>
                  <a:pt x="94974" y="1209040"/>
                </a:cubicBezTo>
                <a:cubicBezTo>
                  <a:pt x="96667" y="1188720"/>
                  <a:pt x="93086" y="1167243"/>
                  <a:pt x="100054" y="1148080"/>
                </a:cubicBezTo>
                <a:cubicBezTo>
                  <a:pt x="101884" y="1143048"/>
                  <a:pt x="112182" y="1148803"/>
                  <a:pt x="115294" y="1153160"/>
                </a:cubicBezTo>
                <a:cubicBezTo>
                  <a:pt x="153764" y="1207019"/>
                  <a:pt x="101504" y="1167674"/>
                  <a:pt x="140694" y="1193800"/>
                </a:cubicBezTo>
                <a:cubicBezTo>
                  <a:pt x="153463" y="1232106"/>
                  <a:pt x="134753" y="1186374"/>
                  <a:pt x="161014" y="1219200"/>
                </a:cubicBezTo>
                <a:cubicBezTo>
                  <a:pt x="164359" y="1223381"/>
                  <a:pt x="163699" y="1229651"/>
                  <a:pt x="166094" y="1234440"/>
                </a:cubicBezTo>
                <a:cubicBezTo>
                  <a:pt x="168824" y="1239901"/>
                  <a:pt x="172867" y="1244600"/>
                  <a:pt x="176254" y="1249680"/>
                </a:cubicBezTo>
                <a:cubicBezTo>
                  <a:pt x="174561" y="1254760"/>
                  <a:pt x="173569" y="1260131"/>
                  <a:pt x="171174" y="1264920"/>
                </a:cubicBezTo>
                <a:cubicBezTo>
                  <a:pt x="164101" y="1279065"/>
                  <a:pt x="157009" y="1284165"/>
                  <a:pt x="145774" y="1295400"/>
                </a:cubicBezTo>
                <a:cubicBezTo>
                  <a:pt x="133683" y="1331672"/>
                  <a:pt x="141555" y="1316969"/>
                  <a:pt x="125454" y="1341120"/>
                </a:cubicBezTo>
                <a:cubicBezTo>
                  <a:pt x="123761" y="1354667"/>
                  <a:pt x="123235" y="1368411"/>
                  <a:pt x="120374" y="1381760"/>
                </a:cubicBezTo>
                <a:cubicBezTo>
                  <a:pt x="118130" y="1392232"/>
                  <a:pt x="110214" y="1412240"/>
                  <a:pt x="110214" y="1412240"/>
                </a:cubicBezTo>
                <a:cubicBezTo>
                  <a:pt x="111907" y="1424093"/>
                  <a:pt x="110431" y="1436858"/>
                  <a:pt x="115294" y="1447800"/>
                </a:cubicBezTo>
                <a:cubicBezTo>
                  <a:pt x="117774" y="1453379"/>
                  <a:pt x="124686" y="1456206"/>
                  <a:pt x="130534" y="1457960"/>
                </a:cubicBezTo>
                <a:cubicBezTo>
                  <a:pt x="142003" y="1461401"/>
                  <a:pt x="154313" y="1460898"/>
                  <a:pt x="166094" y="1463040"/>
                </a:cubicBezTo>
                <a:cubicBezTo>
                  <a:pt x="180127" y="1465591"/>
                  <a:pt x="188597" y="1468848"/>
                  <a:pt x="201654" y="1473200"/>
                </a:cubicBezTo>
                <a:cubicBezTo>
                  <a:pt x="206734" y="1478280"/>
                  <a:pt x="212295" y="1482921"/>
                  <a:pt x="216894" y="1488440"/>
                </a:cubicBezTo>
                <a:cubicBezTo>
                  <a:pt x="220803" y="1493130"/>
                  <a:pt x="221877" y="1500444"/>
                  <a:pt x="227054" y="1503680"/>
                </a:cubicBezTo>
                <a:cubicBezTo>
                  <a:pt x="236136" y="1509356"/>
                  <a:pt x="247374" y="1510453"/>
                  <a:pt x="257534" y="1513840"/>
                </a:cubicBezTo>
                <a:cubicBezTo>
                  <a:pt x="288918" y="1524301"/>
                  <a:pt x="267446" y="1518387"/>
                  <a:pt x="323574" y="1524000"/>
                </a:cubicBezTo>
                <a:cubicBezTo>
                  <a:pt x="328654" y="1527387"/>
                  <a:pt x="333353" y="1531430"/>
                  <a:pt x="338814" y="1534160"/>
                </a:cubicBezTo>
                <a:cubicBezTo>
                  <a:pt x="362495" y="1546000"/>
                  <a:pt x="381215" y="1536771"/>
                  <a:pt x="409934" y="1534160"/>
                </a:cubicBezTo>
                <a:cubicBezTo>
                  <a:pt x="418875" y="1507336"/>
                  <a:pt x="412044" y="1523375"/>
                  <a:pt x="435334" y="1488440"/>
                </a:cubicBezTo>
                <a:cubicBezTo>
                  <a:pt x="438721" y="1483360"/>
                  <a:pt x="443563" y="1478992"/>
                  <a:pt x="445494" y="1473200"/>
                </a:cubicBezTo>
                <a:cubicBezTo>
                  <a:pt x="447187" y="1468120"/>
                  <a:pt x="447973" y="1462641"/>
                  <a:pt x="450574" y="1457960"/>
                </a:cubicBezTo>
                <a:cubicBezTo>
                  <a:pt x="456504" y="1447286"/>
                  <a:pt x="470894" y="1427480"/>
                  <a:pt x="470894" y="1427480"/>
                </a:cubicBezTo>
                <a:cubicBezTo>
                  <a:pt x="473876" y="1412572"/>
                  <a:pt x="475196" y="1400508"/>
                  <a:pt x="481054" y="1386840"/>
                </a:cubicBezTo>
                <a:cubicBezTo>
                  <a:pt x="484037" y="1379879"/>
                  <a:pt x="488402" y="1373551"/>
                  <a:pt x="491214" y="1366520"/>
                </a:cubicBezTo>
                <a:cubicBezTo>
                  <a:pt x="506602" y="1328050"/>
                  <a:pt x="490583" y="1343234"/>
                  <a:pt x="516614" y="1325880"/>
                </a:cubicBezTo>
                <a:cubicBezTo>
                  <a:pt x="520001" y="1320800"/>
                  <a:pt x="522457" y="1314957"/>
                  <a:pt x="526774" y="1310640"/>
                </a:cubicBezTo>
                <a:cubicBezTo>
                  <a:pt x="542176" y="1295238"/>
                  <a:pt x="555191" y="1298598"/>
                  <a:pt x="577574" y="1295400"/>
                </a:cubicBezTo>
                <a:cubicBezTo>
                  <a:pt x="582654" y="1292013"/>
                  <a:pt x="586746" y="1285914"/>
                  <a:pt x="592814" y="1285240"/>
                </a:cubicBezTo>
                <a:cubicBezTo>
                  <a:pt x="599199" y="1284531"/>
                  <a:pt x="628795" y="1290530"/>
                  <a:pt x="638534" y="1295400"/>
                </a:cubicBezTo>
                <a:cubicBezTo>
                  <a:pt x="643995" y="1298130"/>
                  <a:pt x="648694" y="1302173"/>
                  <a:pt x="653774" y="1305560"/>
                </a:cubicBezTo>
                <a:cubicBezTo>
                  <a:pt x="665865" y="1341832"/>
                  <a:pt x="655023" y="1330099"/>
                  <a:pt x="679174" y="1346200"/>
                </a:cubicBezTo>
                <a:cubicBezTo>
                  <a:pt x="683306" y="1358595"/>
                  <a:pt x="684566" y="1366832"/>
                  <a:pt x="694414" y="1376680"/>
                </a:cubicBezTo>
                <a:cubicBezTo>
                  <a:pt x="698731" y="1380997"/>
                  <a:pt x="704574" y="1383453"/>
                  <a:pt x="709654" y="1386840"/>
                </a:cubicBezTo>
                <a:cubicBezTo>
                  <a:pt x="704624" y="1401930"/>
                  <a:pt x="701409" y="1420485"/>
                  <a:pt x="689334" y="1432560"/>
                </a:cubicBezTo>
                <a:cubicBezTo>
                  <a:pt x="685017" y="1436877"/>
                  <a:pt x="679174" y="1439333"/>
                  <a:pt x="674094" y="1442720"/>
                </a:cubicBezTo>
                <a:cubicBezTo>
                  <a:pt x="672401" y="1447800"/>
                  <a:pt x="671409" y="1453171"/>
                  <a:pt x="669014" y="1457960"/>
                </a:cubicBezTo>
                <a:cubicBezTo>
                  <a:pt x="649319" y="1497351"/>
                  <a:pt x="666543" y="1450134"/>
                  <a:pt x="653774" y="1488440"/>
                </a:cubicBezTo>
                <a:cubicBezTo>
                  <a:pt x="652081" y="1508760"/>
                  <a:pt x="651223" y="1529167"/>
                  <a:pt x="648694" y="1549400"/>
                </a:cubicBezTo>
                <a:cubicBezTo>
                  <a:pt x="647159" y="1561684"/>
                  <a:pt x="636400" y="1591361"/>
                  <a:pt x="633454" y="1600200"/>
                </a:cubicBezTo>
                <a:cubicBezTo>
                  <a:pt x="631761" y="1605280"/>
                  <a:pt x="631344" y="1610985"/>
                  <a:pt x="628374" y="1615440"/>
                </a:cubicBezTo>
                <a:cubicBezTo>
                  <a:pt x="615244" y="1635135"/>
                  <a:pt x="620145" y="1624888"/>
                  <a:pt x="613134" y="1645920"/>
                </a:cubicBezTo>
                <a:cubicBezTo>
                  <a:pt x="614827" y="1695027"/>
                  <a:pt x="615149" y="1744200"/>
                  <a:pt x="618214" y="1793240"/>
                </a:cubicBezTo>
                <a:cubicBezTo>
                  <a:pt x="618548" y="1798584"/>
                  <a:pt x="619949" y="1804299"/>
                  <a:pt x="623294" y="1808480"/>
                </a:cubicBezTo>
                <a:cubicBezTo>
                  <a:pt x="627108" y="1813248"/>
                  <a:pt x="633454" y="1815253"/>
                  <a:pt x="638534" y="1818640"/>
                </a:cubicBezTo>
                <a:cubicBezTo>
                  <a:pt x="641921" y="1823720"/>
                  <a:pt x="644785" y="1829190"/>
                  <a:pt x="648694" y="1833880"/>
                </a:cubicBezTo>
                <a:cubicBezTo>
                  <a:pt x="681289" y="1872994"/>
                  <a:pt x="648869" y="1826522"/>
                  <a:pt x="674094" y="1864360"/>
                </a:cubicBezTo>
                <a:cubicBezTo>
                  <a:pt x="694414" y="1862667"/>
                  <a:pt x="714842" y="1861975"/>
                  <a:pt x="735054" y="1859280"/>
                </a:cubicBezTo>
                <a:cubicBezTo>
                  <a:pt x="740362" y="1858572"/>
                  <a:pt x="745145" y="1855671"/>
                  <a:pt x="750294" y="1854200"/>
                </a:cubicBezTo>
                <a:cubicBezTo>
                  <a:pt x="757007" y="1852282"/>
                  <a:pt x="763841" y="1850813"/>
                  <a:pt x="770614" y="1849120"/>
                </a:cubicBezTo>
                <a:cubicBezTo>
                  <a:pt x="774001" y="1844040"/>
                  <a:pt x="778044" y="1839341"/>
                  <a:pt x="780774" y="1833880"/>
                </a:cubicBezTo>
                <a:cubicBezTo>
                  <a:pt x="784834" y="1825760"/>
                  <a:pt x="788764" y="1805916"/>
                  <a:pt x="790934" y="1798320"/>
                </a:cubicBezTo>
                <a:cubicBezTo>
                  <a:pt x="792405" y="1793171"/>
                  <a:pt x="794321" y="1788160"/>
                  <a:pt x="796014" y="1783080"/>
                </a:cubicBezTo>
                <a:cubicBezTo>
                  <a:pt x="806487" y="1578863"/>
                  <a:pt x="769493" y="1639981"/>
                  <a:pt x="816334" y="1569720"/>
                </a:cubicBezTo>
                <a:cubicBezTo>
                  <a:pt x="823809" y="1532346"/>
                  <a:pt x="816625" y="1551504"/>
                  <a:pt x="841734" y="1513840"/>
                </a:cubicBezTo>
                <a:lnTo>
                  <a:pt x="841734" y="1513840"/>
                </a:lnTo>
                <a:lnTo>
                  <a:pt x="851894" y="1483360"/>
                </a:lnTo>
                <a:lnTo>
                  <a:pt x="856974" y="1468120"/>
                </a:lnTo>
                <a:cubicBezTo>
                  <a:pt x="875501" y="1523700"/>
                  <a:pt x="845953" y="1439514"/>
                  <a:pt x="872214" y="1498600"/>
                </a:cubicBezTo>
                <a:cubicBezTo>
                  <a:pt x="876564" y="1508387"/>
                  <a:pt x="876433" y="1520169"/>
                  <a:pt x="882374" y="1529080"/>
                </a:cubicBezTo>
                <a:cubicBezTo>
                  <a:pt x="889147" y="1539240"/>
                  <a:pt x="898833" y="1547976"/>
                  <a:pt x="902694" y="1559560"/>
                </a:cubicBezTo>
                <a:cubicBezTo>
                  <a:pt x="904387" y="1564640"/>
                  <a:pt x="905173" y="1570119"/>
                  <a:pt x="907774" y="1574800"/>
                </a:cubicBezTo>
                <a:cubicBezTo>
                  <a:pt x="913704" y="1585474"/>
                  <a:pt x="924233" y="1593696"/>
                  <a:pt x="928094" y="1605280"/>
                </a:cubicBezTo>
                <a:lnTo>
                  <a:pt x="943334" y="1651000"/>
                </a:lnTo>
                <a:lnTo>
                  <a:pt x="948414" y="1666240"/>
                </a:lnTo>
                <a:cubicBezTo>
                  <a:pt x="957084" y="1726927"/>
                  <a:pt x="948441" y="1681574"/>
                  <a:pt x="958574" y="1717040"/>
                </a:cubicBezTo>
                <a:cubicBezTo>
                  <a:pt x="960744" y="1724636"/>
                  <a:pt x="964674" y="1744480"/>
                  <a:pt x="968734" y="1752600"/>
                </a:cubicBezTo>
                <a:cubicBezTo>
                  <a:pt x="971464" y="1758061"/>
                  <a:pt x="976414" y="1762261"/>
                  <a:pt x="978894" y="1767840"/>
                </a:cubicBezTo>
                <a:cubicBezTo>
                  <a:pt x="1003075" y="1822248"/>
                  <a:pt x="976221" y="1779070"/>
                  <a:pt x="999214" y="1813560"/>
                </a:cubicBezTo>
                <a:cubicBezTo>
                  <a:pt x="1002054" y="1824919"/>
                  <a:pt x="1009507" y="1856939"/>
                  <a:pt x="1014454" y="1864360"/>
                </a:cubicBezTo>
                <a:cubicBezTo>
                  <a:pt x="1017841" y="1869440"/>
                  <a:pt x="1022134" y="1874021"/>
                  <a:pt x="1024614" y="1879600"/>
                </a:cubicBezTo>
                <a:cubicBezTo>
                  <a:pt x="1028964" y="1889387"/>
                  <a:pt x="1031387" y="1899920"/>
                  <a:pt x="1034774" y="1910080"/>
                </a:cubicBezTo>
                <a:lnTo>
                  <a:pt x="1039854" y="1925320"/>
                </a:lnTo>
                <a:cubicBezTo>
                  <a:pt x="1038161" y="1935480"/>
                  <a:pt x="1038957" y="1946388"/>
                  <a:pt x="1034774" y="1955800"/>
                </a:cubicBezTo>
                <a:cubicBezTo>
                  <a:pt x="1026520" y="1974372"/>
                  <a:pt x="1018320" y="1969107"/>
                  <a:pt x="1004294" y="1976120"/>
                </a:cubicBezTo>
                <a:cubicBezTo>
                  <a:pt x="998833" y="1978850"/>
                  <a:pt x="994134" y="1982893"/>
                  <a:pt x="989054" y="1986280"/>
                </a:cubicBezTo>
                <a:cubicBezTo>
                  <a:pt x="985667" y="1991360"/>
                  <a:pt x="980648" y="1995672"/>
                  <a:pt x="978894" y="2001520"/>
                </a:cubicBezTo>
                <a:cubicBezTo>
                  <a:pt x="971370" y="2026599"/>
                  <a:pt x="980037" y="2037740"/>
                  <a:pt x="963654" y="2057400"/>
                </a:cubicBezTo>
                <a:cubicBezTo>
                  <a:pt x="959745" y="2062090"/>
                  <a:pt x="953494" y="2064173"/>
                  <a:pt x="948414" y="2067560"/>
                </a:cubicBezTo>
                <a:cubicBezTo>
                  <a:pt x="946721" y="2072640"/>
                  <a:pt x="945935" y="2078119"/>
                  <a:pt x="943334" y="2082800"/>
                </a:cubicBezTo>
                <a:cubicBezTo>
                  <a:pt x="937404" y="2093474"/>
                  <a:pt x="923014" y="2113280"/>
                  <a:pt x="923014" y="2113280"/>
                </a:cubicBezTo>
                <a:cubicBezTo>
                  <a:pt x="924707" y="2140373"/>
                  <a:pt x="923860" y="2167746"/>
                  <a:pt x="928094" y="2194560"/>
                </a:cubicBezTo>
                <a:cubicBezTo>
                  <a:pt x="929046" y="2200591"/>
                  <a:pt x="933077" y="2206564"/>
                  <a:pt x="938254" y="2209800"/>
                </a:cubicBezTo>
                <a:cubicBezTo>
                  <a:pt x="947336" y="2215476"/>
                  <a:pt x="968734" y="2219960"/>
                  <a:pt x="968734" y="2219960"/>
                </a:cubicBezTo>
                <a:cubicBezTo>
                  <a:pt x="983974" y="2218267"/>
                  <a:pt x="999329" y="2217401"/>
                  <a:pt x="1014454" y="2214880"/>
                </a:cubicBezTo>
                <a:cubicBezTo>
                  <a:pt x="1019736" y="2214000"/>
                  <a:pt x="1024476" y="2211004"/>
                  <a:pt x="1029694" y="2209800"/>
                </a:cubicBezTo>
                <a:cubicBezTo>
                  <a:pt x="1102560" y="2192985"/>
                  <a:pt x="1058897" y="2206839"/>
                  <a:pt x="1095734" y="2194560"/>
                </a:cubicBezTo>
                <a:cubicBezTo>
                  <a:pt x="1102507" y="2189480"/>
                  <a:pt x="1108703" y="2183521"/>
                  <a:pt x="1116054" y="2179320"/>
                </a:cubicBezTo>
                <a:cubicBezTo>
                  <a:pt x="1120703" y="2176663"/>
                  <a:pt x="1127508" y="2178026"/>
                  <a:pt x="1131294" y="2174240"/>
                </a:cubicBezTo>
                <a:cubicBezTo>
                  <a:pt x="1139928" y="2165606"/>
                  <a:pt x="1144841" y="2153920"/>
                  <a:pt x="1151614" y="2143760"/>
                </a:cubicBezTo>
                <a:lnTo>
                  <a:pt x="1161774" y="2128520"/>
                </a:lnTo>
                <a:cubicBezTo>
                  <a:pt x="1165161" y="2123440"/>
                  <a:pt x="1167617" y="2117597"/>
                  <a:pt x="1171934" y="2113280"/>
                </a:cubicBezTo>
                <a:lnTo>
                  <a:pt x="1187174" y="2098040"/>
                </a:lnTo>
                <a:lnTo>
                  <a:pt x="1202414" y="2052320"/>
                </a:lnTo>
                <a:lnTo>
                  <a:pt x="1207494" y="2037080"/>
                </a:lnTo>
                <a:lnTo>
                  <a:pt x="1212574" y="2021840"/>
                </a:lnTo>
                <a:cubicBezTo>
                  <a:pt x="1219898" y="1890006"/>
                  <a:pt x="1221009" y="1915365"/>
                  <a:pt x="1212574" y="1742440"/>
                </a:cubicBezTo>
                <a:cubicBezTo>
                  <a:pt x="1212234" y="1735466"/>
                  <a:pt x="1210616" y="1728365"/>
                  <a:pt x="1207494" y="1722120"/>
                </a:cubicBezTo>
                <a:cubicBezTo>
                  <a:pt x="1202033" y="1711198"/>
                  <a:pt x="1187174" y="1691640"/>
                  <a:pt x="1187174" y="1691640"/>
                </a:cubicBezTo>
                <a:cubicBezTo>
                  <a:pt x="1174836" y="1617613"/>
                  <a:pt x="1192584" y="1709222"/>
                  <a:pt x="1166854" y="1625600"/>
                </a:cubicBezTo>
                <a:cubicBezTo>
                  <a:pt x="1163825" y="1615755"/>
                  <a:pt x="1164484" y="1605057"/>
                  <a:pt x="1161774" y="1595120"/>
                </a:cubicBezTo>
                <a:cubicBezTo>
                  <a:pt x="1159375" y="1586322"/>
                  <a:pt x="1154234" y="1578454"/>
                  <a:pt x="1151614" y="1569720"/>
                </a:cubicBezTo>
                <a:cubicBezTo>
                  <a:pt x="1148345" y="1558823"/>
                  <a:pt x="1143383" y="1523487"/>
                  <a:pt x="1141454" y="1513840"/>
                </a:cubicBezTo>
                <a:cubicBezTo>
                  <a:pt x="1139426" y="1503698"/>
                  <a:pt x="1129917" y="1468594"/>
                  <a:pt x="1126214" y="1463040"/>
                </a:cubicBezTo>
                <a:lnTo>
                  <a:pt x="1116054" y="1447800"/>
                </a:lnTo>
                <a:cubicBezTo>
                  <a:pt x="1114361" y="1441027"/>
                  <a:pt x="1112980" y="1434167"/>
                  <a:pt x="1110974" y="1427480"/>
                </a:cubicBezTo>
                <a:cubicBezTo>
                  <a:pt x="1107897" y="1417222"/>
                  <a:pt x="1100814" y="1397000"/>
                  <a:pt x="1100814" y="1397000"/>
                </a:cubicBezTo>
                <a:cubicBezTo>
                  <a:pt x="1102507" y="1369907"/>
                  <a:pt x="1102226" y="1342617"/>
                  <a:pt x="1105894" y="1315720"/>
                </a:cubicBezTo>
                <a:cubicBezTo>
                  <a:pt x="1112125" y="1270027"/>
                  <a:pt x="1120192" y="1284826"/>
                  <a:pt x="1166854" y="1280160"/>
                </a:cubicBezTo>
                <a:cubicBezTo>
                  <a:pt x="1171934" y="1278467"/>
                  <a:pt x="1177305" y="1277475"/>
                  <a:pt x="1182094" y="1275080"/>
                </a:cubicBezTo>
                <a:cubicBezTo>
                  <a:pt x="1187555" y="1272350"/>
                  <a:pt x="1191722" y="1267325"/>
                  <a:pt x="1197334" y="1264920"/>
                </a:cubicBezTo>
                <a:cubicBezTo>
                  <a:pt x="1208234" y="1260249"/>
                  <a:pt x="1239407" y="1256699"/>
                  <a:pt x="1248134" y="1254760"/>
                </a:cubicBezTo>
                <a:cubicBezTo>
                  <a:pt x="1294095" y="1244547"/>
                  <a:pt x="1215281" y="1255551"/>
                  <a:pt x="1293854" y="1229360"/>
                </a:cubicBezTo>
                <a:cubicBezTo>
                  <a:pt x="1314886" y="1222349"/>
                  <a:pt x="1304639" y="1227250"/>
                  <a:pt x="1324334" y="1214120"/>
                </a:cubicBezTo>
                <a:cubicBezTo>
                  <a:pt x="1341267" y="1215813"/>
                  <a:pt x="1358314" y="1216612"/>
                  <a:pt x="1375134" y="1219200"/>
                </a:cubicBezTo>
                <a:cubicBezTo>
                  <a:pt x="1380427" y="1220014"/>
                  <a:pt x="1385030" y="1223946"/>
                  <a:pt x="1390374" y="1224280"/>
                </a:cubicBezTo>
                <a:cubicBezTo>
                  <a:pt x="1439414" y="1227345"/>
                  <a:pt x="1488587" y="1227667"/>
                  <a:pt x="1537694" y="1229360"/>
                </a:cubicBezTo>
                <a:cubicBezTo>
                  <a:pt x="1542774" y="1231053"/>
                  <a:pt x="1547579" y="1234440"/>
                  <a:pt x="1552934" y="1234440"/>
                </a:cubicBezTo>
                <a:cubicBezTo>
                  <a:pt x="1795748" y="1234440"/>
                  <a:pt x="1648727" y="1237246"/>
                  <a:pt x="1745974" y="1224280"/>
                </a:cubicBezTo>
                <a:cubicBezTo>
                  <a:pt x="1761173" y="1222253"/>
                  <a:pt x="1776454" y="1220893"/>
                  <a:pt x="1791694" y="1219200"/>
                </a:cubicBezTo>
                <a:cubicBezTo>
                  <a:pt x="1796774" y="1217507"/>
                  <a:pt x="1802012" y="1216229"/>
                  <a:pt x="1806934" y="1214120"/>
                </a:cubicBezTo>
                <a:cubicBezTo>
                  <a:pt x="1813895" y="1211137"/>
                  <a:pt x="1820070" y="1206355"/>
                  <a:pt x="1827254" y="1203960"/>
                </a:cubicBezTo>
                <a:cubicBezTo>
                  <a:pt x="1840501" y="1199544"/>
                  <a:pt x="1854647" y="1198216"/>
                  <a:pt x="1867894" y="1193800"/>
                </a:cubicBezTo>
                <a:lnTo>
                  <a:pt x="1913614" y="1178560"/>
                </a:lnTo>
                <a:lnTo>
                  <a:pt x="1928854" y="1173480"/>
                </a:lnTo>
                <a:cubicBezTo>
                  <a:pt x="1989754" y="1185660"/>
                  <a:pt x="1962620" y="1180801"/>
                  <a:pt x="2010134" y="1188720"/>
                </a:cubicBezTo>
                <a:cubicBezTo>
                  <a:pt x="2040614" y="1187027"/>
                  <a:pt x="2071185" y="1186534"/>
                  <a:pt x="2101574" y="1183640"/>
                </a:cubicBezTo>
                <a:cubicBezTo>
                  <a:pt x="2106905" y="1183132"/>
                  <a:pt x="2111481" y="1179045"/>
                  <a:pt x="2116814" y="1178560"/>
                </a:cubicBezTo>
                <a:cubicBezTo>
                  <a:pt x="2148900" y="1175643"/>
                  <a:pt x="2181183" y="1175554"/>
                  <a:pt x="2213334" y="1173480"/>
                </a:cubicBezTo>
                <a:cubicBezTo>
                  <a:pt x="2233682" y="1172167"/>
                  <a:pt x="2253974" y="1170093"/>
                  <a:pt x="2274294" y="1168400"/>
                </a:cubicBezTo>
                <a:cubicBezTo>
                  <a:pt x="2331982" y="1182822"/>
                  <a:pt x="2265926" y="1168400"/>
                  <a:pt x="2396214" y="1168400"/>
                </a:cubicBezTo>
                <a:cubicBezTo>
                  <a:pt x="2416604" y="1168400"/>
                  <a:pt x="2436854" y="1171787"/>
                  <a:pt x="2457174" y="1173480"/>
                </a:cubicBezTo>
                <a:cubicBezTo>
                  <a:pt x="2501698" y="1218004"/>
                  <a:pt x="2447211" y="1161525"/>
                  <a:pt x="2482574" y="1203960"/>
                </a:cubicBezTo>
                <a:cubicBezTo>
                  <a:pt x="2487173" y="1209479"/>
                  <a:pt x="2492734" y="1214120"/>
                  <a:pt x="2497814" y="1219200"/>
                </a:cubicBezTo>
                <a:cubicBezTo>
                  <a:pt x="2506755" y="1246024"/>
                  <a:pt x="2499924" y="1229985"/>
                  <a:pt x="2523214" y="1264920"/>
                </a:cubicBezTo>
                <a:cubicBezTo>
                  <a:pt x="2526601" y="1270000"/>
                  <a:pt x="2531443" y="1274368"/>
                  <a:pt x="2533374" y="1280160"/>
                </a:cubicBezTo>
                <a:lnTo>
                  <a:pt x="2558774" y="1356360"/>
                </a:lnTo>
                <a:cubicBezTo>
                  <a:pt x="2573308" y="1399963"/>
                  <a:pt x="2551053" y="1330556"/>
                  <a:pt x="2568934" y="1402080"/>
                </a:cubicBezTo>
                <a:cubicBezTo>
                  <a:pt x="2571531" y="1412470"/>
                  <a:pt x="2579094" y="1432560"/>
                  <a:pt x="2579094" y="1432560"/>
                </a:cubicBezTo>
                <a:cubicBezTo>
                  <a:pt x="2580787" y="1446107"/>
                  <a:pt x="2581732" y="1459768"/>
                  <a:pt x="2584174" y="1473200"/>
                </a:cubicBezTo>
                <a:cubicBezTo>
                  <a:pt x="2585132" y="1478468"/>
                  <a:pt x="2587783" y="1483291"/>
                  <a:pt x="2589254" y="1488440"/>
                </a:cubicBezTo>
                <a:cubicBezTo>
                  <a:pt x="2599684" y="1524944"/>
                  <a:pt x="2588938" y="1492258"/>
                  <a:pt x="2599414" y="1534160"/>
                </a:cubicBezTo>
                <a:cubicBezTo>
                  <a:pt x="2605798" y="1559697"/>
                  <a:pt x="2602238" y="1539808"/>
                  <a:pt x="2614654" y="1564640"/>
                </a:cubicBezTo>
                <a:cubicBezTo>
                  <a:pt x="2617049" y="1569429"/>
                  <a:pt x="2618263" y="1574731"/>
                  <a:pt x="2619734" y="1579880"/>
                </a:cubicBezTo>
                <a:cubicBezTo>
                  <a:pt x="2621652" y="1586593"/>
                  <a:pt x="2622896" y="1593487"/>
                  <a:pt x="2624814" y="1600200"/>
                </a:cubicBezTo>
                <a:cubicBezTo>
                  <a:pt x="2626285" y="1605349"/>
                  <a:pt x="2628595" y="1610245"/>
                  <a:pt x="2629894" y="1615440"/>
                </a:cubicBezTo>
                <a:cubicBezTo>
                  <a:pt x="2631988" y="1623817"/>
                  <a:pt x="2632702" y="1632510"/>
                  <a:pt x="2634974" y="1640840"/>
                </a:cubicBezTo>
                <a:cubicBezTo>
                  <a:pt x="2637792" y="1651172"/>
                  <a:pt x="2643373" y="1660756"/>
                  <a:pt x="2645134" y="1671320"/>
                </a:cubicBezTo>
                <a:cubicBezTo>
                  <a:pt x="2646827" y="1681480"/>
                  <a:pt x="2647980" y="1691745"/>
                  <a:pt x="2650214" y="1701800"/>
                </a:cubicBezTo>
                <a:cubicBezTo>
                  <a:pt x="2651376" y="1707027"/>
                  <a:pt x="2654132" y="1711813"/>
                  <a:pt x="2655294" y="1717040"/>
                </a:cubicBezTo>
                <a:cubicBezTo>
                  <a:pt x="2658113" y="1729727"/>
                  <a:pt x="2663834" y="1771737"/>
                  <a:pt x="2665454" y="1783080"/>
                </a:cubicBezTo>
                <a:cubicBezTo>
                  <a:pt x="2667147" y="1852507"/>
                  <a:pt x="2667581" y="1921975"/>
                  <a:pt x="2670534" y="1991360"/>
                </a:cubicBezTo>
                <a:cubicBezTo>
                  <a:pt x="2670972" y="2001651"/>
                  <a:pt x="2673594" y="2011740"/>
                  <a:pt x="2675614" y="2021840"/>
                </a:cubicBezTo>
                <a:cubicBezTo>
                  <a:pt x="2676983" y="2028686"/>
                  <a:pt x="2674773" y="2038460"/>
                  <a:pt x="2680694" y="2042160"/>
                </a:cubicBezTo>
                <a:cubicBezTo>
                  <a:pt x="2690848" y="2048506"/>
                  <a:pt x="2704401" y="2045547"/>
                  <a:pt x="2716254" y="2047240"/>
                </a:cubicBezTo>
                <a:cubicBezTo>
                  <a:pt x="2728280" y="2051249"/>
                  <a:pt x="2744634" y="2057400"/>
                  <a:pt x="2756894" y="2057400"/>
                </a:cubicBezTo>
                <a:cubicBezTo>
                  <a:pt x="2780661" y="2057400"/>
                  <a:pt x="2804307" y="2054013"/>
                  <a:pt x="2828014" y="2052320"/>
                </a:cubicBezTo>
                <a:cubicBezTo>
                  <a:pt x="2878137" y="1977136"/>
                  <a:pt x="2843254" y="2035351"/>
                  <a:pt x="2843254" y="1818640"/>
                </a:cubicBezTo>
                <a:cubicBezTo>
                  <a:pt x="2843254" y="1772889"/>
                  <a:pt x="2841028" y="1727142"/>
                  <a:pt x="2838174" y="1681480"/>
                </a:cubicBezTo>
                <a:cubicBezTo>
                  <a:pt x="2837637" y="1672881"/>
                  <a:pt x="2830408" y="1645335"/>
                  <a:pt x="2828014" y="1635760"/>
                </a:cubicBezTo>
                <a:cubicBezTo>
                  <a:pt x="2826321" y="1620520"/>
                  <a:pt x="2825266" y="1605195"/>
                  <a:pt x="2822934" y="1590040"/>
                </a:cubicBezTo>
                <a:cubicBezTo>
                  <a:pt x="2821872" y="1583139"/>
                  <a:pt x="2818841" y="1576632"/>
                  <a:pt x="2817854" y="1569720"/>
                </a:cubicBezTo>
                <a:cubicBezTo>
                  <a:pt x="2815447" y="1552873"/>
                  <a:pt x="2814653" y="1535834"/>
                  <a:pt x="2812774" y="1518920"/>
                </a:cubicBezTo>
                <a:cubicBezTo>
                  <a:pt x="2811273" y="1505411"/>
                  <a:pt x="2810347" y="1478506"/>
                  <a:pt x="2802614" y="1463040"/>
                </a:cubicBezTo>
                <a:cubicBezTo>
                  <a:pt x="2799884" y="1457579"/>
                  <a:pt x="2795841" y="1452880"/>
                  <a:pt x="2792454" y="1447800"/>
                </a:cubicBezTo>
                <a:cubicBezTo>
                  <a:pt x="2790761" y="1439333"/>
                  <a:pt x="2790104" y="1430591"/>
                  <a:pt x="2787374" y="1422400"/>
                </a:cubicBezTo>
                <a:cubicBezTo>
                  <a:pt x="2784979" y="1415216"/>
                  <a:pt x="2780197" y="1409041"/>
                  <a:pt x="2777214" y="1402080"/>
                </a:cubicBezTo>
                <a:cubicBezTo>
                  <a:pt x="2764595" y="1372635"/>
                  <a:pt x="2781499" y="1400888"/>
                  <a:pt x="2761974" y="1371600"/>
                </a:cubicBezTo>
                <a:cubicBezTo>
                  <a:pt x="2760314" y="1361643"/>
                  <a:pt x="2754857" y="1326877"/>
                  <a:pt x="2751814" y="1315720"/>
                </a:cubicBezTo>
                <a:cubicBezTo>
                  <a:pt x="2748996" y="1305388"/>
                  <a:pt x="2745041" y="1295400"/>
                  <a:pt x="2741654" y="1285240"/>
                </a:cubicBezTo>
                <a:cubicBezTo>
                  <a:pt x="2739961" y="1280160"/>
                  <a:pt x="2737873" y="1275195"/>
                  <a:pt x="2736574" y="1270000"/>
                </a:cubicBezTo>
                <a:cubicBezTo>
                  <a:pt x="2720693" y="1206476"/>
                  <a:pt x="2740990" y="1285455"/>
                  <a:pt x="2726414" y="1234440"/>
                </a:cubicBezTo>
                <a:cubicBezTo>
                  <a:pt x="2713657" y="1189789"/>
                  <a:pt x="2728434" y="1235420"/>
                  <a:pt x="2716254" y="1198880"/>
                </a:cubicBezTo>
                <a:cubicBezTo>
                  <a:pt x="2715122" y="1190954"/>
                  <a:pt x="2704557" y="1142588"/>
                  <a:pt x="2716254" y="1132840"/>
                </a:cubicBezTo>
                <a:cubicBezTo>
                  <a:pt x="2722887" y="1127312"/>
                  <a:pt x="2733187" y="1136227"/>
                  <a:pt x="2741654" y="1137920"/>
                </a:cubicBezTo>
                <a:cubicBezTo>
                  <a:pt x="2748427" y="1148080"/>
                  <a:pt x="2758113" y="1156816"/>
                  <a:pt x="2761974" y="1168400"/>
                </a:cubicBezTo>
                <a:cubicBezTo>
                  <a:pt x="2763667" y="1173480"/>
                  <a:pt x="2765583" y="1178491"/>
                  <a:pt x="2767054" y="1183640"/>
                </a:cubicBezTo>
                <a:cubicBezTo>
                  <a:pt x="2768972" y="1190353"/>
                  <a:pt x="2768670" y="1197898"/>
                  <a:pt x="2772134" y="1203960"/>
                </a:cubicBezTo>
                <a:cubicBezTo>
                  <a:pt x="2775698" y="1210198"/>
                  <a:pt x="2782294" y="1214120"/>
                  <a:pt x="2787374" y="1219200"/>
                </a:cubicBezTo>
                <a:cubicBezTo>
                  <a:pt x="2799022" y="1254143"/>
                  <a:pt x="2783090" y="1211703"/>
                  <a:pt x="2807694" y="1254760"/>
                </a:cubicBezTo>
                <a:cubicBezTo>
                  <a:pt x="2810351" y="1259409"/>
                  <a:pt x="2810117" y="1265351"/>
                  <a:pt x="2812774" y="1270000"/>
                </a:cubicBezTo>
                <a:cubicBezTo>
                  <a:pt x="2816975" y="1277351"/>
                  <a:pt x="2823902" y="1282919"/>
                  <a:pt x="2828014" y="1290320"/>
                </a:cubicBezTo>
                <a:cubicBezTo>
                  <a:pt x="2832443" y="1298291"/>
                  <a:pt x="2834470" y="1307387"/>
                  <a:pt x="2838174" y="1315720"/>
                </a:cubicBezTo>
                <a:cubicBezTo>
                  <a:pt x="2841250" y="1322640"/>
                  <a:pt x="2844577" y="1329465"/>
                  <a:pt x="2848334" y="1336040"/>
                </a:cubicBezTo>
                <a:cubicBezTo>
                  <a:pt x="2851363" y="1341341"/>
                  <a:pt x="2855570" y="1345920"/>
                  <a:pt x="2858494" y="1351280"/>
                </a:cubicBezTo>
                <a:cubicBezTo>
                  <a:pt x="2865747" y="1364576"/>
                  <a:pt x="2870413" y="1379318"/>
                  <a:pt x="2878814" y="1391920"/>
                </a:cubicBezTo>
                <a:cubicBezTo>
                  <a:pt x="2882201" y="1397000"/>
                  <a:pt x="2886494" y="1401581"/>
                  <a:pt x="2888974" y="1407160"/>
                </a:cubicBezTo>
                <a:cubicBezTo>
                  <a:pt x="2893324" y="1416947"/>
                  <a:pt x="2893624" y="1428457"/>
                  <a:pt x="2899134" y="1437640"/>
                </a:cubicBezTo>
                <a:cubicBezTo>
                  <a:pt x="2904214" y="1446107"/>
                  <a:pt x="2909141" y="1454667"/>
                  <a:pt x="2914374" y="1463040"/>
                </a:cubicBezTo>
                <a:cubicBezTo>
                  <a:pt x="2917610" y="1468217"/>
                  <a:pt x="2921804" y="1472819"/>
                  <a:pt x="2924534" y="1478280"/>
                </a:cubicBezTo>
                <a:cubicBezTo>
                  <a:pt x="2926929" y="1483069"/>
                  <a:pt x="2927219" y="1488731"/>
                  <a:pt x="2929614" y="1493520"/>
                </a:cubicBezTo>
                <a:cubicBezTo>
                  <a:pt x="2932344" y="1498981"/>
                  <a:pt x="2937044" y="1503299"/>
                  <a:pt x="2939774" y="1508760"/>
                </a:cubicBezTo>
                <a:cubicBezTo>
                  <a:pt x="2942169" y="1513549"/>
                  <a:pt x="2941884" y="1519545"/>
                  <a:pt x="2944854" y="1524000"/>
                </a:cubicBezTo>
                <a:cubicBezTo>
                  <a:pt x="2948839" y="1529978"/>
                  <a:pt x="2955014" y="1534160"/>
                  <a:pt x="2960094" y="1539240"/>
                </a:cubicBezTo>
                <a:cubicBezTo>
                  <a:pt x="2961787" y="1544320"/>
                  <a:pt x="2962573" y="1549799"/>
                  <a:pt x="2965174" y="1554480"/>
                </a:cubicBezTo>
                <a:cubicBezTo>
                  <a:pt x="2971104" y="1565154"/>
                  <a:pt x="2981633" y="1573376"/>
                  <a:pt x="2985494" y="1584960"/>
                </a:cubicBezTo>
                <a:cubicBezTo>
                  <a:pt x="2992505" y="1605992"/>
                  <a:pt x="2987604" y="1595745"/>
                  <a:pt x="3000734" y="1615440"/>
                </a:cubicBezTo>
                <a:cubicBezTo>
                  <a:pt x="3003460" y="1629072"/>
                  <a:pt x="3008608" y="1660271"/>
                  <a:pt x="3015974" y="1671320"/>
                </a:cubicBezTo>
                <a:lnTo>
                  <a:pt x="3026134" y="1686560"/>
                </a:lnTo>
                <a:cubicBezTo>
                  <a:pt x="3027827" y="1693333"/>
                  <a:pt x="3029296" y="1700167"/>
                  <a:pt x="3031214" y="1706880"/>
                </a:cubicBezTo>
                <a:cubicBezTo>
                  <a:pt x="3032685" y="1712029"/>
                  <a:pt x="3034885" y="1716954"/>
                  <a:pt x="3036294" y="1722120"/>
                </a:cubicBezTo>
                <a:cubicBezTo>
                  <a:pt x="3039968" y="1735592"/>
                  <a:pt x="3046454" y="1762760"/>
                  <a:pt x="3046454" y="1762760"/>
                </a:cubicBezTo>
                <a:cubicBezTo>
                  <a:pt x="3061694" y="1739900"/>
                  <a:pt x="3060847" y="1732703"/>
                  <a:pt x="3082014" y="1722120"/>
                </a:cubicBezTo>
                <a:cubicBezTo>
                  <a:pt x="3086803" y="1719725"/>
                  <a:pt x="3092174" y="1718733"/>
                  <a:pt x="3097254" y="1717040"/>
                </a:cubicBezTo>
                <a:cubicBezTo>
                  <a:pt x="3123287" y="1677990"/>
                  <a:pt x="3115567" y="1698605"/>
                  <a:pt x="3122654" y="1656080"/>
                </a:cubicBezTo>
                <a:cubicBezTo>
                  <a:pt x="3121810" y="1645114"/>
                  <a:pt x="3116253" y="1563115"/>
                  <a:pt x="3112494" y="1544320"/>
                </a:cubicBezTo>
                <a:cubicBezTo>
                  <a:pt x="3110394" y="1533818"/>
                  <a:pt x="3105721" y="1524000"/>
                  <a:pt x="3102334" y="1513840"/>
                </a:cubicBezTo>
                <a:cubicBezTo>
                  <a:pt x="3090154" y="1477300"/>
                  <a:pt x="3104931" y="1522931"/>
                  <a:pt x="3092174" y="1478280"/>
                </a:cubicBezTo>
                <a:cubicBezTo>
                  <a:pt x="3090703" y="1473131"/>
                  <a:pt x="3088565" y="1468189"/>
                  <a:pt x="3087094" y="1463040"/>
                </a:cubicBezTo>
                <a:cubicBezTo>
                  <a:pt x="3085176" y="1456327"/>
                  <a:pt x="3084020" y="1449407"/>
                  <a:pt x="3082014" y="1442720"/>
                </a:cubicBezTo>
                <a:cubicBezTo>
                  <a:pt x="3078937" y="1432462"/>
                  <a:pt x="3073954" y="1422742"/>
                  <a:pt x="3071854" y="1412240"/>
                </a:cubicBezTo>
                <a:cubicBezTo>
                  <a:pt x="3065289" y="1379414"/>
                  <a:pt x="3070635" y="1394563"/>
                  <a:pt x="3056614" y="1366520"/>
                </a:cubicBezTo>
                <a:cubicBezTo>
                  <a:pt x="3053122" y="1349061"/>
                  <a:pt x="3051237" y="1337540"/>
                  <a:pt x="3046454" y="1320800"/>
                </a:cubicBezTo>
                <a:cubicBezTo>
                  <a:pt x="3044983" y="1315651"/>
                  <a:pt x="3042783" y="1310726"/>
                  <a:pt x="3041374" y="1305560"/>
                </a:cubicBezTo>
                <a:cubicBezTo>
                  <a:pt x="3024186" y="1242537"/>
                  <a:pt x="3037827" y="1284758"/>
                  <a:pt x="3026134" y="1249680"/>
                </a:cubicBezTo>
                <a:cubicBezTo>
                  <a:pt x="3024441" y="1237827"/>
                  <a:pt x="3023402" y="1225861"/>
                  <a:pt x="3021054" y="1214120"/>
                </a:cubicBezTo>
                <a:cubicBezTo>
                  <a:pt x="3018316" y="1200428"/>
                  <a:pt x="3010894" y="1173480"/>
                  <a:pt x="3010894" y="1173480"/>
                </a:cubicBezTo>
                <a:cubicBezTo>
                  <a:pt x="3009201" y="1158240"/>
                  <a:pt x="3008146" y="1142915"/>
                  <a:pt x="3005814" y="1127760"/>
                </a:cubicBezTo>
                <a:cubicBezTo>
                  <a:pt x="3002013" y="1103054"/>
                  <a:pt x="3000965" y="1113443"/>
                  <a:pt x="2995654" y="1092200"/>
                </a:cubicBezTo>
                <a:cubicBezTo>
                  <a:pt x="2993560" y="1083823"/>
                  <a:pt x="2993304" y="1074991"/>
                  <a:pt x="2990574" y="1066800"/>
                </a:cubicBezTo>
                <a:cubicBezTo>
                  <a:pt x="2988179" y="1059616"/>
                  <a:pt x="2982809" y="1053664"/>
                  <a:pt x="2980414" y="1046480"/>
                </a:cubicBezTo>
                <a:cubicBezTo>
                  <a:pt x="2978156" y="1039706"/>
                  <a:pt x="2966617" y="985145"/>
                  <a:pt x="2960094" y="975360"/>
                </a:cubicBezTo>
                <a:cubicBezTo>
                  <a:pt x="2952662" y="964212"/>
                  <a:pt x="2944071" y="952690"/>
                  <a:pt x="2939774" y="939800"/>
                </a:cubicBezTo>
                <a:cubicBezTo>
                  <a:pt x="2935358" y="926553"/>
                  <a:pt x="2934030" y="912407"/>
                  <a:pt x="2929614" y="899160"/>
                </a:cubicBezTo>
                <a:lnTo>
                  <a:pt x="2924534" y="883920"/>
                </a:lnTo>
                <a:cubicBezTo>
                  <a:pt x="2922841" y="868680"/>
                  <a:pt x="2921786" y="853355"/>
                  <a:pt x="2919454" y="838200"/>
                </a:cubicBezTo>
                <a:cubicBezTo>
                  <a:pt x="2918392" y="831299"/>
                  <a:pt x="2915743" y="824726"/>
                  <a:pt x="2914374" y="817880"/>
                </a:cubicBezTo>
                <a:cubicBezTo>
                  <a:pt x="2912354" y="807780"/>
                  <a:pt x="2910987" y="797560"/>
                  <a:pt x="2909294" y="787400"/>
                </a:cubicBezTo>
                <a:cubicBezTo>
                  <a:pt x="2907601" y="765387"/>
                  <a:pt x="2906952" y="743268"/>
                  <a:pt x="2904214" y="721360"/>
                </a:cubicBezTo>
                <a:cubicBezTo>
                  <a:pt x="2903550" y="716047"/>
                  <a:pt x="2900433" y="711315"/>
                  <a:pt x="2899134" y="706120"/>
                </a:cubicBezTo>
                <a:cubicBezTo>
                  <a:pt x="2897040" y="697743"/>
                  <a:pt x="2896148" y="689097"/>
                  <a:pt x="2894054" y="680720"/>
                </a:cubicBezTo>
                <a:cubicBezTo>
                  <a:pt x="2892755" y="675525"/>
                  <a:pt x="2890273" y="670675"/>
                  <a:pt x="2888974" y="665480"/>
                </a:cubicBezTo>
                <a:cubicBezTo>
                  <a:pt x="2886880" y="657103"/>
                  <a:pt x="2885313" y="648597"/>
                  <a:pt x="2883894" y="640080"/>
                </a:cubicBezTo>
                <a:cubicBezTo>
                  <a:pt x="2881926" y="628269"/>
                  <a:pt x="2881506" y="616187"/>
                  <a:pt x="2878814" y="604520"/>
                </a:cubicBezTo>
                <a:cubicBezTo>
                  <a:pt x="2860005" y="523016"/>
                  <a:pt x="2877540" y="620063"/>
                  <a:pt x="2858494" y="548640"/>
                </a:cubicBezTo>
                <a:cubicBezTo>
                  <a:pt x="2851602" y="522794"/>
                  <a:pt x="2846882" y="489492"/>
                  <a:pt x="2843254" y="462280"/>
                </a:cubicBezTo>
                <a:cubicBezTo>
                  <a:pt x="2840925" y="444815"/>
                  <a:pt x="2839291" y="408075"/>
                  <a:pt x="2828014" y="391160"/>
                </a:cubicBezTo>
                <a:lnTo>
                  <a:pt x="2817854" y="375920"/>
                </a:lnTo>
                <a:cubicBezTo>
                  <a:pt x="2807281" y="333630"/>
                  <a:pt x="2820155" y="375442"/>
                  <a:pt x="2802614" y="340360"/>
                </a:cubicBezTo>
                <a:cubicBezTo>
                  <a:pt x="2800219" y="335571"/>
                  <a:pt x="2800135" y="329801"/>
                  <a:pt x="2797534" y="325120"/>
                </a:cubicBezTo>
                <a:cubicBezTo>
                  <a:pt x="2791604" y="314446"/>
                  <a:pt x="2783987" y="304800"/>
                  <a:pt x="2777214" y="294640"/>
                </a:cubicBezTo>
                <a:cubicBezTo>
                  <a:pt x="2773827" y="289560"/>
                  <a:pt x="2768985" y="285192"/>
                  <a:pt x="2767054" y="279400"/>
                </a:cubicBezTo>
                <a:cubicBezTo>
                  <a:pt x="2765361" y="274320"/>
                  <a:pt x="2765319" y="268341"/>
                  <a:pt x="2761974" y="264160"/>
                </a:cubicBezTo>
                <a:cubicBezTo>
                  <a:pt x="2758160" y="259392"/>
                  <a:pt x="2751424" y="257909"/>
                  <a:pt x="2746734" y="254000"/>
                </a:cubicBezTo>
                <a:cubicBezTo>
                  <a:pt x="2707620" y="221405"/>
                  <a:pt x="2754092" y="253825"/>
                  <a:pt x="2716254" y="228600"/>
                </a:cubicBezTo>
                <a:cubicBezTo>
                  <a:pt x="2706264" y="213615"/>
                  <a:pt x="2705522" y="210343"/>
                  <a:pt x="2690854" y="198120"/>
                </a:cubicBezTo>
                <a:cubicBezTo>
                  <a:pt x="2686164" y="194211"/>
                  <a:pt x="2680694" y="191347"/>
                  <a:pt x="2675614" y="187960"/>
                </a:cubicBezTo>
                <a:cubicBezTo>
                  <a:pt x="2656987" y="160020"/>
                  <a:pt x="2675614" y="183727"/>
                  <a:pt x="2650214" y="162560"/>
                </a:cubicBezTo>
                <a:cubicBezTo>
                  <a:pt x="2644695" y="157961"/>
                  <a:pt x="2640952" y="151305"/>
                  <a:pt x="2634974" y="147320"/>
                </a:cubicBezTo>
                <a:cubicBezTo>
                  <a:pt x="2630519" y="144350"/>
                  <a:pt x="2624415" y="144841"/>
                  <a:pt x="2619734" y="142240"/>
                </a:cubicBezTo>
                <a:cubicBezTo>
                  <a:pt x="2609060" y="136310"/>
                  <a:pt x="2599414" y="128693"/>
                  <a:pt x="2589254" y="121920"/>
                </a:cubicBezTo>
                <a:cubicBezTo>
                  <a:pt x="2584174" y="118533"/>
                  <a:pt x="2579806" y="113691"/>
                  <a:pt x="2574014" y="111760"/>
                </a:cubicBezTo>
                <a:lnTo>
                  <a:pt x="2543534" y="101600"/>
                </a:lnTo>
                <a:cubicBezTo>
                  <a:pt x="2538454" y="99907"/>
                  <a:pt x="2532749" y="99490"/>
                  <a:pt x="2528294" y="96520"/>
                </a:cubicBezTo>
                <a:cubicBezTo>
                  <a:pt x="2523214" y="93133"/>
                  <a:pt x="2518633" y="88840"/>
                  <a:pt x="2513054" y="86360"/>
                </a:cubicBezTo>
                <a:cubicBezTo>
                  <a:pt x="2480545" y="71912"/>
                  <a:pt x="2488107" y="79556"/>
                  <a:pt x="2457174" y="71120"/>
                </a:cubicBezTo>
                <a:cubicBezTo>
                  <a:pt x="2394190" y="53943"/>
                  <a:pt x="2463346" y="64625"/>
                  <a:pt x="2375894" y="55880"/>
                </a:cubicBezTo>
                <a:lnTo>
                  <a:pt x="2304774" y="40640"/>
                </a:lnTo>
                <a:cubicBezTo>
                  <a:pt x="2296325" y="38861"/>
                  <a:pt x="2279374" y="35560"/>
                  <a:pt x="2279374" y="35560"/>
                </a:cubicBezTo>
                <a:cubicBezTo>
                  <a:pt x="2213334" y="37253"/>
                  <a:pt x="2147241" y="37498"/>
                  <a:pt x="2081254" y="40640"/>
                </a:cubicBezTo>
                <a:cubicBezTo>
                  <a:pt x="2067141" y="41312"/>
                  <a:pt x="2062580" y="49977"/>
                  <a:pt x="2050774" y="55880"/>
                </a:cubicBezTo>
                <a:cubicBezTo>
                  <a:pt x="2045985" y="58275"/>
                  <a:pt x="2040215" y="58359"/>
                  <a:pt x="2035534" y="60960"/>
                </a:cubicBezTo>
                <a:cubicBezTo>
                  <a:pt x="2024860" y="66890"/>
                  <a:pt x="2005054" y="81280"/>
                  <a:pt x="2005054" y="81280"/>
                </a:cubicBezTo>
                <a:cubicBezTo>
                  <a:pt x="1996331" y="74738"/>
                  <a:pt x="1979894" y="61823"/>
                  <a:pt x="1969494" y="55880"/>
                </a:cubicBezTo>
                <a:cubicBezTo>
                  <a:pt x="1962919" y="52123"/>
                  <a:pt x="1955336" y="50122"/>
                  <a:pt x="1949174" y="45720"/>
                </a:cubicBezTo>
                <a:cubicBezTo>
                  <a:pt x="1943328" y="41544"/>
                  <a:pt x="1939780" y="34656"/>
                  <a:pt x="1933934" y="30480"/>
                </a:cubicBezTo>
                <a:cubicBezTo>
                  <a:pt x="1927772" y="26078"/>
                  <a:pt x="1920189" y="24077"/>
                  <a:pt x="1913614" y="20320"/>
                </a:cubicBezTo>
                <a:cubicBezTo>
                  <a:pt x="1908313" y="17291"/>
                  <a:pt x="1904091" y="12304"/>
                  <a:pt x="1898374" y="10160"/>
                </a:cubicBezTo>
                <a:cubicBezTo>
                  <a:pt x="1892694" y="8030"/>
                  <a:pt x="1845918" y="571"/>
                  <a:pt x="1842494" y="0"/>
                </a:cubicBezTo>
                <a:cubicBezTo>
                  <a:pt x="1786614" y="1693"/>
                  <a:pt x="1730567" y="437"/>
                  <a:pt x="1674854" y="5080"/>
                </a:cubicBezTo>
                <a:cubicBezTo>
                  <a:pt x="1668770" y="5587"/>
                  <a:pt x="1665075" y="12510"/>
                  <a:pt x="1659614" y="15240"/>
                </a:cubicBezTo>
                <a:cubicBezTo>
                  <a:pt x="1654825" y="17635"/>
                  <a:pt x="1649055" y="17719"/>
                  <a:pt x="1644374" y="20320"/>
                </a:cubicBezTo>
                <a:cubicBezTo>
                  <a:pt x="1633700" y="26250"/>
                  <a:pt x="1613894" y="40640"/>
                  <a:pt x="1613894" y="40640"/>
                </a:cubicBezTo>
                <a:cubicBezTo>
                  <a:pt x="1564748" y="28354"/>
                  <a:pt x="1597092" y="34309"/>
                  <a:pt x="1502134" y="40640"/>
                </a:cubicBezTo>
                <a:cubicBezTo>
                  <a:pt x="1326914" y="52321"/>
                  <a:pt x="1602544" y="38385"/>
                  <a:pt x="1329414" y="50800"/>
                </a:cubicBezTo>
                <a:cubicBezTo>
                  <a:pt x="1253657" y="76052"/>
                  <a:pt x="1331901" y="51611"/>
                  <a:pt x="1126214" y="60960"/>
                </a:cubicBezTo>
                <a:cubicBezTo>
                  <a:pt x="1114253" y="61504"/>
                  <a:pt x="1102507" y="64347"/>
                  <a:pt x="1090654" y="66040"/>
                </a:cubicBezTo>
                <a:cubicBezTo>
                  <a:pt x="1065794" y="64128"/>
                  <a:pt x="1012642" y="61092"/>
                  <a:pt x="983974" y="55880"/>
                </a:cubicBezTo>
                <a:cubicBezTo>
                  <a:pt x="978706" y="54922"/>
                  <a:pt x="973814" y="52493"/>
                  <a:pt x="968734" y="50800"/>
                </a:cubicBezTo>
                <a:cubicBezTo>
                  <a:pt x="961626" y="51392"/>
                  <a:pt x="876051" y="57961"/>
                  <a:pt x="862054" y="60960"/>
                </a:cubicBezTo>
                <a:cubicBezTo>
                  <a:pt x="853138" y="62871"/>
                  <a:pt x="845121" y="67733"/>
                  <a:pt x="836654" y="71120"/>
                </a:cubicBezTo>
                <a:cubicBezTo>
                  <a:pt x="831574" y="76200"/>
                  <a:pt x="827652" y="82796"/>
                  <a:pt x="821414" y="86360"/>
                </a:cubicBezTo>
                <a:cubicBezTo>
                  <a:pt x="815352" y="89824"/>
                  <a:pt x="806903" y="87567"/>
                  <a:pt x="801094" y="91440"/>
                </a:cubicBezTo>
                <a:cubicBezTo>
                  <a:pt x="796014" y="94827"/>
                  <a:pt x="795702" y="102866"/>
                  <a:pt x="790934" y="106680"/>
                </a:cubicBezTo>
                <a:cubicBezTo>
                  <a:pt x="786753" y="110025"/>
                  <a:pt x="780483" y="109365"/>
                  <a:pt x="775694" y="111760"/>
                </a:cubicBezTo>
                <a:cubicBezTo>
                  <a:pt x="740612" y="129301"/>
                  <a:pt x="782424" y="116427"/>
                  <a:pt x="740134" y="127000"/>
                </a:cubicBezTo>
                <a:cubicBezTo>
                  <a:pt x="713619" y="144677"/>
                  <a:pt x="735479" y="133114"/>
                  <a:pt x="694414" y="142240"/>
                </a:cubicBezTo>
                <a:cubicBezTo>
                  <a:pt x="689187" y="143402"/>
                  <a:pt x="684323" y="145849"/>
                  <a:pt x="679174" y="147320"/>
                </a:cubicBezTo>
                <a:cubicBezTo>
                  <a:pt x="672461" y="149238"/>
                  <a:pt x="665627" y="150707"/>
                  <a:pt x="658854" y="152400"/>
                </a:cubicBezTo>
                <a:cubicBezTo>
                  <a:pt x="653774" y="155787"/>
                  <a:pt x="649331" y="160416"/>
                  <a:pt x="643614" y="162560"/>
                </a:cubicBezTo>
                <a:cubicBezTo>
                  <a:pt x="635529" y="165592"/>
                  <a:pt x="626643" y="165767"/>
                  <a:pt x="618214" y="167640"/>
                </a:cubicBezTo>
                <a:cubicBezTo>
                  <a:pt x="611398" y="169155"/>
                  <a:pt x="604667" y="171027"/>
                  <a:pt x="597894" y="172720"/>
                </a:cubicBezTo>
                <a:cubicBezTo>
                  <a:pt x="560764" y="197473"/>
                  <a:pt x="607450" y="167259"/>
                  <a:pt x="562334" y="193040"/>
                </a:cubicBezTo>
                <a:cubicBezTo>
                  <a:pt x="537258" y="207369"/>
                  <a:pt x="555849" y="200268"/>
                  <a:pt x="526774" y="218440"/>
                </a:cubicBezTo>
                <a:cubicBezTo>
                  <a:pt x="501765" y="234071"/>
                  <a:pt x="510161" y="221103"/>
                  <a:pt x="491214" y="243840"/>
                </a:cubicBezTo>
                <a:cubicBezTo>
                  <a:pt x="473016" y="265678"/>
                  <a:pt x="487430" y="251409"/>
                  <a:pt x="475974" y="274320"/>
                </a:cubicBezTo>
                <a:cubicBezTo>
                  <a:pt x="456813" y="312643"/>
                  <a:pt x="466693" y="286751"/>
                  <a:pt x="450574" y="314960"/>
                </a:cubicBezTo>
                <a:cubicBezTo>
                  <a:pt x="446817" y="321535"/>
                  <a:pt x="444816" y="329118"/>
                  <a:pt x="440414" y="335280"/>
                </a:cubicBezTo>
                <a:cubicBezTo>
                  <a:pt x="436238" y="341126"/>
                  <a:pt x="429773" y="345001"/>
                  <a:pt x="425174" y="350520"/>
                </a:cubicBezTo>
                <a:cubicBezTo>
                  <a:pt x="421265" y="355210"/>
                  <a:pt x="418563" y="360792"/>
                  <a:pt x="415014" y="365760"/>
                </a:cubicBezTo>
                <a:cubicBezTo>
                  <a:pt x="410093" y="372650"/>
                  <a:pt x="406102" y="380455"/>
                  <a:pt x="399774" y="386080"/>
                </a:cubicBezTo>
                <a:cubicBezTo>
                  <a:pt x="390648" y="394192"/>
                  <a:pt x="379454" y="399627"/>
                  <a:pt x="369294" y="406400"/>
                </a:cubicBezTo>
                <a:lnTo>
                  <a:pt x="354054" y="416560"/>
                </a:lnTo>
                <a:lnTo>
                  <a:pt x="338814" y="426720"/>
                </a:lnTo>
                <a:lnTo>
                  <a:pt x="323574" y="436880"/>
                </a:lnTo>
                <a:cubicBezTo>
                  <a:pt x="310805" y="475186"/>
                  <a:pt x="328029" y="427969"/>
                  <a:pt x="308334" y="467360"/>
                </a:cubicBezTo>
                <a:cubicBezTo>
                  <a:pt x="287302" y="509424"/>
                  <a:pt x="322211" y="454164"/>
                  <a:pt x="293094" y="497840"/>
                </a:cubicBezTo>
                <a:cubicBezTo>
                  <a:pt x="291401" y="504613"/>
                  <a:pt x="290020" y="511473"/>
                  <a:pt x="288014" y="518160"/>
                </a:cubicBezTo>
                <a:cubicBezTo>
                  <a:pt x="284937" y="528418"/>
                  <a:pt x="277854" y="548640"/>
                  <a:pt x="277854" y="548640"/>
                </a:cubicBezTo>
                <a:cubicBezTo>
                  <a:pt x="276161" y="575733"/>
                  <a:pt x="276442" y="603023"/>
                  <a:pt x="272774" y="629920"/>
                </a:cubicBezTo>
                <a:cubicBezTo>
                  <a:pt x="271327" y="640531"/>
                  <a:pt x="264714" y="649898"/>
                  <a:pt x="262614" y="660400"/>
                </a:cubicBezTo>
                <a:cubicBezTo>
                  <a:pt x="259227" y="677333"/>
                  <a:pt x="257915" y="694817"/>
                  <a:pt x="252454" y="711200"/>
                </a:cubicBezTo>
                <a:cubicBezTo>
                  <a:pt x="250761" y="716280"/>
                  <a:pt x="249769" y="721651"/>
                  <a:pt x="247374" y="726440"/>
                </a:cubicBezTo>
                <a:cubicBezTo>
                  <a:pt x="244644" y="731901"/>
                  <a:pt x="240601" y="736600"/>
                  <a:pt x="237214" y="741680"/>
                </a:cubicBezTo>
                <a:cubicBezTo>
                  <a:pt x="228438" y="776785"/>
                  <a:pt x="258381" y="800100"/>
                  <a:pt x="247374" y="812800"/>
                </a:cubicBezTo>
                <a:close/>
              </a:path>
            </a:pathLst>
          </a:custGeom>
          <a:noFill/>
          <a:ln w="7632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Emergence </a:t>
            </a:r>
            <a:endParaRPr b="1" lang="en-US" sz="3900" spc="-1" strike="noStrike">
              <a:solidFill>
                <a:srgbClr val="330066"/>
              </a:solidFill>
              <a:latin typeface="Arial"/>
            </a:endParaRPr>
          </a:p>
        </p:txBody>
      </p:sp>
      <p:sp>
        <p:nvSpPr>
          <p:cNvPr id="2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dog is not recognized by first identifying its parts (feet, ears, nose, tail, etc.), and then inferring the dog from those component part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stead, </a:t>
            </a:r>
            <a:r>
              <a:rPr b="0" lang="en-GB" sz="3000" spc="-1" strike="noStrike" u="sng">
                <a:solidFill>
                  <a:srgbClr val="000000"/>
                </a:solidFill>
                <a:uFillTx/>
                <a:latin typeface="Arial"/>
              </a:rPr>
              <a:t>the dog is perceived as a whole</a:t>
            </a:r>
            <a:r>
              <a:rPr b="0" lang="en-GB" sz="3000" spc="-1" strike="noStrike">
                <a:solidFill>
                  <a:srgbClr val="000000"/>
                </a:solidFill>
                <a:latin typeface="Arial"/>
              </a:rPr>
              <a:t>, all at onc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Reification </a:t>
            </a:r>
            <a:endParaRPr b="1" lang="en-US" sz="3900" spc="-1" strike="noStrike">
              <a:solidFill>
                <a:srgbClr val="330066"/>
              </a:solidFill>
              <a:latin typeface="Arial"/>
            </a:endParaRPr>
          </a:p>
        </p:txBody>
      </p:sp>
      <p:sp>
        <p:nvSpPr>
          <p:cNvPr id="2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experienced percept contains more explicit spatial information than the sensory stimulus on which it is based.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Reification</a:t>
            </a:r>
            <a:endParaRPr b="1" lang="en-US" sz="3900" spc="-1" strike="noStrike">
              <a:solidFill>
                <a:srgbClr val="330066"/>
              </a:solidFill>
              <a:latin typeface="Arial"/>
            </a:endParaRPr>
          </a:p>
        </p:txBody>
      </p:sp>
      <p:pic>
        <p:nvPicPr>
          <p:cNvPr id="262" name="Picture 5" descr="reification"/>
          <p:cNvPicPr/>
          <p:nvPr/>
        </p:nvPicPr>
        <p:blipFill>
          <a:blip r:embed="rId1"/>
          <a:stretch/>
        </p:blipFill>
        <p:spPr>
          <a:xfrm>
            <a:off x="1763640" y="1989000"/>
            <a:ext cx="5105520" cy="4007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sp>
        <p:nvSpPr>
          <p:cNvPr id="2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tendency of ambiguous perceptual experiences to pop back and forth unstably between two or more alternative interpretation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gnitivism</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gnitivism argues that the “black box” of the mind should be opened and understoo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learner is viewed as an information process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r>
            <a:r>
              <a:rPr b="0" lang="en-GB" sz="3000" spc="-1" strike="noStrike">
                <a:solidFill>
                  <a:srgbClr val="000000"/>
                </a:solidFill>
                <a:latin typeface="Arial"/>
              </a:rPr>
              <a:t>or a computer</a:t>
            </a:r>
            <a:endParaRPr b="0" lang="en-US" sz="3000" spc="-1" strike="noStrike">
              <a:solidFill>
                <a:srgbClr val="000000"/>
              </a:solidFill>
              <a:latin typeface="Arial"/>
            </a:endParaRPr>
          </a:p>
        </p:txBody>
      </p:sp>
      <p:pic>
        <p:nvPicPr>
          <p:cNvPr id="160" name="Picture 4" descr="j0285750"/>
          <p:cNvPicPr/>
          <p:nvPr/>
        </p:nvPicPr>
        <p:blipFill>
          <a:blip r:embed="rId1"/>
          <a:stretch/>
        </p:blipFill>
        <p:spPr>
          <a:xfrm>
            <a:off x="4932360" y="4149720"/>
            <a:ext cx="3867120" cy="2374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66" name="Picture 5" descr="Multistability"/>
          <p:cNvPicPr/>
          <p:nvPr/>
        </p:nvPicPr>
        <p:blipFill>
          <a:blip r:embed="rId1"/>
          <a:stretch/>
        </p:blipFill>
        <p:spPr>
          <a:xfrm>
            <a:off x="1028880" y="1341360"/>
            <a:ext cx="6422760" cy="2659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68" name="Picture 5" descr="Multistability"/>
          <p:cNvPicPr/>
          <p:nvPr/>
        </p:nvPicPr>
        <p:blipFill>
          <a:blip r:embed="rId1"/>
          <a:stretch/>
        </p:blipFill>
        <p:spPr>
          <a:xfrm>
            <a:off x="1028880" y="1341360"/>
            <a:ext cx="6422760" cy="2659320"/>
          </a:xfrm>
          <a:prstGeom prst="rect">
            <a:avLst/>
          </a:prstGeom>
          <a:ln w="0">
            <a:noFill/>
          </a:ln>
        </p:spPr>
      </p:pic>
      <p:pic>
        <p:nvPicPr>
          <p:cNvPr id="269" name="Picture 5" descr="Multistability"/>
          <p:cNvPicPr/>
          <p:nvPr/>
        </p:nvPicPr>
        <p:blipFill>
          <a:blip r:embed="rId2"/>
          <a:stretch/>
        </p:blipFill>
        <p:spPr>
          <a:xfrm>
            <a:off x="1042920" y="4083120"/>
            <a:ext cx="6423120" cy="2658960"/>
          </a:xfrm>
          <a:prstGeom prst="rect">
            <a:avLst/>
          </a:prstGeom>
          <a:ln w="0">
            <a:noFill/>
          </a:ln>
        </p:spPr>
      </p:pic>
      <p:sp>
        <p:nvSpPr>
          <p:cNvPr id="270" name="Rectangle 4"/>
          <p:cNvSpPr/>
          <p:nvPr/>
        </p:nvSpPr>
        <p:spPr>
          <a:xfrm>
            <a:off x="1116000" y="5157720"/>
            <a:ext cx="1584360" cy="158436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lowchart: Data 5"/>
          <p:cNvSpPr/>
          <p:nvPr/>
        </p:nvSpPr>
        <p:spPr>
          <a:xfrm>
            <a:off x="1116000" y="4365720"/>
            <a:ext cx="2016000" cy="79200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lowchart: Data 6"/>
          <p:cNvSpPr/>
          <p:nvPr/>
        </p:nvSpPr>
        <p:spPr>
          <a:xfrm rot="21028200">
            <a:off x="2587680" y="5079960"/>
            <a:ext cx="1280880" cy="156708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1"/>
          <p:cNvSpPr/>
          <p:nvPr/>
        </p:nvSpPr>
        <p:spPr>
          <a:xfrm>
            <a:off x="5565600" y="4332240"/>
            <a:ext cx="1932120" cy="2303640"/>
          </a:xfrm>
          <a:custGeom>
            <a:avLst/>
            <a:gdLst/>
            <a:ahLst/>
            <a:rect l="l" t="t" r="r" b="b"/>
            <a:pathLst>
              <a:path w="1872911" h="2358390">
                <a:moveTo>
                  <a:pt x="83583" y="106680"/>
                </a:moveTo>
                <a:cubicBezTo>
                  <a:pt x="89933" y="107950"/>
                  <a:pt x="96157" y="110490"/>
                  <a:pt x="102633" y="110490"/>
                </a:cubicBezTo>
                <a:cubicBezTo>
                  <a:pt x="124174" y="110490"/>
                  <a:pt x="128469" y="108228"/>
                  <a:pt x="144543" y="102870"/>
                </a:cubicBezTo>
                <a:cubicBezTo>
                  <a:pt x="159242" y="104206"/>
                  <a:pt x="191838" y="106121"/>
                  <a:pt x="209313" y="110490"/>
                </a:cubicBezTo>
                <a:cubicBezTo>
                  <a:pt x="217105" y="112438"/>
                  <a:pt x="232173" y="118110"/>
                  <a:pt x="232173" y="118110"/>
                </a:cubicBezTo>
                <a:cubicBezTo>
                  <a:pt x="234713" y="121920"/>
                  <a:pt x="236555" y="126302"/>
                  <a:pt x="239793" y="129540"/>
                </a:cubicBezTo>
                <a:cubicBezTo>
                  <a:pt x="248564" y="138311"/>
                  <a:pt x="254804" y="138055"/>
                  <a:pt x="266463" y="140970"/>
                </a:cubicBezTo>
                <a:cubicBezTo>
                  <a:pt x="267733" y="144780"/>
                  <a:pt x="267433" y="149560"/>
                  <a:pt x="270273" y="152400"/>
                </a:cubicBezTo>
                <a:cubicBezTo>
                  <a:pt x="276749" y="158876"/>
                  <a:pt x="286657" y="161164"/>
                  <a:pt x="293133" y="167640"/>
                </a:cubicBezTo>
                <a:cubicBezTo>
                  <a:pt x="296943" y="171450"/>
                  <a:pt x="300080" y="176081"/>
                  <a:pt x="304563" y="179070"/>
                </a:cubicBezTo>
                <a:cubicBezTo>
                  <a:pt x="307905" y="181298"/>
                  <a:pt x="312183" y="181610"/>
                  <a:pt x="315993" y="182880"/>
                </a:cubicBezTo>
                <a:cubicBezTo>
                  <a:pt x="318533" y="187960"/>
                  <a:pt x="320691" y="193250"/>
                  <a:pt x="323613" y="198120"/>
                </a:cubicBezTo>
                <a:cubicBezTo>
                  <a:pt x="328325" y="205973"/>
                  <a:pt x="338853" y="220980"/>
                  <a:pt x="338853" y="220980"/>
                </a:cubicBezTo>
                <a:cubicBezTo>
                  <a:pt x="348932" y="261294"/>
                  <a:pt x="335248" y="213821"/>
                  <a:pt x="350283" y="247650"/>
                </a:cubicBezTo>
                <a:cubicBezTo>
                  <a:pt x="362652" y="275480"/>
                  <a:pt x="348544" y="267390"/>
                  <a:pt x="369333" y="274320"/>
                </a:cubicBezTo>
                <a:cubicBezTo>
                  <a:pt x="381408" y="292433"/>
                  <a:pt x="375505" y="281406"/>
                  <a:pt x="384573" y="308610"/>
                </a:cubicBezTo>
                <a:cubicBezTo>
                  <a:pt x="385843" y="312420"/>
                  <a:pt x="386155" y="316698"/>
                  <a:pt x="388383" y="320040"/>
                </a:cubicBezTo>
                <a:cubicBezTo>
                  <a:pt x="390923" y="323850"/>
                  <a:pt x="393955" y="327374"/>
                  <a:pt x="396003" y="331470"/>
                </a:cubicBezTo>
                <a:cubicBezTo>
                  <a:pt x="397799" y="335062"/>
                  <a:pt x="398231" y="339209"/>
                  <a:pt x="399813" y="342900"/>
                </a:cubicBezTo>
                <a:cubicBezTo>
                  <a:pt x="402050" y="348120"/>
                  <a:pt x="404893" y="353060"/>
                  <a:pt x="407433" y="358140"/>
                </a:cubicBezTo>
                <a:cubicBezTo>
                  <a:pt x="408703" y="370840"/>
                  <a:pt x="407737" y="383968"/>
                  <a:pt x="411243" y="396240"/>
                </a:cubicBezTo>
                <a:cubicBezTo>
                  <a:pt x="412987" y="402346"/>
                  <a:pt x="419523" y="405967"/>
                  <a:pt x="422673" y="411480"/>
                </a:cubicBezTo>
                <a:cubicBezTo>
                  <a:pt x="424666" y="414967"/>
                  <a:pt x="424533" y="419399"/>
                  <a:pt x="426483" y="422910"/>
                </a:cubicBezTo>
                <a:cubicBezTo>
                  <a:pt x="430931" y="430916"/>
                  <a:pt x="438827" y="437082"/>
                  <a:pt x="441723" y="445770"/>
                </a:cubicBezTo>
                <a:cubicBezTo>
                  <a:pt x="442993" y="449580"/>
                  <a:pt x="443377" y="453812"/>
                  <a:pt x="445533" y="457200"/>
                </a:cubicBezTo>
                <a:cubicBezTo>
                  <a:pt x="452351" y="467915"/>
                  <a:pt x="461348" y="477113"/>
                  <a:pt x="468393" y="487680"/>
                </a:cubicBezTo>
                <a:lnTo>
                  <a:pt x="476013" y="499110"/>
                </a:lnTo>
                <a:cubicBezTo>
                  <a:pt x="477283" y="505460"/>
                  <a:pt x="478252" y="511878"/>
                  <a:pt x="479823" y="518160"/>
                </a:cubicBezTo>
                <a:cubicBezTo>
                  <a:pt x="480797" y="522056"/>
                  <a:pt x="482973" y="525629"/>
                  <a:pt x="483633" y="529590"/>
                </a:cubicBezTo>
                <a:cubicBezTo>
                  <a:pt x="485524" y="540934"/>
                  <a:pt x="485817" y="552495"/>
                  <a:pt x="487443" y="563880"/>
                </a:cubicBezTo>
                <a:cubicBezTo>
                  <a:pt x="489742" y="579972"/>
                  <a:pt x="490631" y="581064"/>
                  <a:pt x="495063" y="594360"/>
                </a:cubicBezTo>
                <a:cubicBezTo>
                  <a:pt x="496333" y="603250"/>
                  <a:pt x="496510" y="612366"/>
                  <a:pt x="498873" y="621030"/>
                </a:cubicBezTo>
                <a:cubicBezTo>
                  <a:pt x="500367" y="626509"/>
                  <a:pt x="504256" y="631050"/>
                  <a:pt x="506493" y="636270"/>
                </a:cubicBezTo>
                <a:cubicBezTo>
                  <a:pt x="508075" y="639961"/>
                  <a:pt x="509200" y="643838"/>
                  <a:pt x="510303" y="647700"/>
                </a:cubicBezTo>
                <a:cubicBezTo>
                  <a:pt x="511931" y="653397"/>
                  <a:pt x="514878" y="668280"/>
                  <a:pt x="517923" y="674370"/>
                </a:cubicBezTo>
                <a:cubicBezTo>
                  <a:pt x="519971" y="678466"/>
                  <a:pt x="523003" y="681990"/>
                  <a:pt x="525543" y="685800"/>
                </a:cubicBezTo>
                <a:cubicBezTo>
                  <a:pt x="526813" y="698500"/>
                  <a:pt x="526679" y="711420"/>
                  <a:pt x="529353" y="723900"/>
                </a:cubicBezTo>
                <a:cubicBezTo>
                  <a:pt x="530543" y="729454"/>
                  <a:pt x="535413" y="733679"/>
                  <a:pt x="536973" y="739140"/>
                </a:cubicBezTo>
                <a:cubicBezTo>
                  <a:pt x="540531" y="751593"/>
                  <a:pt x="544593" y="777240"/>
                  <a:pt x="544593" y="777240"/>
                </a:cubicBezTo>
                <a:cubicBezTo>
                  <a:pt x="545863" y="808990"/>
                  <a:pt x="546139" y="840795"/>
                  <a:pt x="548403" y="872490"/>
                </a:cubicBezTo>
                <a:cubicBezTo>
                  <a:pt x="548689" y="876496"/>
                  <a:pt x="551769" y="879928"/>
                  <a:pt x="552213" y="883920"/>
                </a:cubicBezTo>
                <a:cubicBezTo>
                  <a:pt x="560367" y="957309"/>
                  <a:pt x="549128" y="920385"/>
                  <a:pt x="559833" y="952500"/>
                </a:cubicBezTo>
                <a:cubicBezTo>
                  <a:pt x="561237" y="962329"/>
                  <a:pt x="562133" y="979960"/>
                  <a:pt x="567453" y="990600"/>
                </a:cubicBezTo>
                <a:cubicBezTo>
                  <a:pt x="570446" y="996586"/>
                  <a:pt x="583627" y="1013243"/>
                  <a:pt x="586503" y="1017270"/>
                </a:cubicBezTo>
                <a:cubicBezTo>
                  <a:pt x="589165" y="1020996"/>
                  <a:pt x="590885" y="1025462"/>
                  <a:pt x="594123" y="1028700"/>
                </a:cubicBezTo>
                <a:cubicBezTo>
                  <a:pt x="597361" y="1031938"/>
                  <a:pt x="601743" y="1033780"/>
                  <a:pt x="605553" y="1036320"/>
                </a:cubicBezTo>
                <a:cubicBezTo>
                  <a:pt x="609195" y="1047246"/>
                  <a:pt x="614122" y="1065370"/>
                  <a:pt x="624603" y="1070610"/>
                </a:cubicBezTo>
                <a:lnTo>
                  <a:pt x="639843" y="1078230"/>
                </a:lnTo>
                <a:cubicBezTo>
                  <a:pt x="656190" y="1110925"/>
                  <a:pt x="637352" y="1079549"/>
                  <a:pt x="658893" y="1101090"/>
                </a:cubicBezTo>
                <a:cubicBezTo>
                  <a:pt x="687248" y="1129445"/>
                  <a:pt x="654816" y="1105992"/>
                  <a:pt x="681753" y="1123950"/>
                </a:cubicBezTo>
                <a:cubicBezTo>
                  <a:pt x="684293" y="1127760"/>
                  <a:pt x="686442" y="1131862"/>
                  <a:pt x="689373" y="1135380"/>
                </a:cubicBezTo>
                <a:cubicBezTo>
                  <a:pt x="692822" y="1139519"/>
                  <a:pt x="697814" y="1142327"/>
                  <a:pt x="700803" y="1146810"/>
                </a:cubicBezTo>
                <a:cubicBezTo>
                  <a:pt x="703031" y="1150152"/>
                  <a:pt x="702385" y="1154898"/>
                  <a:pt x="704613" y="1158240"/>
                </a:cubicBezTo>
                <a:cubicBezTo>
                  <a:pt x="710480" y="1167041"/>
                  <a:pt x="719039" y="1171667"/>
                  <a:pt x="727473" y="1177290"/>
                </a:cubicBezTo>
                <a:cubicBezTo>
                  <a:pt x="732553" y="1184910"/>
                  <a:pt x="739817" y="1191462"/>
                  <a:pt x="742713" y="1200150"/>
                </a:cubicBezTo>
                <a:cubicBezTo>
                  <a:pt x="743983" y="1203960"/>
                  <a:pt x="744295" y="1208238"/>
                  <a:pt x="746523" y="1211580"/>
                </a:cubicBezTo>
                <a:cubicBezTo>
                  <a:pt x="749512" y="1216063"/>
                  <a:pt x="754143" y="1219200"/>
                  <a:pt x="757953" y="1223010"/>
                </a:cubicBezTo>
                <a:cubicBezTo>
                  <a:pt x="760493" y="1230630"/>
                  <a:pt x="761118" y="1239187"/>
                  <a:pt x="765573" y="1245870"/>
                </a:cubicBezTo>
                <a:cubicBezTo>
                  <a:pt x="768113" y="1249680"/>
                  <a:pt x="771333" y="1253116"/>
                  <a:pt x="773193" y="1257300"/>
                </a:cubicBezTo>
                <a:cubicBezTo>
                  <a:pt x="776455" y="1264640"/>
                  <a:pt x="780813" y="1280160"/>
                  <a:pt x="780813" y="1280160"/>
                </a:cubicBezTo>
                <a:cubicBezTo>
                  <a:pt x="778621" y="1321807"/>
                  <a:pt x="799622" y="1350685"/>
                  <a:pt x="765573" y="1356360"/>
                </a:cubicBezTo>
                <a:cubicBezTo>
                  <a:pt x="754229" y="1358251"/>
                  <a:pt x="742713" y="1358900"/>
                  <a:pt x="731283" y="1360170"/>
                </a:cubicBezTo>
                <a:cubicBezTo>
                  <a:pt x="719147" y="1363204"/>
                  <a:pt x="709569" y="1365855"/>
                  <a:pt x="696993" y="1367790"/>
                </a:cubicBezTo>
                <a:cubicBezTo>
                  <a:pt x="686873" y="1369347"/>
                  <a:pt x="676673" y="1370330"/>
                  <a:pt x="666513" y="1371600"/>
                </a:cubicBezTo>
                <a:cubicBezTo>
                  <a:pt x="657217" y="1374699"/>
                  <a:pt x="651039" y="1375644"/>
                  <a:pt x="643653" y="1383030"/>
                </a:cubicBezTo>
                <a:cubicBezTo>
                  <a:pt x="640415" y="1386268"/>
                  <a:pt x="638573" y="1390650"/>
                  <a:pt x="636033" y="1394460"/>
                </a:cubicBezTo>
                <a:cubicBezTo>
                  <a:pt x="642338" y="1444897"/>
                  <a:pt x="635822" y="1408962"/>
                  <a:pt x="643653" y="1436370"/>
                </a:cubicBezTo>
                <a:cubicBezTo>
                  <a:pt x="645092" y="1441405"/>
                  <a:pt x="645121" y="1446926"/>
                  <a:pt x="647463" y="1451610"/>
                </a:cubicBezTo>
                <a:cubicBezTo>
                  <a:pt x="651559" y="1459801"/>
                  <a:pt x="659807" y="1465782"/>
                  <a:pt x="662703" y="1474470"/>
                </a:cubicBezTo>
                <a:lnTo>
                  <a:pt x="670323" y="1497330"/>
                </a:lnTo>
                <a:cubicBezTo>
                  <a:pt x="671593" y="1517650"/>
                  <a:pt x="674133" y="1537930"/>
                  <a:pt x="674133" y="1558290"/>
                </a:cubicBezTo>
                <a:cubicBezTo>
                  <a:pt x="674133" y="1567270"/>
                  <a:pt x="678024" y="1580340"/>
                  <a:pt x="670323" y="1584960"/>
                </a:cubicBezTo>
                <a:cubicBezTo>
                  <a:pt x="660462" y="1590877"/>
                  <a:pt x="647463" y="1582420"/>
                  <a:pt x="636033" y="1581150"/>
                </a:cubicBezTo>
                <a:cubicBezTo>
                  <a:pt x="630441" y="1581500"/>
                  <a:pt x="582676" y="1579254"/>
                  <a:pt x="563643" y="1588770"/>
                </a:cubicBezTo>
                <a:cubicBezTo>
                  <a:pt x="559547" y="1590818"/>
                  <a:pt x="556023" y="1593850"/>
                  <a:pt x="552213" y="1596390"/>
                </a:cubicBezTo>
                <a:cubicBezTo>
                  <a:pt x="549499" y="1604532"/>
                  <a:pt x="543841" y="1614688"/>
                  <a:pt x="552213" y="1623060"/>
                </a:cubicBezTo>
                <a:cubicBezTo>
                  <a:pt x="555916" y="1626763"/>
                  <a:pt x="562418" y="1625431"/>
                  <a:pt x="567453" y="1626870"/>
                </a:cubicBezTo>
                <a:cubicBezTo>
                  <a:pt x="593715" y="1634373"/>
                  <a:pt x="560488" y="1627614"/>
                  <a:pt x="601743" y="1634490"/>
                </a:cubicBezTo>
                <a:cubicBezTo>
                  <a:pt x="604283" y="1638300"/>
                  <a:pt x="605267" y="1643872"/>
                  <a:pt x="609363" y="1645920"/>
                </a:cubicBezTo>
                <a:cubicBezTo>
                  <a:pt x="616273" y="1649375"/>
                  <a:pt x="624894" y="1647287"/>
                  <a:pt x="632223" y="1649730"/>
                </a:cubicBezTo>
                <a:cubicBezTo>
                  <a:pt x="636567" y="1651178"/>
                  <a:pt x="639843" y="1654810"/>
                  <a:pt x="643653" y="1657350"/>
                </a:cubicBezTo>
                <a:cubicBezTo>
                  <a:pt x="653230" y="1686080"/>
                  <a:pt x="640311" y="1650667"/>
                  <a:pt x="655083" y="1680210"/>
                </a:cubicBezTo>
                <a:cubicBezTo>
                  <a:pt x="656879" y="1683802"/>
                  <a:pt x="657623" y="1687830"/>
                  <a:pt x="658893" y="1691640"/>
                </a:cubicBezTo>
                <a:cubicBezTo>
                  <a:pt x="657623" y="1697990"/>
                  <a:pt x="658296" y="1705067"/>
                  <a:pt x="655083" y="1710690"/>
                </a:cubicBezTo>
                <a:cubicBezTo>
                  <a:pt x="652811" y="1714666"/>
                  <a:pt x="647171" y="1715379"/>
                  <a:pt x="643653" y="1718310"/>
                </a:cubicBezTo>
                <a:cubicBezTo>
                  <a:pt x="639514" y="1721759"/>
                  <a:pt x="636033" y="1725930"/>
                  <a:pt x="632223" y="1729740"/>
                </a:cubicBezTo>
                <a:cubicBezTo>
                  <a:pt x="623910" y="1754678"/>
                  <a:pt x="635456" y="1730202"/>
                  <a:pt x="616983" y="1744980"/>
                </a:cubicBezTo>
                <a:cubicBezTo>
                  <a:pt x="592364" y="1764675"/>
                  <a:pt x="626663" y="1750643"/>
                  <a:pt x="597933" y="1760220"/>
                </a:cubicBezTo>
                <a:lnTo>
                  <a:pt x="586503" y="1794510"/>
                </a:lnTo>
                <a:cubicBezTo>
                  <a:pt x="585233" y="1798320"/>
                  <a:pt x="583667" y="1802044"/>
                  <a:pt x="582693" y="1805940"/>
                </a:cubicBezTo>
                <a:cubicBezTo>
                  <a:pt x="581472" y="1810823"/>
                  <a:pt x="577806" y="1827144"/>
                  <a:pt x="575073" y="1832610"/>
                </a:cubicBezTo>
                <a:cubicBezTo>
                  <a:pt x="573025" y="1836706"/>
                  <a:pt x="569993" y="1840230"/>
                  <a:pt x="567453" y="1844040"/>
                </a:cubicBezTo>
                <a:cubicBezTo>
                  <a:pt x="566183" y="1907540"/>
                  <a:pt x="569291" y="1971279"/>
                  <a:pt x="563643" y="2034540"/>
                </a:cubicBezTo>
                <a:cubicBezTo>
                  <a:pt x="562829" y="2043662"/>
                  <a:pt x="551299" y="2048712"/>
                  <a:pt x="548403" y="2057400"/>
                </a:cubicBezTo>
                <a:cubicBezTo>
                  <a:pt x="545304" y="2066696"/>
                  <a:pt x="544359" y="2072874"/>
                  <a:pt x="536973" y="2080260"/>
                </a:cubicBezTo>
                <a:cubicBezTo>
                  <a:pt x="533735" y="2083498"/>
                  <a:pt x="529639" y="2085832"/>
                  <a:pt x="525543" y="2087880"/>
                </a:cubicBezTo>
                <a:cubicBezTo>
                  <a:pt x="521951" y="2089676"/>
                  <a:pt x="517923" y="2090420"/>
                  <a:pt x="514113" y="2091690"/>
                </a:cubicBezTo>
                <a:cubicBezTo>
                  <a:pt x="486591" y="2119212"/>
                  <a:pt x="511271" y="2099594"/>
                  <a:pt x="437913" y="2106930"/>
                </a:cubicBezTo>
                <a:cubicBezTo>
                  <a:pt x="433917" y="2107330"/>
                  <a:pt x="430421" y="2109952"/>
                  <a:pt x="426483" y="2110740"/>
                </a:cubicBezTo>
                <a:cubicBezTo>
                  <a:pt x="405152" y="2115006"/>
                  <a:pt x="373890" y="2116710"/>
                  <a:pt x="354093" y="2118360"/>
                </a:cubicBezTo>
                <a:cubicBezTo>
                  <a:pt x="329968" y="2124391"/>
                  <a:pt x="341758" y="2117813"/>
                  <a:pt x="323613" y="2145030"/>
                </a:cubicBezTo>
                <a:lnTo>
                  <a:pt x="323613" y="2145030"/>
                </a:lnTo>
                <a:cubicBezTo>
                  <a:pt x="275450" y="2161084"/>
                  <a:pt x="352454" y="2134303"/>
                  <a:pt x="300753" y="2156460"/>
                </a:cubicBezTo>
                <a:cubicBezTo>
                  <a:pt x="285844" y="2162849"/>
                  <a:pt x="278019" y="2157646"/>
                  <a:pt x="262653" y="2167890"/>
                </a:cubicBezTo>
                <a:cubicBezTo>
                  <a:pt x="244540" y="2179965"/>
                  <a:pt x="255567" y="2174062"/>
                  <a:pt x="228363" y="2183130"/>
                </a:cubicBezTo>
                <a:lnTo>
                  <a:pt x="216933" y="2186940"/>
                </a:lnTo>
                <a:cubicBezTo>
                  <a:pt x="213123" y="2188210"/>
                  <a:pt x="209513" y="2190527"/>
                  <a:pt x="205503" y="2190750"/>
                </a:cubicBezTo>
                <a:lnTo>
                  <a:pt x="136923" y="2194560"/>
                </a:lnTo>
                <a:cubicBezTo>
                  <a:pt x="131843" y="2198370"/>
                  <a:pt x="126504" y="2201857"/>
                  <a:pt x="121683" y="2205990"/>
                </a:cubicBezTo>
                <a:cubicBezTo>
                  <a:pt x="117592" y="2209497"/>
                  <a:pt x="114736" y="2214431"/>
                  <a:pt x="110253" y="2217420"/>
                </a:cubicBezTo>
                <a:cubicBezTo>
                  <a:pt x="106911" y="2219648"/>
                  <a:pt x="102633" y="2219960"/>
                  <a:pt x="98823" y="2221230"/>
                </a:cubicBezTo>
                <a:cubicBezTo>
                  <a:pt x="93743" y="2225040"/>
                  <a:pt x="89479" y="2230302"/>
                  <a:pt x="83583" y="2232660"/>
                </a:cubicBezTo>
                <a:cubicBezTo>
                  <a:pt x="76410" y="2235529"/>
                  <a:pt x="68217" y="2234596"/>
                  <a:pt x="60723" y="2236470"/>
                </a:cubicBezTo>
                <a:cubicBezTo>
                  <a:pt x="38960" y="2241911"/>
                  <a:pt x="41444" y="2241702"/>
                  <a:pt x="26433" y="2251710"/>
                </a:cubicBezTo>
                <a:cubicBezTo>
                  <a:pt x="25163" y="2255520"/>
                  <a:pt x="21353" y="2259330"/>
                  <a:pt x="22623" y="2263140"/>
                </a:cubicBezTo>
                <a:cubicBezTo>
                  <a:pt x="30871" y="2287883"/>
                  <a:pt x="34637" y="2285194"/>
                  <a:pt x="53103" y="2289810"/>
                </a:cubicBezTo>
                <a:cubicBezTo>
                  <a:pt x="60723" y="2297430"/>
                  <a:pt x="66997" y="2306692"/>
                  <a:pt x="75963" y="2312670"/>
                </a:cubicBezTo>
                <a:cubicBezTo>
                  <a:pt x="79773" y="2315210"/>
                  <a:pt x="82837" y="2319834"/>
                  <a:pt x="87393" y="2320290"/>
                </a:cubicBezTo>
                <a:cubicBezTo>
                  <a:pt x="121536" y="2323704"/>
                  <a:pt x="155973" y="2322830"/>
                  <a:pt x="190263" y="2324100"/>
                </a:cubicBezTo>
                <a:cubicBezTo>
                  <a:pt x="190512" y="2325096"/>
                  <a:pt x="195895" y="2348286"/>
                  <a:pt x="197883" y="2350770"/>
                </a:cubicBezTo>
                <a:cubicBezTo>
                  <a:pt x="200744" y="2354346"/>
                  <a:pt x="205503" y="2355850"/>
                  <a:pt x="209313" y="2358390"/>
                </a:cubicBezTo>
                <a:cubicBezTo>
                  <a:pt x="225823" y="2357120"/>
                  <a:pt x="242487" y="2357163"/>
                  <a:pt x="258843" y="2354580"/>
                </a:cubicBezTo>
                <a:cubicBezTo>
                  <a:pt x="266777" y="2353327"/>
                  <a:pt x="274083" y="2349500"/>
                  <a:pt x="281703" y="2346960"/>
                </a:cubicBezTo>
                <a:cubicBezTo>
                  <a:pt x="285513" y="2345690"/>
                  <a:pt x="289122" y="2343361"/>
                  <a:pt x="293133" y="2343150"/>
                </a:cubicBezTo>
                <a:lnTo>
                  <a:pt x="365523" y="2339340"/>
                </a:lnTo>
                <a:cubicBezTo>
                  <a:pt x="373143" y="2338070"/>
                  <a:pt x="380718" y="2336488"/>
                  <a:pt x="388383" y="2335530"/>
                </a:cubicBezTo>
                <a:cubicBezTo>
                  <a:pt x="401048" y="2333947"/>
                  <a:pt x="413848" y="2333525"/>
                  <a:pt x="426483" y="2331720"/>
                </a:cubicBezTo>
                <a:cubicBezTo>
                  <a:pt x="440950" y="2329653"/>
                  <a:pt x="453926" y="2322357"/>
                  <a:pt x="468393" y="2320290"/>
                </a:cubicBezTo>
                <a:cubicBezTo>
                  <a:pt x="481028" y="2318485"/>
                  <a:pt x="493800" y="2317816"/>
                  <a:pt x="506493" y="2316480"/>
                </a:cubicBezTo>
                <a:lnTo>
                  <a:pt x="540783" y="2312670"/>
                </a:lnTo>
                <a:cubicBezTo>
                  <a:pt x="550943" y="2310130"/>
                  <a:pt x="560896" y="2306531"/>
                  <a:pt x="571263" y="2305050"/>
                </a:cubicBezTo>
                <a:cubicBezTo>
                  <a:pt x="616833" y="2298540"/>
                  <a:pt x="588973" y="2301837"/>
                  <a:pt x="655083" y="2297430"/>
                </a:cubicBezTo>
                <a:cubicBezTo>
                  <a:pt x="680606" y="2288922"/>
                  <a:pt x="653407" y="2297102"/>
                  <a:pt x="700803" y="2289810"/>
                </a:cubicBezTo>
                <a:cubicBezTo>
                  <a:pt x="705978" y="2289014"/>
                  <a:pt x="710963" y="2287270"/>
                  <a:pt x="716043" y="2286000"/>
                </a:cubicBezTo>
                <a:lnTo>
                  <a:pt x="967503" y="2289810"/>
                </a:lnTo>
                <a:cubicBezTo>
                  <a:pt x="978550" y="2290126"/>
                  <a:pt x="983979" y="2295391"/>
                  <a:pt x="994173" y="2297430"/>
                </a:cubicBezTo>
                <a:cubicBezTo>
                  <a:pt x="1026431" y="2303882"/>
                  <a:pt x="1012630" y="2298234"/>
                  <a:pt x="1039893" y="2305050"/>
                </a:cubicBezTo>
                <a:cubicBezTo>
                  <a:pt x="1066526" y="2311708"/>
                  <a:pt x="1033851" y="2305576"/>
                  <a:pt x="1066563" y="2316480"/>
                </a:cubicBezTo>
                <a:cubicBezTo>
                  <a:pt x="1072706" y="2318528"/>
                  <a:pt x="1079331" y="2318719"/>
                  <a:pt x="1085613" y="2320290"/>
                </a:cubicBezTo>
                <a:cubicBezTo>
                  <a:pt x="1089509" y="2321264"/>
                  <a:pt x="1093181" y="2322997"/>
                  <a:pt x="1097043" y="2324100"/>
                </a:cubicBezTo>
                <a:cubicBezTo>
                  <a:pt x="1102078" y="2325539"/>
                  <a:pt x="1107248" y="2326471"/>
                  <a:pt x="1112283" y="2327910"/>
                </a:cubicBezTo>
                <a:cubicBezTo>
                  <a:pt x="1116145" y="2329013"/>
                  <a:pt x="1119851" y="2330617"/>
                  <a:pt x="1123713" y="2331720"/>
                </a:cubicBezTo>
                <a:cubicBezTo>
                  <a:pt x="1139974" y="2336366"/>
                  <a:pt x="1140326" y="2335412"/>
                  <a:pt x="1158003" y="2339340"/>
                </a:cubicBezTo>
                <a:cubicBezTo>
                  <a:pt x="1172355" y="2342529"/>
                  <a:pt x="1171945" y="2342717"/>
                  <a:pt x="1184673" y="2346960"/>
                </a:cubicBezTo>
                <a:lnTo>
                  <a:pt x="1569483" y="2343150"/>
                </a:lnTo>
                <a:cubicBezTo>
                  <a:pt x="1590409" y="2342256"/>
                  <a:pt x="1609508" y="2328564"/>
                  <a:pt x="1630443" y="2327910"/>
                </a:cubicBezTo>
                <a:lnTo>
                  <a:pt x="1752363" y="2324100"/>
                </a:lnTo>
                <a:cubicBezTo>
                  <a:pt x="1779274" y="2317372"/>
                  <a:pt x="1779378" y="2317635"/>
                  <a:pt x="1817133" y="2305050"/>
                </a:cubicBezTo>
                <a:cubicBezTo>
                  <a:pt x="1820943" y="2303780"/>
                  <a:pt x="1824701" y="2302343"/>
                  <a:pt x="1828563" y="2301240"/>
                </a:cubicBezTo>
                <a:cubicBezTo>
                  <a:pt x="1862051" y="2291672"/>
                  <a:pt x="1827828" y="2302755"/>
                  <a:pt x="1855233" y="2293620"/>
                </a:cubicBezTo>
                <a:cubicBezTo>
                  <a:pt x="1853919" y="2281792"/>
                  <a:pt x="1856607" y="2258143"/>
                  <a:pt x="1843803" y="2247900"/>
                </a:cubicBezTo>
                <a:cubicBezTo>
                  <a:pt x="1840667" y="2245391"/>
                  <a:pt x="1835884" y="2246040"/>
                  <a:pt x="1832373" y="2244090"/>
                </a:cubicBezTo>
                <a:cubicBezTo>
                  <a:pt x="1824367" y="2239642"/>
                  <a:pt x="1818201" y="2231746"/>
                  <a:pt x="1809513" y="2228850"/>
                </a:cubicBezTo>
                <a:cubicBezTo>
                  <a:pt x="1805703" y="2227580"/>
                  <a:pt x="1801945" y="2226143"/>
                  <a:pt x="1798083" y="2225040"/>
                </a:cubicBezTo>
                <a:cubicBezTo>
                  <a:pt x="1788416" y="2222278"/>
                  <a:pt x="1780548" y="2221335"/>
                  <a:pt x="1771413" y="2217420"/>
                </a:cubicBezTo>
                <a:cubicBezTo>
                  <a:pt x="1766193" y="2215183"/>
                  <a:pt x="1760989" y="2212810"/>
                  <a:pt x="1756173" y="2209800"/>
                </a:cubicBezTo>
                <a:cubicBezTo>
                  <a:pt x="1734367" y="2196171"/>
                  <a:pt x="1748310" y="2201497"/>
                  <a:pt x="1729503" y="2190750"/>
                </a:cubicBezTo>
                <a:cubicBezTo>
                  <a:pt x="1724572" y="2187932"/>
                  <a:pt x="1719483" y="2185367"/>
                  <a:pt x="1714263" y="2183130"/>
                </a:cubicBezTo>
                <a:cubicBezTo>
                  <a:pt x="1706611" y="2179850"/>
                  <a:pt x="1695327" y="2177443"/>
                  <a:pt x="1687593" y="2175510"/>
                </a:cubicBezTo>
                <a:cubicBezTo>
                  <a:pt x="1683783" y="2172970"/>
                  <a:pt x="1680347" y="2169750"/>
                  <a:pt x="1676163" y="2167890"/>
                </a:cubicBezTo>
                <a:lnTo>
                  <a:pt x="1641873" y="2156460"/>
                </a:lnTo>
                <a:lnTo>
                  <a:pt x="1630443" y="2152650"/>
                </a:lnTo>
                <a:cubicBezTo>
                  <a:pt x="1626633" y="2151380"/>
                  <a:pt x="1622998" y="2149338"/>
                  <a:pt x="1619013" y="2148840"/>
                </a:cubicBezTo>
                <a:cubicBezTo>
                  <a:pt x="1605831" y="2147192"/>
                  <a:pt x="1579799" y="2144359"/>
                  <a:pt x="1565673" y="2141220"/>
                </a:cubicBezTo>
                <a:cubicBezTo>
                  <a:pt x="1558597" y="2139648"/>
                  <a:pt x="1539508" y="2131408"/>
                  <a:pt x="1535193" y="2129790"/>
                </a:cubicBezTo>
                <a:cubicBezTo>
                  <a:pt x="1524261" y="2125691"/>
                  <a:pt x="1520533" y="2125172"/>
                  <a:pt x="1508523" y="2122170"/>
                </a:cubicBezTo>
                <a:cubicBezTo>
                  <a:pt x="1504713" y="2119630"/>
                  <a:pt x="1501189" y="2116598"/>
                  <a:pt x="1497093" y="2114550"/>
                </a:cubicBezTo>
                <a:cubicBezTo>
                  <a:pt x="1487845" y="2109926"/>
                  <a:pt x="1476177" y="2109538"/>
                  <a:pt x="1466613" y="2106930"/>
                </a:cubicBezTo>
                <a:cubicBezTo>
                  <a:pt x="1458864" y="2104817"/>
                  <a:pt x="1451373" y="2101850"/>
                  <a:pt x="1443753" y="2099310"/>
                </a:cubicBezTo>
                <a:lnTo>
                  <a:pt x="1432323" y="2095500"/>
                </a:lnTo>
                <a:cubicBezTo>
                  <a:pt x="1406225" y="2069402"/>
                  <a:pt x="1418429" y="2078618"/>
                  <a:pt x="1398033" y="2065020"/>
                </a:cubicBezTo>
                <a:cubicBezTo>
                  <a:pt x="1387873" y="2034540"/>
                  <a:pt x="1403113" y="2070100"/>
                  <a:pt x="1382793" y="2049780"/>
                </a:cubicBezTo>
                <a:cubicBezTo>
                  <a:pt x="1379953" y="2046940"/>
                  <a:pt x="1381211" y="2041692"/>
                  <a:pt x="1378983" y="2038350"/>
                </a:cubicBezTo>
                <a:cubicBezTo>
                  <a:pt x="1375994" y="2033867"/>
                  <a:pt x="1371363" y="2030730"/>
                  <a:pt x="1367553" y="2026920"/>
                </a:cubicBezTo>
                <a:cubicBezTo>
                  <a:pt x="1365013" y="2020570"/>
                  <a:pt x="1363254" y="2013849"/>
                  <a:pt x="1359933" y="2007870"/>
                </a:cubicBezTo>
                <a:cubicBezTo>
                  <a:pt x="1356849" y="2002319"/>
                  <a:pt x="1352194" y="1997797"/>
                  <a:pt x="1348503" y="1992630"/>
                </a:cubicBezTo>
                <a:cubicBezTo>
                  <a:pt x="1328285" y="1964325"/>
                  <a:pt x="1358106" y="2002728"/>
                  <a:pt x="1325643" y="1962150"/>
                </a:cubicBezTo>
                <a:cubicBezTo>
                  <a:pt x="1316227" y="1933902"/>
                  <a:pt x="1321615" y="1946474"/>
                  <a:pt x="1310403" y="1924050"/>
                </a:cubicBezTo>
                <a:cubicBezTo>
                  <a:pt x="1309133" y="1915160"/>
                  <a:pt x="1307444" y="1906320"/>
                  <a:pt x="1306593" y="1897380"/>
                </a:cubicBezTo>
                <a:cubicBezTo>
                  <a:pt x="1304903" y="1879635"/>
                  <a:pt x="1304649" y="1861767"/>
                  <a:pt x="1302783" y="1844040"/>
                </a:cubicBezTo>
                <a:cubicBezTo>
                  <a:pt x="1301368" y="1830601"/>
                  <a:pt x="1299047" y="1825211"/>
                  <a:pt x="1295163" y="1813560"/>
                </a:cubicBezTo>
                <a:cubicBezTo>
                  <a:pt x="1293893" y="1789430"/>
                  <a:pt x="1294618" y="1765112"/>
                  <a:pt x="1291353" y="1741170"/>
                </a:cubicBezTo>
                <a:cubicBezTo>
                  <a:pt x="1290734" y="1736633"/>
                  <a:pt x="1285049" y="1734126"/>
                  <a:pt x="1283733" y="1729740"/>
                </a:cubicBezTo>
                <a:cubicBezTo>
                  <a:pt x="1281153" y="1721138"/>
                  <a:pt x="1281684" y="1711876"/>
                  <a:pt x="1279923" y="1703070"/>
                </a:cubicBezTo>
                <a:cubicBezTo>
                  <a:pt x="1279135" y="1699132"/>
                  <a:pt x="1277383" y="1695450"/>
                  <a:pt x="1276113" y="1691640"/>
                </a:cubicBezTo>
                <a:cubicBezTo>
                  <a:pt x="1277383" y="1681480"/>
                  <a:pt x="1270874" y="1665951"/>
                  <a:pt x="1279923" y="1661160"/>
                </a:cubicBezTo>
                <a:cubicBezTo>
                  <a:pt x="1297917" y="1651634"/>
                  <a:pt x="1320594" y="1659041"/>
                  <a:pt x="1340883" y="1657350"/>
                </a:cubicBezTo>
                <a:cubicBezTo>
                  <a:pt x="1351087" y="1656500"/>
                  <a:pt x="1361203" y="1654810"/>
                  <a:pt x="1371363" y="1653540"/>
                </a:cubicBezTo>
                <a:cubicBezTo>
                  <a:pt x="1375173" y="1652270"/>
                  <a:pt x="1379953" y="1652570"/>
                  <a:pt x="1382793" y="1649730"/>
                </a:cubicBezTo>
                <a:cubicBezTo>
                  <a:pt x="1385633" y="1646890"/>
                  <a:pt x="1386603" y="1642316"/>
                  <a:pt x="1386603" y="1638300"/>
                </a:cubicBezTo>
                <a:cubicBezTo>
                  <a:pt x="1386603" y="1624272"/>
                  <a:pt x="1389443" y="1608741"/>
                  <a:pt x="1382793" y="1596390"/>
                </a:cubicBezTo>
                <a:cubicBezTo>
                  <a:pt x="1378985" y="1589318"/>
                  <a:pt x="1367553" y="1591310"/>
                  <a:pt x="1359933" y="1588770"/>
                </a:cubicBezTo>
                <a:cubicBezTo>
                  <a:pt x="1356123" y="1587500"/>
                  <a:pt x="1352514" y="1585161"/>
                  <a:pt x="1348503" y="1584960"/>
                </a:cubicBezTo>
                <a:lnTo>
                  <a:pt x="1272303" y="1581150"/>
                </a:lnTo>
                <a:cubicBezTo>
                  <a:pt x="1268493" y="1578610"/>
                  <a:pt x="1265082" y="1575334"/>
                  <a:pt x="1260873" y="1573530"/>
                </a:cubicBezTo>
                <a:cubicBezTo>
                  <a:pt x="1243783" y="1566206"/>
                  <a:pt x="1249031" y="1573324"/>
                  <a:pt x="1234203" y="1565910"/>
                </a:cubicBezTo>
                <a:cubicBezTo>
                  <a:pt x="1230107" y="1563862"/>
                  <a:pt x="1226583" y="1560830"/>
                  <a:pt x="1222773" y="1558290"/>
                </a:cubicBezTo>
                <a:cubicBezTo>
                  <a:pt x="1224043" y="1549400"/>
                  <a:pt x="1224822" y="1540426"/>
                  <a:pt x="1226583" y="1531620"/>
                </a:cubicBezTo>
                <a:cubicBezTo>
                  <a:pt x="1229036" y="1519356"/>
                  <a:pt x="1233056" y="1517342"/>
                  <a:pt x="1238013" y="1504950"/>
                </a:cubicBezTo>
                <a:cubicBezTo>
                  <a:pt x="1240996" y="1497492"/>
                  <a:pt x="1243093" y="1489710"/>
                  <a:pt x="1245633" y="1482090"/>
                </a:cubicBezTo>
                <a:lnTo>
                  <a:pt x="1249443" y="1470660"/>
                </a:lnTo>
                <a:lnTo>
                  <a:pt x="1253253" y="1459230"/>
                </a:lnTo>
                <a:cubicBezTo>
                  <a:pt x="1254523" y="1436370"/>
                  <a:pt x="1257063" y="1413545"/>
                  <a:pt x="1257063" y="1390650"/>
                </a:cubicBezTo>
                <a:cubicBezTo>
                  <a:pt x="1257063" y="1375357"/>
                  <a:pt x="1257750" y="1359547"/>
                  <a:pt x="1253253" y="1344930"/>
                </a:cubicBezTo>
                <a:cubicBezTo>
                  <a:pt x="1252072" y="1341092"/>
                  <a:pt x="1245830" y="1341387"/>
                  <a:pt x="1241823" y="1341120"/>
                </a:cubicBezTo>
                <a:cubicBezTo>
                  <a:pt x="1207585" y="1338837"/>
                  <a:pt x="1173243" y="1338580"/>
                  <a:pt x="1138953" y="1337310"/>
                </a:cubicBezTo>
                <a:cubicBezTo>
                  <a:pt x="1125696" y="1317424"/>
                  <a:pt x="1134367" y="1333819"/>
                  <a:pt x="1127523" y="1303020"/>
                </a:cubicBezTo>
                <a:cubicBezTo>
                  <a:pt x="1126652" y="1299100"/>
                  <a:pt x="1124816" y="1295452"/>
                  <a:pt x="1123713" y="1291590"/>
                </a:cubicBezTo>
                <a:cubicBezTo>
                  <a:pt x="1114145" y="1258102"/>
                  <a:pt x="1125228" y="1292325"/>
                  <a:pt x="1116093" y="1264920"/>
                </a:cubicBezTo>
                <a:cubicBezTo>
                  <a:pt x="1119357" y="1206172"/>
                  <a:pt x="1106415" y="1210171"/>
                  <a:pt x="1131333" y="1181100"/>
                </a:cubicBezTo>
                <a:cubicBezTo>
                  <a:pt x="1134840" y="1177009"/>
                  <a:pt x="1138953" y="1173480"/>
                  <a:pt x="1142763" y="1169670"/>
                </a:cubicBezTo>
                <a:cubicBezTo>
                  <a:pt x="1150180" y="1147418"/>
                  <a:pt x="1140769" y="1167854"/>
                  <a:pt x="1158003" y="1150620"/>
                </a:cubicBezTo>
                <a:cubicBezTo>
                  <a:pt x="1161241" y="1147382"/>
                  <a:pt x="1162047" y="1142051"/>
                  <a:pt x="1165623" y="1139190"/>
                </a:cubicBezTo>
                <a:cubicBezTo>
                  <a:pt x="1168759" y="1136681"/>
                  <a:pt x="1173461" y="1137176"/>
                  <a:pt x="1177053" y="1135380"/>
                </a:cubicBezTo>
                <a:cubicBezTo>
                  <a:pt x="1181149" y="1133332"/>
                  <a:pt x="1184139" y="1129208"/>
                  <a:pt x="1188483" y="1127760"/>
                </a:cubicBezTo>
                <a:cubicBezTo>
                  <a:pt x="1195812" y="1125317"/>
                  <a:pt x="1203768" y="1125465"/>
                  <a:pt x="1211343" y="1123950"/>
                </a:cubicBezTo>
                <a:cubicBezTo>
                  <a:pt x="1216478" y="1122923"/>
                  <a:pt x="1221503" y="1121410"/>
                  <a:pt x="1226583" y="1120140"/>
                </a:cubicBezTo>
                <a:cubicBezTo>
                  <a:pt x="1230393" y="1117600"/>
                  <a:pt x="1233829" y="1114380"/>
                  <a:pt x="1238013" y="1112520"/>
                </a:cubicBezTo>
                <a:cubicBezTo>
                  <a:pt x="1278819" y="1094384"/>
                  <a:pt x="1246435" y="1114525"/>
                  <a:pt x="1272303" y="1097280"/>
                </a:cubicBezTo>
                <a:cubicBezTo>
                  <a:pt x="1273573" y="1092200"/>
                  <a:pt x="1273515" y="1086586"/>
                  <a:pt x="1276113" y="1082040"/>
                </a:cubicBezTo>
                <a:cubicBezTo>
                  <a:pt x="1283804" y="1068580"/>
                  <a:pt x="1293959" y="1056686"/>
                  <a:pt x="1302783" y="1043940"/>
                </a:cubicBezTo>
                <a:cubicBezTo>
                  <a:pt x="1305389" y="1040175"/>
                  <a:pt x="1307863" y="1036320"/>
                  <a:pt x="1310403" y="1032510"/>
                </a:cubicBezTo>
                <a:cubicBezTo>
                  <a:pt x="1313925" y="1027226"/>
                  <a:pt x="1318142" y="1022437"/>
                  <a:pt x="1321833" y="1017270"/>
                </a:cubicBezTo>
                <a:cubicBezTo>
                  <a:pt x="1340031" y="991792"/>
                  <a:pt x="1320681" y="1019574"/>
                  <a:pt x="1333263" y="994410"/>
                </a:cubicBezTo>
                <a:cubicBezTo>
                  <a:pt x="1335311" y="990314"/>
                  <a:pt x="1338343" y="986790"/>
                  <a:pt x="1340883" y="982980"/>
                </a:cubicBezTo>
                <a:cubicBezTo>
                  <a:pt x="1344049" y="970314"/>
                  <a:pt x="1347012" y="956806"/>
                  <a:pt x="1352313" y="944880"/>
                </a:cubicBezTo>
                <a:cubicBezTo>
                  <a:pt x="1354173" y="940696"/>
                  <a:pt x="1357885" y="937546"/>
                  <a:pt x="1359933" y="933450"/>
                </a:cubicBezTo>
                <a:cubicBezTo>
                  <a:pt x="1365079" y="923158"/>
                  <a:pt x="1365212" y="909696"/>
                  <a:pt x="1367553" y="899160"/>
                </a:cubicBezTo>
                <a:cubicBezTo>
                  <a:pt x="1368424" y="895240"/>
                  <a:pt x="1370093" y="891540"/>
                  <a:pt x="1371363" y="887730"/>
                </a:cubicBezTo>
                <a:cubicBezTo>
                  <a:pt x="1375455" y="837259"/>
                  <a:pt x="1369245" y="774702"/>
                  <a:pt x="1390413" y="723900"/>
                </a:cubicBezTo>
                <a:cubicBezTo>
                  <a:pt x="1393690" y="716036"/>
                  <a:pt x="1398033" y="708660"/>
                  <a:pt x="1401843" y="701040"/>
                </a:cubicBezTo>
                <a:cubicBezTo>
                  <a:pt x="1409826" y="661123"/>
                  <a:pt x="1400383" y="704246"/>
                  <a:pt x="1413273" y="659130"/>
                </a:cubicBezTo>
                <a:cubicBezTo>
                  <a:pt x="1414543" y="654684"/>
                  <a:pt x="1423945" y="612641"/>
                  <a:pt x="1428513" y="605790"/>
                </a:cubicBezTo>
                <a:lnTo>
                  <a:pt x="1436133" y="594360"/>
                </a:lnTo>
                <a:cubicBezTo>
                  <a:pt x="1437403" y="589280"/>
                  <a:pt x="1438807" y="584232"/>
                  <a:pt x="1439943" y="579120"/>
                </a:cubicBezTo>
                <a:cubicBezTo>
                  <a:pt x="1441348" y="572798"/>
                  <a:pt x="1442182" y="566352"/>
                  <a:pt x="1443753" y="560070"/>
                </a:cubicBezTo>
                <a:cubicBezTo>
                  <a:pt x="1444727" y="556174"/>
                  <a:pt x="1445054" y="551776"/>
                  <a:pt x="1447563" y="548640"/>
                </a:cubicBezTo>
                <a:cubicBezTo>
                  <a:pt x="1450424" y="545064"/>
                  <a:pt x="1455183" y="543560"/>
                  <a:pt x="1458993" y="541020"/>
                </a:cubicBezTo>
                <a:cubicBezTo>
                  <a:pt x="1468128" y="513615"/>
                  <a:pt x="1457045" y="547838"/>
                  <a:pt x="1466613" y="514350"/>
                </a:cubicBezTo>
                <a:cubicBezTo>
                  <a:pt x="1467716" y="510488"/>
                  <a:pt x="1469366" y="506795"/>
                  <a:pt x="1470423" y="502920"/>
                </a:cubicBezTo>
                <a:cubicBezTo>
                  <a:pt x="1473179" y="492816"/>
                  <a:pt x="1478043" y="472440"/>
                  <a:pt x="1478043" y="472440"/>
                </a:cubicBezTo>
                <a:cubicBezTo>
                  <a:pt x="1479313" y="459740"/>
                  <a:pt x="1478099" y="446539"/>
                  <a:pt x="1481853" y="434340"/>
                </a:cubicBezTo>
                <a:cubicBezTo>
                  <a:pt x="1483438" y="429190"/>
                  <a:pt x="1489975" y="427163"/>
                  <a:pt x="1493283" y="422910"/>
                </a:cubicBezTo>
                <a:cubicBezTo>
                  <a:pt x="1498906" y="415681"/>
                  <a:pt x="1502802" y="407201"/>
                  <a:pt x="1508523" y="400050"/>
                </a:cubicBezTo>
                <a:cubicBezTo>
                  <a:pt x="1513603" y="393700"/>
                  <a:pt x="1519252" y="387766"/>
                  <a:pt x="1523763" y="381000"/>
                </a:cubicBezTo>
                <a:cubicBezTo>
                  <a:pt x="1526913" y="376274"/>
                  <a:pt x="1529146" y="370980"/>
                  <a:pt x="1531383" y="365760"/>
                </a:cubicBezTo>
                <a:cubicBezTo>
                  <a:pt x="1532965" y="362069"/>
                  <a:pt x="1532684" y="357466"/>
                  <a:pt x="1535193" y="354330"/>
                </a:cubicBezTo>
                <a:cubicBezTo>
                  <a:pt x="1538054" y="350754"/>
                  <a:pt x="1542813" y="349250"/>
                  <a:pt x="1546623" y="346710"/>
                </a:cubicBezTo>
                <a:cubicBezTo>
                  <a:pt x="1549163" y="342900"/>
                  <a:pt x="1552439" y="339489"/>
                  <a:pt x="1554243" y="335280"/>
                </a:cubicBezTo>
                <a:cubicBezTo>
                  <a:pt x="1556306" y="330467"/>
                  <a:pt x="1555455" y="324586"/>
                  <a:pt x="1558053" y="320040"/>
                </a:cubicBezTo>
                <a:cubicBezTo>
                  <a:pt x="1560726" y="315362"/>
                  <a:pt x="1565673" y="312420"/>
                  <a:pt x="1569483" y="308610"/>
                </a:cubicBezTo>
                <a:cubicBezTo>
                  <a:pt x="1577412" y="276892"/>
                  <a:pt x="1567757" y="308252"/>
                  <a:pt x="1580913" y="281940"/>
                </a:cubicBezTo>
                <a:cubicBezTo>
                  <a:pt x="1582709" y="278348"/>
                  <a:pt x="1582927" y="274102"/>
                  <a:pt x="1584723" y="270510"/>
                </a:cubicBezTo>
                <a:cubicBezTo>
                  <a:pt x="1591460" y="257037"/>
                  <a:pt x="1593662" y="259447"/>
                  <a:pt x="1603773" y="247650"/>
                </a:cubicBezTo>
                <a:cubicBezTo>
                  <a:pt x="1607906" y="242829"/>
                  <a:pt x="1610955" y="237130"/>
                  <a:pt x="1615203" y="232410"/>
                </a:cubicBezTo>
                <a:cubicBezTo>
                  <a:pt x="1616027" y="231495"/>
                  <a:pt x="1639836" y="204827"/>
                  <a:pt x="1649493" y="201930"/>
                </a:cubicBezTo>
                <a:cubicBezTo>
                  <a:pt x="1658095" y="199350"/>
                  <a:pt x="1667273" y="199390"/>
                  <a:pt x="1676163" y="198120"/>
                </a:cubicBezTo>
                <a:cubicBezTo>
                  <a:pt x="1679973" y="195580"/>
                  <a:pt x="1683306" y="192108"/>
                  <a:pt x="1687593" y="190500"/>
                </a:cubicBezTo>
                <a:cubicBezTo>
                  <a:pt x="1693656" y="188226"/>
                  <a:pt x="1700395" y="188394"/>
                  <a:pt x="1706643" y="186690"/>
                </a:cubicBezTo>
                <a:cubicBezTo>
                  <a:pt x="1714392" y="184577"/>
                  <a:pt x="1721883" y="181610"/>
                  <a:pt x="1729503" y="179070"/>
                </a:cubicBezTo>
                <a:lnTo>
                  <a:pt x="1740933" y="175260"/>
                </a:lnTo>
                <a:lnTo>
                  <a:pt x="1752363" y="171450"/>
                </a:lnTo>
                <a:cubicBezTo>
                  <a:pt x="1778038" y="145775"/>
                  <a:pt x="1752991" y="165831"/>
                  <a:pt x="1817133" y="156210"/>
                </a:cubicBezTo>
                <a:cubicBezTo>
                  <a:pt x="1825076" y="155019"/>
                  <a:pt x="1832373" y="151130"/>
                  <a:pt x="1839993" y="148590"/>
                </a:cubicBezTo>
                <a:lnTo>
                  <a:pt x="1851423" y="144780"/>
                </a:lnTo>
                <a:lnTo>
                  <a:pt x="1862853" y="140970"/>
                </a:lnTo>
                <a:cubicBezTo>
                  <a:pt x="1866201" y="130926"/>
                  <a:pt x="1872911" y="116738"/>
                  <a:pt x="1862853" y="106680"/>
                </a:cubicBezTo>
                <a:cubicBezTo>
                  <a:pt x="1859150" y="102977"/>
                  <a:pt x="1852693" y="109220"/>
                  <a:pt x="1847613" y="110490"/>
                </a:cubicBezTo>
                <a:cubicBezTo>
                  <a:pt x="1770872" y="161651"/>
                  <a:pt x="1837102" y="120624"/>
                  <a:pt x="1599963" y="114300"/>
                </a:cubicBezTo>
                <a:cubicBezTo>
                  <a:pt x="1583410" y="113859"/>
                  <a:pt x="1566943" y="111760"/>
                  <a:pt x="1550433" y="110490"/>
                </a:cubicBezTo>
                <a:cubicBezTo>
                  <a:pt x="1531920" y="105862"/>
                  <a:pt x="1534130" y="105984"/>
                  <a:pt x="1512333" y="102870"/>
                </a:cubicBezTo>
                <a:cubicBezTo>
                  <a:pt x="1502197" y="101422"/>
                  <a:pt x="1491953" y="100743"/>
                  <a:pt x="1481853" y="99060"/>
                </a:cubicBezTo>
                <a:cubicBezTo>
                  <a:pt x="1476688" y="98199"/>
                  <a:pt x="1471765" y="96187"/>
                  <a:pt x="1466613" y="95250"/>
                </a:cubicBezTo>
                <a:cubicBezTo>
                  <a:pt x="1457778" y="93644"/>
                  <a:pt x="1448787" y="93001"/>
                  <a:pt x="1439943" y="91440"/>
                </a:cubicBezTo>
                <a:cubicBezTo>
                  <a:pt x="1427189" y="89189"/>
                  <a:pt x="1401843" y="83820"/>
                  <a:pt x="1401843" y="83820"/>
                </a:cubicBezTo>
                <a:cubicBezTo>
                  <a:pt x="1395493" y="78740"/>
                  <a:pt x="1389932" y="72474"/>
                  <a:pt x="1382793" y="68580"/>
                </a:cubicBezTo>
                <a:cubicBezTo>
                  <a:pt x="1375742" y="64734"/>
                  <a:pt x="1367626" y="63268"/>
                  <a:pt x="1359933" y="60960"/>
                </a:cubicBezTo>
                <a:cubicBezTo>
                  <a:pt x="1300406" y="43102"/>
                  <a:pt x="1321942" y="47425"/>
                  <a:pt x="1272303" y="41910"/>
                </a:cubicBezTo>
                <a:cubicBezTo>
                  <a:pt x="1243093" y="43180"/>
                  <a:pt x="1213846" y="43775"/>
                  <a:pt x="1184673" y="45720"/>
                </a:cubicBezTo>
                <a:cubicBezTo>
                  <a:pt x="1135352" y="49008"/>
                  <a:pt x="1176900" y="48088"/>
                  <a:pt x="1142763" y="53340"/>
                </a:cubicBezTo>
                <a:cubicBezTo>
                  <a:pt x="1131396" y="55089"/>
                  <a:pt x="1119903" y="55880"/>
                  <a:pt x="1108473" y="57150"/>
                </a:cubicBezTo>
                <a:lnTo>
                  <a:pt x="1077993" y="64770"/>
                </a:lnTo>
                <a:lnTo>
                  <a:pt x="1062753" y="68580"/>
                </a:lnTo>
                <a:cubicBezTo>
                  <a:pt x="1032273" y="67310"/>
                  <a:pt x="1001756" y="66734"/>
                  <a:pt x="971313" y="64770"/>
                </a:cubicBezTo>
                <a:cubicBezTo>
                  <a:pt x="962351" y="64192"/>
                  <a:pt x="953568" y="61952"/>
                  <a:pt x="944643" y="60960"/>
                </a:cubicBezTo>
                <a:cubicBezTo>
                  <a:pt x="861428" y="51714"/>
                  <a:pt x="937337" y="62093"/>
                  <a:pt x="876063" y="53340"/>
                </a:cubicBezTo>
                <a:cubicBezTo>
                  <a:pt x="868443" y="49530"/>
                  <a:pt x="861395" y="44250"/>
                  <a:pt x="853203" y="41910"/>
                </a:cubicBezTo>
                <a:cubicBezTo>
                  <a:pt x="843358" y="39097"/>
                  <a:pt x="832823" y="39783"/>
                  <a:pt x="822723" y="38100"/>
                </a:cubicBezTo>
                <a:cubicBezTo>
                  <a:pt x="803566" y="34907"/>
                  <a:pt x="810439" y="34468"/>
                  <a:pt x="792243" y="26670"/>
                </a:cubicBezTo>
                <a:cubicBezTo>
                  <a:pt x="788552" y="25088"/>
                  <a:pt x="784469" y="24522"/>
                  <a:pt x="780813" y="22860"/>
                </a:cubicBezTo>
                <a:cubicBezTo>
                  <a:pt x="770472" y="18160"/>
                  <a:pt x="760493" y="12700"/>
                  <a:pt x="750333" y="7620"/>
                </a:cubicBezTo>
                <a:lnTo>
                  <a:pt x="735093" y="0"/>
                </a:lnTo>
                <a:cubicBezTo>
                  <a:pt x="722393" y="2540"/>
                  <a:pt x="709622" y="4750"/>
                  <a:pt x="696993" y="7620"/>
                </a:cubicBezTo>
                <a:cubicBezTo>
                  <a:pt x="681675" y="11101"/>
                  <a:pt x="666645" y="15814"/>
                  <a:pt x="651273" y="19050"/>
                </a:cubicBezTo>
                <a:cubicBezTo>
                  <a:pt x="601990" y="29425"/>
                  <a:pt x="647596" y="14753"/>
                  <a:pt x="594123" y="30480"/>
                </a:cubicBezTo>
                <a:cubicBezTo>
                  <a:pt x="582564" y="33880"/>
                  <a:pt x="571333" y="38316"/>
                  <a:pt x="559833" y="41910"/>
                </a:cubicBezTo>
                <a:cubicBezTo>
                  <a:pt x="551008" y="44668"/>
                  <a:pt x="541988" y="46772"/>
                  <a:pt x="533163" y="49530"/>
                </a:cubicBezTo>
                <a:cubicBezTo>
                  <a:pt x="521663" y="53124"/>
                  <a:pt x="509791" y="55865"/>
                  <a:pt x="498873" y="60960"/>
                </a:cubicBezTo>
                <a:cubicBezTo>
                  <a:pt x="490574" y="64833"/>
                  <a:pt x="484431" y="72592"/>
                  <a:pt x="476013" y="76200"/>
                </a:cubicBezTo>
                <a:cubicBezTo>
                  <a:pt x="466387" y="80325"/>
                  <a:pt x="445533" y="83820"/>
                  <a:pt x="445533" y="83820"/>
                </a:cubicBezTo>
                <a:cubicBezTo>
                  <a:pt x="409973" y="82550"/>
                  <a:pt x="374298" y="83137"/>
                  <a:pt x="338853" y="80010"/>
                </a:cubicBezTo>
                <a:cubicBezTo>
                  <a:pt x="330852" y="79304"/>
                  <a:pt x="323742" y="74503"/>
                  <a:pt x="315993" y="72390"/>
                </a:cubicBezTo>
                <a:cubicBezTo>
                  <a:pt x="309745" y="70686"/>
                  <a:pt x="303314" y="69738"/>
                  <a:pt x="296943" y="68580"/>
                </a:cubicBezTo>
                <a:cubicBezTo>
                  <a:pt x="259411" y="61756"/>
                  <a:pt x="252678" y="62517"/>
                  <a:pt x="201693" y="57150"/>
                </a:cubicBezTo>
                <a:cubicBezTo>
                  <a:pt x="164863" y="58420"/>
                  <a:pt x="127934" y="57982"/>
                  <a:pt x="91203" y="60960"/>
                </a:cubicBezTo>
                <a:cubicBezTo>
                  <a:pt x="63718" y="63189"/>
                  <a:pt x="68016" y="67709"/>
                  <a:pt x="49293" y="72390"/>
                </a:cubicBezTo>
                <a:lnTo>
                  <a:pt x="18813" y="80010"/>
                </a:lnTo>
                <a:cubicBezTo>
                  <a:pt x="50510" y="90576"/>
                  <a:pt x="0" y="74496"/>
                  <a:pt x="56913" y="87630"/>
                </a:cubicBezTo>
                <a:cubicBezTo>
                  <a:pt x="64739" y="89436"/>
                  <a:pt x="79773" y="95250"/>
                  <a:pt x="79773" y="95250"/>
                </a:cubicBezTo>
                <a:cubicBezTo>
                  <a:pt x="82313" y="99060"/>
                  <a:pt x="84155" y="103442"/>
                  <a:pt x="87393" y="106680"/>
                </a:cubicBezTo>
                <a:cubicBezTo>
                  <a:pt x="91815" y="111102"/>
                  <a:pt x="109282" y="120127"/>
                  <a:pt x="114063" y="121920"/>
                </a:cubicBezTo>
                <a:cubicBezTo>
                  <a:pt x="118966" y="123759"/>
                  <a:pt x="124287" y="124225"/>
                  <a:pt x="129303" y="125730"/>
                </a:cubicBezTo>
                <a:cubicBezTo>
                  <a:pt x="136996" y="128038"/>
                  <a:pt x="144543" y="130810"/>
                  <a:pt x="152163" y="133350"/>
                </a:cubicBezTo>
                <a:cubicBezTo>
                  <a:pt x="180504" y="142797"/>
                  <a:pt x="159587" y="136874"/>
                  <a:pt x="216933" y="140970"/>
                </a:cubicBezTo>
                <a:cubicBezTo>
                  <a:pt x="228592" y="143885"/>
                  <a:pt x="234832" y="143629"/>
                  <a:pt x="243603" y="152400"/>
                </a:cubicBezTo>
                <a:cubicBezTo>
                  <a:pt x="253763" y="162560"/>
                  <a:pt x="247413" y="166370"/>
                  <a:pt x="262653" y="171450"/>
                </a:cubicBezTo>
                <a:cubicBezTo>
                  <a:pt x="269982" y="173893"/>
                  <a:pt x="278019" y="173386"/>
                  <a:pt x="285513" y="175260"/>
                </a:cubicBezTo>
                <a:cubicBezTo>
                  <a:pt x="293305" y="177208"/>
                  <a:pt x="311965" y="175696"/>
                  <a:pt x="308373" y="182880"/>
                </a:cubicBezTo>
                <a:lnTo>
                  <a:pt x="304563" y="190500"/>
                </a:lnTo>
              </a:path>
            </a:pathLst>
          </a:custGeom>
          <a:solidFill>
            <a:srgbClr val="cccc00"/>
          </a:solidFill>
          <a:ln w="9360">
            <a:solidFill>
              <a:srgbClr val="cccc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Rectangle 12"/>
          <p:cNvSpPr/>
          <p:nvPr/>
        </p:nvSpPr>
        <p:spPr>
          <a:xfrm>
            <a:off x="5651640" y="4365720"/>
            <a:ext cx="1800000" cy="142920"/>
          </a:xfrm>
          <a:prstGeom prst="rect">
            <a:avLst/>
          </a:prstGeom>
          <a:solidFill>
            <a:srgbClr val="cccc00"/>
          </a:solidFill>
          <a:ln w="255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
          <p:cNvSpPr/>
          <p:nvPr/>
        </p:nvSpPr>
        <p:spPr>
          <a:xfrm>
            <a:off x="5651640" y="6524640"/>
            <a:ext cx="1800000" cy="144360"/>
          </a:xfrm>
          <a:prstGeom prst="rect">
            <a:avLst/>
          </a:prstGeom>
          <a:solidFill>
            <a:srgbClr val="cccc00"/>
          </a:solidFill>
          <a:ln w="255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77" name="Picture 5" descr="Multistability"/>
          <p:cNvPicPr/>
          <p:nvPr/>
        </p:nvPicPr>
        <p:blipFill>
          <a:blip r:embed="rId1"/>
          <a:stretch/>
        </p:blipFill>
        <p:spPr>
          <a:xfrm>
            <a:off x="1028880" y="1341360"/>
            <a:ext cx="6422760" cy="2659320"/>
          </a:xfrm>
          <a:prstGeom prst="rect">
            <a:avLst/>
          </a:prstGeom>
          <a:ln w="0">
            <a:noFill/>
          </a:ln>
        </p:spPr>
      </p:pic>
      <p:pic>
        <p:nvPicPr>
          <p:cNvPr id="278" name="Picture 5" descr="Multistability"/>
          <p:cNvPicPr/>
          <p:nvPr/>
        </p:nvPicPr>
        <p:blipFill>
          <a:blip r:embed="rId2"/>
          <a:stretch/>
        </p:blipFill>
        <p:spPr>
          <a:xfrm>
            <a:off x="1042920" y="4083120"/>
            <a:ext cx="6423120" cy="2658960"/>
          </a:xfrm>
          <a:prstGeom prst="rect">
            <a:avLst/>
          </a:prstGeom>
          <a:ln w="0">
            <a:noFill/>
          </a:ln>
        </p:spPr>
      </p:pic>
      <p:sp>
        <p:nvSpPr>
          <p:cNvPr id="279" name="Rectangle 4"/>
          <p:cNvSpPr/>
          <p:nvPr/>
        </p:nvSpPr>
        <p:spPr>
          <a:xfrm>
            <a:off x="1116000" y="5157720"/>
            <a:ext cx="1584360" cy="158436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lowchart: Data 5"/>
          <p:cNvSpPr/>
          <p:nvPr/>
        </p:nvSpPr>
        <p:spPr>
          <a:xfrm>
            <a:off x="1116000" y="4365720"/>
            <a:ext cx="2016000" cy="79200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lowchart: Data 6"/>
          <p:cNvSpPr/>
          <p:nvPr/>
        </p:nvSpPr>
        <p:spPr>
          <a:xfrm rot="21028200">
            <a:off x="2587680" y="5079960"/>
            <a:ext cx="1280880" cy="156708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4" descr="reversible-vases.jpg"/>
          <p:cNvPicPr/>
          <p:nvPr/>
        </p:nvPicPr>
        <p:blipFill>
          <a:blip r:embed="rId3"/>
          <a:stretch/>
        </p:blipFill>
        <p:spPr>
          <a:xfrm>
            <a:off x="5556240" y="4149720"/>
            <a:ext cx="2040120" cy="2519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84" name="Picture 5" descr="Multistability"/>
          <p:cNvPicPr/>
          <p:nvPr/>
        </p:nvPicPr>
        <p:blipFill>
          <a:blip r:embed="rId1"/>
          <a:stretch/>
        </p:blipFill>
        <p:spPr>
          <a:xfrm>
            <a:off x="1028880" y="1341360"/>
            <a:ext cx="6422760" cy="2659320"/>
          </a:xfrm>
          <a:prstGeom prst="rect">
            <a:avLst/>
          </a:prstGeom>
          <a:ln w="0">
            <a:noFill/>
          </a:ln>
        </p:spPr>
      </p:pic>
      <p:pic>
        <p:nvPicPr>
          <p:cNvPr id="285" name="Picture 5" descr="Multistability"/>
          <p:cNvPicPr/>
          <p:nvPr/>
        </p:nvPicPr>
        <p:blipFill>
          <a:blip r:embed="rId2"/>
          <a:stretch/>
        </p:blipFill>
        <p:spPr>
          <a:xfrm>
            <a:off x="1042920" y="4083120"/>
            <a:ext cx="6423120" cy="2658960"/>
          </a:xfrm>
          <a:prstGeom prst="rect">
            <a:avLst/>
          </a:prstGeom>
          <a:ln w="0">
            <a:noFill/>
          </a:ln>
        </p:spPr>
      </p:pic>
      <p:sp>
        <p:nvSpPr>
          <p:cNvPr id="286" name="Rectangle 7"/>
          <p:cNvSpPr/>
          <p:nvPr/>
        </p:nvSpPr>
        <p:spPr>
          <a:xfrm>
            <a:off x="1908000" y="4365720"/>
            <a:ext cx="1584360" cy="158436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lowchart: Data 8"/>
          <p:cNvSpPr/>
          <p:nvPr/>
        </p:nvSpPr>
        <p:spPr>
          <a:xfrm rot="21028200">
            <a:off x="755640" y="4511160"/>
            <a:ext cx="1281240" cy="152424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lowchart: Data 9"/>
          <p:cNvSpPr/>
          <p:nvPr/>
        </p:nvSpPr>
        <p:spPr>
          <a:xfrm>
            <a:off x="1476360" y="5950080"/>
            <a:ext cx="2016000" cy="79200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0"/>
          <p:cNvSpPr/>
          <p:nvPr/>
        </p:nvSpPr>
        <p:spPr>
          <a:xfrm>
            <a:off x="5513400" y="4365720"/>
            <a:ext cx="866880" cy="2201760"/>
          </a:xfrm>
          <a:custGeom>
            <a:avLst/>
            <a:gdLst/>
            <a:ahLst/>
            <a:rect l="l" t="t" r="r" b="b"/>
            <a:pathLst>
              <a:path w="867220" h="2202780">
                <a:moveTo>
                  <a:pt x="121920" y="2540"/>
                </a:moveTo>
                <a:cubicBezTo>
                  <a:pt x="123825" y="0"/>
                  <a:pt x="117805" y="26536"/>
                  <a:pt x="125730" y="33020"/>
                </a:cubicBezTo>
                <a:cubicBezTo>
                  <a:pt x="135608" y="41102"/>
                  <a:pt x="151195" y="35025"/>
                  <a:pt x="163830" y="36830"/>
                </a:cubicBezTo>
                <a:cubicBezTo>
                  <a:pt x="173907" y="38270"/>
                  <a:pt x="193976" y="45609"/>
                  <a:pt x="201930" y="48260"/>
                </a:cubicBezTo>
                <a:cubicBezTo>
                  <a:pt x="205740" y="49530"/>
                  <a:pt x="209464" y="51096"/>
                  <a:pt x="213360" y="52070"/>
                </a:cubicBezTo>
                <a:cubicBezTo>
                  <a:pt x="218440" y="53340"/>
                  <a:pt x="223465" y="54853"/>
                  <a:pt x="228600" y="55880"/>
                </a:cubicBezTo>
                <a:cubicBezTo>
                  <a:pt x="236175" y="57395"/>
                  <a:pt x="243919" y="58014"/>
                  <a:pt x="251460" y="59690"/>
                </a:cubicBezTo>
                <a:cubicBezTo>
                  <a:pt x="255380" y="60561"/>
                  <a:pt x="259080" y="62230"/>
                  <a:pt x="262890" y="63500"/>
                </a:cubicBezTo>
                <a:cubicBezTo>
                  <a:pt x="267970" y="67310"/>
                  <a:pt x="273640" y="70440"/>
                  <a:pt x="278130" y="74930"/>
                </a:cubicBezTo>
                <a:cubicBezTo>
                  <a:pt x="291543" y="88343"/>
                  <a:pt x="284828" y="90607"/>
                  <a:pt x="300990" y="97790"/>
                </a:cubicBezTo>
                <a:cubicBezTo>
                  <a:pt x="308330" y="101052"/>
                  <a:pt x="317167" y="100955"/>
                  <a:pt x="323850" y="105410"/>
                </a:cubicBezTo>
                <a:cubicBezTo>
                  <a:pt x="327660" y="107950"/>
                  <a:pt x="330993" y="111422"/>
                  <a:pt x="335280" y="113030"/>
                </a:cubicBezTo>
                <a:cubicBezTo>
                  <a:pt x="341343" y="115304"/>
                  <a:pt x="348048" y="115269"/>
                  <a:pt x="354330" y="116840"/>
                </a:cubicBezTo>
                <a:cubicBezTo>
                  <a:pt x="358226" y="117814"/>
                  <a:pt x="361950" y="119380"/>
                  <a:pt x="365760" y="120650"/>
                </a:cubicBezTo>
                <a:cubicBezTo>
                  <a:pt x="370840" y="124460"/>
                  <a:pt x="375615" y="128715"/>
                  <a:pt x="381000" y="132080"/>
                </a:cubicBezTo>
                <a:cubicBezTo>
                  <a:pt x="389556" y="137427"/>
                  <a:pt x="398118" y="140781"/>
                  <a:pt x="407670" y="143510"/>
                </a:cubicBezTo>
                <a:cubicBezTo>
                  <a:pt x="412705" y="144949"/>
                  <a:pt x="417830" y="146050"/>
                  <a:pt x="422910" y="147320"/>
                </a:cubicBezTo>
                <a:cubicBezTo>
                  <a:pt x="445151" y="162148"/>
                  <a:pt x="425849" y="145577"/>
                  <a:pt x="438150" y="170180"/>
                </a:cubicBezTo>
                <a:cubicBezTo>
                  <a:pt x="449263" y="192405"/>
                  <a:pt x="449104" y="190182"/>
                  <a:pt x="464820" y="200660"/>
                </a:cubicBezTo>
                <a:cubicBezTo>
                  <a:pt x="466090" y="204470"/>
                  <a:pt x="466402" y="208748"/>
                  <a:pt x="468630" y="212090"/>
                </a:cubicBezTo>
                <a:cubicBezTo>
                  <a:pt x="471619" y="216573"/>
                  <a:pt x="476553" y="219429"/>
                  <a:pt x="480060" y="223520"/>
                </a:cubicBezTo>
                <a:cubicBezTo>
                  <a:pt x="484193" y="228341"/>
                  <a:pt x="487799" y="233593"/>
                  <a:pt x="491490" y="238760"/>
                </a:cubicBezTo>
                <a:cubicBezTo>
                  <a:pt x="509688" y="264238"/>
                  <a:pt x="490338" y="236456"/>
                  <a:pt x="502920" y="261620"/>
                </a:cubicBezTo>
                <a:cubicBezTo>
                  <a:pt x="504968" y="265716"/>
                  <a:pt x="508680" y="268866"/>
                  <a:pt x="510540" y="273050"/>
                </a:cubicBezTo>
                <a:cubicBezTo>
                  <a:pt x="518830" y="291701"/>
                  <a:pt x="516855" y="294100"/>
                  <a:pt x="521970" y="311150"/>
                </a:cubicBezTo>
                <a:cubicBezTo>
                  <a:pt x="524278" y="318843"/>
                  <a:pt x="528015" y="326134"/>
                  <a:pt x="529590" y="334010"/>
                </a:cubicBezTo>
                <a:lnTo>
                  <a:pt x="537210" y="372110"/>
                </a:lnTo>
                <a:cubicBezTo>
                  <a:pt x="538480" y="378460"/>
                  <a:pt x="538972" y="385017"/>
                  <a:pt x="541020" y="391160"/>
                </a:cubicBezTo>
                <a:cubicBezTo>
                  <a:pt x="544830" y="402590"/>
                  <a:pt x="549528" y="413761"/>
                  <a:pt x="552450" y="425450"/>
                </a:cubicBezTo>
                <a:cubicBezTo>
                  <a:pt x="554990" y="435610"/>
                  <a:pt x="556758" y="445995"/>
                  <a:pt x="560070" y="455930"/>
                </a:cubicBezTo>
                <a:cubicBezTo>
                  <a:pt x="568068" y="479924"/>
                  <a:pt x="567461" y="474953"/>
                  <a:pt x="571500" y="497840"/>
                </a:cubicBezTo>
                <a:cubicBezTo>
                  <a:pt x="574693" y="515932"/>
                  <a:pt x="577222" y="547385"/>
                  <a:pt x="586740" y="566420"/>
                </a:cubicBezTo>
                <a:cubicBezTo>
                  <a:pt x="589580" y="572100"/>
                  <a:pt x="594805" y="576275"/>
                  <a:pt x="598170" y="581660"/>
                </a:cubicBezTo>
                <a:cubicBezTo>
                  <a:pt x="603206" y="589718"/>
                  <a:pt x="607091" y="599130"/>
                  <a:pt x="609600" y="608330"/>
                </a:cubicBezTo>
                <a:cubicBezTo>
                  <a:pt x="612356" y="618434"/>
                  <a:pt x="613908" y="628875"/>
                  <a:pt x="617220" y="638810"/>
                </a:cubicBezTo>
                <a:lnTo>
                  <a:pt x="624840" y="661670"/>
                </a:lnTo>
                <a:cubicBezTo>
                  <a:pt x="625305" y="689540"/>
                  <a:pt x="604917" y="839973"/>
                  <a:pt x="636270" y="913130"/>
                </a:cubicBezTo>
                <a:cubicBezTo>
                  <a:pt x="640745" y="923571"/>
                  <a:pt x="646430" y="933450"/>
                  <a:pt x="651510" y="943610"/>
                </a:cubicBezTo>
                <a:cubicBezTo>
                  <a:pt x="661178" y="962946"/>
                  <a:pt x="654404" y="955700"/>
                  <a:pt x="670560" y="966470"/>
                </a:cubicBezTo>
                <a:cubicBezTo>
                  <a:pt x="671830" y="972820"/>
                  <a:pt x="671157" y="979897"/>
                  <a:pt x="674370" y="985520"/>
                </a:cubicBezTo>
                <a:cubicBezTo>
                  <a:pt x="676642" y="989496"/>
                  <a:pt x="682074" y="990478"/>
                  <a:pt x="685800" y="993140"/>
                </a:cubicBezTo>
                <a:cubicBezTo>
                  <a:pt x="690967" y="996831"/>
                  <a:pt x="695873" y="1000879"/>
                  <a:pt x="701040" y="1004570"/>
                </a:cubicBezTo>
                <a:cubicBezTo>
                  <a:pt x="704766" y="1007232"/>
                  <a:pt x="708952" y="1009259"/>
                  <a:pt x="712470" y="1012190"/>
                </a:cubicBezTo>
                <a:cubicBezTo>
                  <a:pt x="716609" y="1015639"/>
                  <a:pt x="719647" y="1020312"/>
                  <a:pt x="723900" y="1023620"/>
                </a:cubicBezTo>
                <a:cubicBezTo>
                  <a:pt x="731129" y="1029243"/>
                  <a:pt x="739140" y="1033780"/>
                  <a:pt x="746760" y="1038860"/>
                </a:cubicBezTo>
                <a:cubicBezTo>
                  <a:pt x="750570" y="1041400"/>
                  <a:pt x="754952" y="1043242"/>
                  <a:pt x="758190" y="1046480"/>
                </a:cubicBezTo>
                <a:cubicBezTo>
                  <a:pt x="776668" y="1064958"/>
                  <a:pt x="767452" y="1057735"/>
                  <a:pt x="784860" y="1069340"/>
                </a:cubicBezTo>
                <a:cubicBezTo>
                  <a:pt x="786130" y="1073150"/>
                  <a:pt x="786336" y="1077502"/>
                  <a:pt x="788670" y="1080770"/>
                </a:cubicBezTo>
                <a:cubicBezTo>
                  <a:pt x="792846" y="1086616"/>
                  <a:pt x="799179" y="1090603"/>
                  <a:pt x="803910" y="1096010"/>
                </a:cubicBezTo>
                <a:cubicBezTo>
                  <a:pt x="808092" y="1100789"/>
                  <a:pt x="811530" y="1106170"/>
                  <a:pt x="815340" y="1111250"/>
                </a:cubicBezTo>
                <a:cubicBezTo>
                  <a:pt x="816610" y="1115060"/>
                  <a:pt x="817354" y="1119088"/>
                  <a:pt x="819150" y="1122680"/>
                </a:cubicBezTo>
                <a:cubicBezTo>
                  <a:pt x="821198" y="1126776"/>
                  <a:pt x="825322" y="1129766"/>
                  <a:pt x="826770" y="1134110"/>
                </a:cubicBezTo>
                <a:cubicBezTo>
                  <a:pt x="829213" y="1141439"/>
                  <a:pt x="828137" y="1149641"/>
                  <a:pt x="830580" y="1156970"/>
                </a:cubicBezTo>
                <a:cubicBezTo>
                  <a:pt x="832028" y="1161314"/>
                  <a:pt x="836152" y="1164304"/>
                  <a:pt x="838200" y="1168400"/>
                </a:cubicBezTo>
                <a:cubicBezTo>
                  <a:pt x="839996" y="1171992"/>
                  <a:pt x="840214" y="1176238"/>
                  <a:pt x="842010" y="1179830"/>
                </a:cubicBezTo>
                <a:cubicBezTo>
                  <a:pt x="847314" y="1190439"/>
                  <a:pt x="852634" y="1194264"/>
                  <a:pt x="861060" y="1202690"/>
                </a:cubicBezTo>
                <a:cubicBezTo>
                  <a:pt x="867220" y="1221171"/>
                  <a:pt x="866532" y="1213428"/>
                  <a:pt x="861060" y="1240790"/>
                </a:cubicBezTo>
                <a:cubicBezTo>
                  <a:pt x="860272" y="1244728"/>
                  <a:pt x="860090" y="1249380"/>
                  <a:pt x="857250" y="1252220"/>
                </a:cubicBezTo>
                <a:cubicBezTo>
                  <a:pt x="850774" y="1258696"/>
                  <a:pt x="842010" y="1262380"/>
                  <a:pt x="834390" y="1267460"/>
                </a:cubicBezTo>
                <a:cubicBezTo>
                  <a:pt x="816277" y="1279535"/>
                  <a:pt x="827304" y="1273632"/>
                  <a:pt x="800100" y="1282700"/>
                </a:cubicBezTo>
                <a:lnTo>
                  <a:pt x="765810" y="1294130"/>
                </a:lnTo>
                <a:cubicBezTo>
                  <a:pt x="762000" y="1295400"/>
                  <a:pt x="758318" y="1297152"/>
                  <a:pt x="754380" y="1297940"/>
                </a:cubicBezTo>
                <a:lnTo>
                  <a:pt x="735330" y="1301750"/>
                </a:lnTo>
                <a:cubicBezTo>
                  <a:pt x="731520" y="1304290"/>
                  <a:pt x="727996" y="1307322"/>
                  <a:pt x="723900" y="1309370"/>
                </a:cubicBezTo>
                <a:cubicBezTo>
                  <a:pt x="720308" y="1311166"/>
                  <a:pt x="715310" y="1310340"/>
                  <a:pt x="712470" y="1313180"/>
                </a:cubicBezTo>
                <a:cubicBezTo>
                  <a:pt x="709630" y="1316020"/>
                  <a:pt x="709930" y="1320800"/>
                  <a:pt x="708660" y="1324610"/>
                </a:cubicBezTo>
                <a:cubicBezTo>
                  <a:pt x="709930" y="1337310"/>
                  <a:pt x="710118" y="1350165"/>
                  <a:pt x="712470" y="1362710"/>
                </a:cubicBezTo>
                <a:cubicBezTo>
                  <a:pt x="713950" y="1370605"/>
                  <a:pt x="717550" y="1377950"/>
                  <a:pt x="720090" y="1385570"/>
                </a:cubicBezTo>
                <a:lnTo>
                  <a:pt x="727710" y="1408430"/>
                </a:lnTo>
                <a:cubicBezTo>
                  <a:pt x="728980" y="1412240"/>
                  <a:pt x="729292" y="1416518"/>
                  <a:pt x="731520" y="1419860"/>
                </a:cubicBezTo>
                <a:lnTo>
                  <a:pt x="739140" y="1431290"/>
                </a:lnTo>
                <a:cubicBezTo>
                  <a:pt x="740410" y="1446530"/>
                  <a:pt x="740436" y="1461925"/>
                  <a:pt x="742950" y="1477010"/>
                </a:cubicBezTo>
                <a:cubicBezTo>
                  <a:pt x="744270" y="1484933"/>
                  <a:pt x="750570" y="1499870"/>
                  <a:pt x="750570" y="1499870"/>
                </a:cubicBezTo>
                <a:cubicBezTo>
                  <a:pt x="718820" y="1501140"/>
                  <a:pt x="687029" y="1501634"/>
                  <a:pt x="655320" y="1503680"/>
                </a:cubicBezTo>
                <a:cubicBezTo>
                  <a:pt x="647611" y="1504177"/>
                  <a:pt x="639167" y="1503657"/>
                  <a:pt x="632460" y="1507490"/>
                </a:cubicBezTo>
                <a:cubicBezTo>
                  <a:pt x="628973" y="1509483"/>
                  <a:pt x="630600" y="1515409"/>
                  <a:pt x="628650" y="1518920"/>
                </a:cubicBezTo>
                <a:cubicBezTo>
                  <a:pt x="624202" y="1526926"/>
                  <a:pt x="613410" y="1541780"/>
                  <a:pt x="613410" y="1541780"/>
                </a:cubicBezTo>
                <a:cubicBezTo>
                  <a:pt x="621538" y="1566164"/>
                  <a:pt x="610362" y="1542796"/>
                  <a:pt x="628650" y="1557020"/>
                </a:cubicBezTo>
                <a:cubicBezTo>
                  <a:pt x="674180" y="1592432"/>
                  <a:pt x="623923" y="1577758"/>
                  <a:pt x="701040" y="1583690"/>
                </a:cubicBezTo>
                <a:cubicBezTo>
                  <a:pt x="704850" y="1584960"/>
                  <a:pt x="710978" y="1583771"/>
                  <a:pt x="712470" y="1587500"/>
                </a:cubicBezTo>
                <a:cubicBezTo>
                  <a:pt x="714153" y="1591708"/>
                  <a:pt x="701263" y="1620952"/>
                  <a:pt x="701040" y="1621790"/>
                </a:cubicBezTo>
                <a:cubicBezTo>
                  <a:pt x="697703" y="1634304"/>
                  <a:pt x="697516" y="1647603"/>
                  <a:pt x="693420" y="1659890"/>
                </a:cubicBezTo>
                <a:cubicBezTo>
                  <a:pt x="680616" y="1698303"/>
                  <a:pt x="700152" y="1638720"/>
                  <a:pt x="685800" y="1686560"/>
                </a:cubicBezTo>
                <a:cubicBezTo>
                  <a:pt x="682338" y="1698100"/>
                  <a:pt x="678180" y="1709420"/>
                  <a:pt x="674370" y="1720850"/>
                </a:cubicBezTo>
                <a:lnTo>
                  <a:pt x="670560" y="1732280"/>
                </a:lnTo>
                <a:cubicBezTo>
                  <a:pt x="669290" y="1758950"/>
                  <a:pt x="668967" y="1785682"/>
                  <a:pt x="666750" y="1812290"/>
                </a:cubicBezTo>
                <a:cubicBezTo>
                  <a:pt x="666416" y="1816292"/>
                  <a:pt x="664043" y="1819858"/>
                  <a:pt x="662940" y="1823720"/>
                </a:cubicBezTo>
                <a:cubicBezTo>
                  <a:pt x="651424" y="1864027"/>
                  <a:pt x="669618" y="1807495"/>
                  <a:pt x="651510" y="1861820"/>
                </a:cubicBezTo>
                <a:lnTo>
                  <a:pt x="647700" y="1873250"/>
                </a:lnTo>
                <a:cubicBezTo>
                  <a:pt x="646430" y="1887220"/>
                  <a:pt x="645286" y="1901202"/>
                  <a:pt x="643890" y="1915160"/>
                </a:cubicBezTo>
                <a:cubicBezTo>
                  <a:pt x="642746" y="1926603"/>
                  <a:pt x="643717" y="1938540"/>
                  <a:pt x="640080" y="1949450"/>
                </a:cubicBezTo>
                <a:cubicBezTo>
                  <a:pt x="637184" y="1958138"/>
                  <a:pt x="629920" y="1964690"/>
                  <a:pt x="624840" y="1972310"/>
                </a:cubicBezTo>
                <a:cubicBezTo>
                  <a:pt x="614680" y="1987550"/>
                  <a:pt x="621030" y="1981200"/>
                  <a:pt x="605790" y="1991360"/>
                </a:cubicBezTo>
                <a:cubicBezTo>
                  <a:pt x="585470" y="2021840"/>
                  <a:pt x="612140" y="1985010"/>
                  <a:pt x="586740" y="2010410"/>
                </a:cubicBezTo>
                <a:cubicBezTo>
                  <a:pt x="583502" y="2013648"/>
                  <a:pt x="582358" y="2018602"/>
                  <a:pt x="579120" y="2021840"/>
                </a:cubicBezTo>
                <a:cubicBezTo>
                  <a:pt x="572617" y="2028343"/>
                  <a:pt x="564782" y="2030946"/>
                  <a:pt x="556260" y="2033270"/>
                </a:cubicBezTo>
                <a:cubicBezTo>
                  <a:pt x="546156" y="2036026"/>
                  <a:pt x="525780" y="2040890"/>
                  <a:pt x="525780" y="2040890"/>
                </a:cubicBezTo>
                <a:cubicBezTo>
                  <a:pt x="497084" y="2060020"/>
                  <a:pt x="533554" y="2037558"/>
                  <a:pt x="499110" y="2052320"/>
                </a:cubicBezTo>
                <a:cubicBezTo>
                  <a:pt x="494901" y="2054124"/>
                  <a:pt x="491776" y="2057892"/>
                  <a:pt x="487680" y="2059940"/>
                </a:cubicBezTo>
                <a:cubicBezTo>
                  <a:pt x="482214" y="2062673"/>
                  <a:pt x="465893" y="2066339"/>
                  <a:pt x="461010" y="2067560"/>
                </a:cubicBezTo>
                <a:cubicBezTo>
                  <a:pt x="433070" y="2066290"/>
                  <a:pt x="405159" y="2063750"/>
                  <a:pt x="377190" y="2063750"/>
                </a:cubicBezTo>
                <a:cubicBezTo>
                  <a:pt x="366127" y="2063750"/>
                  <a:pt x="331828" y="2073186"/>
                  <a:pt x="323850" y="2075180"/>
                </a:cubicBezTo>
                <a:lnTo>
                  <a:pt x="278130" y="2086610"/>
                </a:lnTo>
                <a:cubicBezTo>
                  <a:pt x="212210" y="2112978"/>
                  <a:pt x="293305" y="2079023"/>
                  <a:pt x="247650" y="2101850"/>
                </a:cubicBezTo>
                <a:cubicBezTo>
                  <a:pt x="244058" y="2103646"/>
                  <a:pt x="239812" y="2103864"/>
                  <a:pt x="236220" y="2105660"/>
                </a:cubicBezTo>
                <a:cubicBezTo>
                  <a:pt x="232124" y="2107708"/>
                  <a:pt x="228974" y="2111420"/>
                  <a:pt x="224790" y="2113280"/>
                </a:cubicBezTo>
                <a:cubicBezTo>
                  <a:pt x="202277" y="2123286"/>
                  <a:pt x="193796" y="2121804"/>
                  <a:pt x="167640" y="2124710"/>
                </a:cubicBezTo>
                <a:cubicBezTo>
                  <a:pt x="141817" y="2141925"/>
                  <a:pt x="173888" y="2123006"/>
                  <a:pt x="125730" y="2136140"/>
                </a:cubicBezTo>
                <a:cubicBezTo>
                  <a:pt x="121312" y="2137345"/>
                  <a:pt x="118484" y="2141900"/>
                  <a:pt x="114300" y="2143760"/>
                </a:cubicBezTo>
                <a:cubicBezTo>
                  <a:pt x="106960" y="2147022"/>
                  <a:pt x="91440" y="2151380"/>
                  <a:pt x="91440" y="2151380"/>
                </a:cubicBezTo>
                <a:cubicBezTo>
                  <a:pt x="82939" y="2164131"/>
                  <a:pt x="69504" y="2178974"/>
                  <a:pt x="87630" y="2197100"/>
                </a:cubicBezTo>
                <a:cubicBezTo>
                  <a:pt x="93310" y="2202780"/>
                  <a:pt x="93675" y="2182116"/>
                  <a:pt x="95250" y="2174240"/>
                </a:cubicBezTo>
                <a:lnTo>
                  <a:pt x="102870" y="2136140"/>
                </a:lnTo>
                <a:cubicBezTo>
                  <a:pt x="101600" y="2032000"/>
                  <a:pt x="103141" y="1927788"/>
                  <a:pt x="99060" y="1823720"/>
                </a:cubicBezTo>
                <a:cubicBezTo>
                  <a:pt x="98054" y="1798056"/>
                  <a:pt x="89955" y="1773099"/>
                  <a:pt x="87630" y="1747520"/>
                </a:cubicBezTo>
                <a:cubicBezTo>
                  <a:pt x="86360" y="1733550"/>
                  <a:pt x="84985" y="1719589"/>
                  <a:pt x="83820" y="1705610"/>
                </a:cubicBezTo>
                <a:cubicBezTo>
                  <a:pt x="82445" y="1689108"/>
                  <a:pt x="81839" y="1672537"/>
                  <a:pt x="80010" y="1656080"/>
                </a:cubicBezTo>
                <a:cubicBezTo>
                  <a:pt x="78027" y="1638229"/>
                  <a:pt x="75228" y="1620475"/>
                  <a:pt x="72390" y="1602740"/>
                </a:cubicBezTo>
                <a:cubicBezTo>
                  <a:pt x="70147" y="1588719"/>
                  <a:pt x="68059" y="1574643"/>
                  <a:pt x="64770" y="1560830"/>
                </a:cubicBezTo>
                <a:cubicBezTo>
                  <a:pt x="49904" y="1498392"/>
                  <a:pt x="57509" y="1546938"/>
                  <a:pt x="41910" y="1488440"/>
                </a:cubicBezTo>
                <a:cubicBezTo>
                  <a:pt x="39920" y="1480976"/>
                  <a:pt x="39974" y="1473074"/>
                  <a:pt x="38100" y="1465580"/>
                </a:cubicBezTo>
                <a:cubicBezTo>
                  <a:pt x="36152" y="1457788"/>
                  <a:pt x="32788" y="1450413"/>
                  <a:pt x="30480" y="1442720"/>
                </a:cubicBezTo>
                <a:cubicBezTo>
                  <a:pt x="22699" y="1416782"/>
                  <a:pt x="31825" y="1437790"/>
                  <a:pt x="19050" y="1412240"/>
                </a:cubicBezTo>
                <a:cubicBezTo>
                  <a:pt x="23903" y="1385546"/>
                  <a:pt x="30396" y="1346115"/>
                  <a:pt x="38100" y="1320800"/>
                </a:cubicBezTo>
                <a:cubicBezTo>
                  <a:pt x="42083" y="1307714"/>
                  <a:pt x="49510" y="1295831"/>
                  <a:pt x="53340" y="1282700"/>
                </a:cubicBezTo>
                <a:cubicBezTo>
                  <a:pt x="62496" y="1251309"/>
                  <a:pt x="76648" y="1158651"/>
                  <a:pt x="80010" y="1137920"/>
                </a:cubicBezTo>
                <a:cubicBezTo>
                  <a:pt x="94733" y="1047130"/>
                  <a:pt x="79670" y="1128246"/>
                  <a:pt x="102870" y="1008380"/>
                </a:cubicBezTo>
                <a:cubicBezTo>
                  <a:pt x="105331" y="995664"/>
                  <a:pt x="110490" y="970280"/>
                  <a:pt x="110490" y="970280"/>
                </a:cubicBezTo>
                <a:cubicBezTo>
                  <a:pt x="120188" y="853902"/>
                  <a:pt x="123778" y="849558"/>
                  <a:pt x="114300" y="707390"/>
                </a:cubicBezTo>
                <a:cubicBezTo>
                  <a:pt x="113008" y="688006"/>
                  <a:pt x="106219" y="669376"/>
                  <a:pt x="102870" y="650240"/>
                </a:cubicBezTo>
                <a:cubicBezTo>
                  <a:pt x="97327" y="618567"/>
                  <a:pt x="93936" y="586519"/>
                  <a:pt x="87630" y="554990"/>
                </a:cubicBezTo>
                <a:cubicBezTo>
                  <a:pt x="75065" y="492165"/>
                  <a:pt x="85804" y="540521"/>
                  <a:pt x="72390" y="490220"/>
                </a:cubicBezTo>
                <a:cubicBezTo>
                  <a:pt x="70909" y="484667"/>
                  <a:pt x="60247" y="439884"/>
                  <a:pt x="57150" y="433070"/>
                </a:cubicBezTo>
                <a:cubicBezTo>
                  <a:pt x="54522" y="427289"/>
                  <a:pt x="48804" y="423381"/>
                  <a:pt x="45720" y="417830"/>
                </a:cubicBezTo>
                <a:cubicBezTo>
                  <a:pt x="34049" y="396822"/>
                  <a:pt x="43467" y="402935"/>
                  <a:pt x="30480" y="387350"/>
                </a:cubicBezTo>
                <a:cubicBezTo>
                  <a:pt x="21890" y="377042"/>
                  <a:pt x="10293" y="368914"/>
                  <a:pt x="0" y="360680"/>
                </a:cubicBezTo>
                <a:cubicBezTo>
                  <a:pt x="3810" y="356870"/>
                  <a:pt x="7339" y="352757"/>
                  <a:pt x="11430" y="349250"/>
                </a:cubicBezTo>
                <a:cubicBezTo>
                  <a:pt x="34915" y="329120"/>
                  <a:pt x="29533" y="342489"/>
                  <a:pt x="57150" y="307340"/>
                </a:cubicBezTo>
                <a:cubicBezTo>
                  <a:pt x="62413" y="300641"/>
                  <a:pt x="64197" y="291785"/>
                  <a:pt x="68580" y="284480"/>
                </a:cubicBezTo>
                <a:cubicBezTo>
                  <a:pt x="75648" y="272700"/>
                  <a:pt x="85297" y="262477"/>
                  <a:pt x="91440" y="250190"/>
                </a:cubicBezTo>
                <a:lnTo>
                  <a:pt x="106680" y="219710"/>
                </a:lnTo>
                <a:lnTo>
                  <a:pt x="114300" y="204470"/>
                </a:lnTo>
                <a:cubicBezTo>
                  <a:pt x="115570" y="196850"/>
                  <a:pt x="116434" y="189151"/>
                  <a:pt x="118110" y="181610"/>
                </a:cubicBezTo>
                <a:cubicBezTo>
                  <a:pt x="118981" y="177690"/>
                  <a:pt x="121920" y="174196"/>
                  <a:pt x="121920" y="170180"/>
                </a:cubicBezTo>
                <a:cubicBezTo>
                  <a:pt x="121920" y="156152"/>
                  <a:pt x="119578" y="142221"/>
                  <a:pt x="118110" y="128270"/>
                </a:cubicBezTo>
                <a:cubicBezTo>
                  <a:pt x="114796" y="96787"/>
                  <a:pt x="117148" y="106334"/>
                  <a:pt x="110490" y="86360"/>
                </a:cubicBezTo>
                <a:cubicBezTo>
                  <a:pt x="111760" y="73660"/>
                  <a:pt x="112359" y="60875"/>
                  <a:pt x="114300" y="48260"/>
                </a:cubicBezTo>
                <a:cubicBezTo>
                  <a:pt x="114911" y="44291"/>
                  <a:pt x="120015" y="5080"/>
                  <a:pt x="121920" y="2540"/>
                </a:cubicBezTo>
                <a:close/>
              </a:path>
            </a:pathLst>
          </a:custGeom>
          <a:solidFill>
            <a:srgbClr val="cccc00"/>
          </a:solidFill>
          <a:ln w="25560">
            <a:solidFill>
              <a:srgbClr val="9595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Freeform 11"/>
          <p:cNvSpPr/>
          <p:nvPr/>
        </p:nvSpPr>
        <p:spPr>
          <a:xfrm flipH="1">
            <a:off x="6698520" y="4365720"/>
            <a:ext cx="919080" cy="2201760"/>
          </a:xfrm>
          <a:custGeom>
            <a:avLst/>
            <a:gdLst/>
            <a:ahLst/>
            <a:rect l="l" t="t" r="r" b="b"/>
            <a:pathLst>
              <a:path w="867220" h="2202780">
                <a:moveTo>
                  <a:pt x="121920" y="2540"/>
                </a:moveTo>
                <a:cubicBezTo>
                  <a:pt x="123825" y="0"/>
                  <a:pt x="117805" y="26536"/>
                  <a:pt x="125730" y="33020"/>
                </a:cubicBezTo>
                <a:cubicBezTo>
                  <a:pt x="135608" y="41102"/>
                  <a:pt x="151195" y="35025"/>
                  <a:pt x="163830" y="36830"/>
                </a:cubicBezTo>
                <a:cubicBezTo>
                  <a:pt x="173907" y="38270"/>
                  <a:pt x="193976" y="45609"/>
                  <a:pt x="201930" y="48260"/>
                </a:cubicBezTo>
                <a:cubicBezTo>
                  <a:pt x="205740" y="49530"/>
                  <a:pt x="209464" y="51096"/>
                  <a:pt x="213360" y="52070"/>
                </a:cubicBezTo>
                <a:cubicBezTo>
                  <a:pt x="218440" y="53340"/>
                  <a:pt x="223465" y="54853"/>
                  <a:pt x="228600" y="55880"/>
                </a:cubicBezTo>
                <a:cubicBezTo>
                  <a:pt x="236175" y="57395"/>
                  <a:pt x="243919" y="58014"/>
                  <a:pt x="251460" y="59690"/>
                </a:cubicBezTo>
                <a:cubicBezTo>
                  <a:pt x="255380" y="60561"/>
                  <a:pt x="259080" y="62230"/>
                  <a:pt x="262890" y="63500"/>
                </a:cubicBezTo>
                <a:cubicBezTo>
                  <a:pt x="267970" y="67310"/>
                  <a:pt x="273640" y="70440"/>
                  <a:pt x="278130" y="74930"/>
                </a:cubicBezTo>
                <a:cubicBezTo>
                  <a:pt x="291543" y="88343"/>
                  <a:pt x="284828" y="90607"/>
                  <a:pt x="300990" y="97790"/>
                </a:cubicBezTo>
                <a:cubicBezTo>
                  <a:pt x="308330" y="101052"/>
                  <a:pt x="317167" y="100955"/>
                  <a:pt x="323850" y="105410"/>
                </a:cubicBezTo>
                <a:cubicBezTo>
                  <a:pt x="327660" y="107950"/>
                  <a:pt x="330993" y="111422"/>
                  <a:pt x="335280" y="113030"/>
                </a:cubicBezTo>
                <a:cubicBezTo>
                  <a:pt x="341343" y="115304"/>
                  <a:pt x="348048" y="115269"/>
                  <a:pt x="354330" y="116840"/>
                </a:cubicBezTo>
                <a:cubicBezTo>
                  <a:pt x="358226" y="117814"/>
                  <a:pt x="361950" y="119380"/>
                  <a:pt x="365760" y="120650"/>
                </a:cubicBezTo>
                <a:cubicBezTo>
                  <a:pt x="370840" y="124460"/>
                  <a:pt x="375615" y="128715"/>
                  <a:pt x="381000" y="132080"/>
                </a:cubicBezTo>
                <a:cubicBezTo>
                  <a:pt x="389556" y="137427"/>
                  <a:pt x="398118" y="140781"/>
                  <a:pt x="407670" y="143510"/>
                </a:cubicBezTo>
                <a:cubicBezTo>
                  <a:pt x="412705" y="144949"/>
                  <a:pt x="417830" y="146050"/>
                  <a:pt x="422910" y="147320"/>
                </a:cubicBezTo>
                <a:cubicBezTo>
                  <a:pt x="445151" y="162148"/>
                  <a:pt x="425849" y="145577"/>
                  <a:pt x="438150" y="170180"/>
                </a:cubicBezTo>
                <a:cubicBezTo>
                  <a:pt x="449263" y="192405"/>
                  <a:pt x="449104" y="190182"/>
                  <a:pt x="464820" y="200660"/>
                </a:cubicBezTo>
                <a:cubicBezTo>
                  <a:pt x="466090" y="204470"/>
                  <a:pt x="466402" y="208748"/>
                  <a:pt x="468630" y="212090"/>
                </a:cubicBezTo>
                <a:cubicBezTo>
                  <a:pt x="471619" y="216573"/>
                  <a:pt x="476553" y="219429"/>
                  <a:pt x="480060" y="223520"/>
                </a:cubicBezTo>
                <a:cubicBezTo>
                  <a:pt x="484193" y="228341"/>
                  <a:pt x="487799" y="233593"/>
                  <a:pt x="491490" y="238760"/>
                </a:cubicBezTo>
                <a:cubicBezTo>
                  <a:pt x="509688" y="264238"/>
                  <a:pt x="490338" y="236456"/>
                  <a:pt x="502920" y="261620"/>
                </a:cubicBezTo>
                <a:cubicBezTo>
                  <a:pt x="504968" y="265716"/>
                  <a:pt x="508680" y="268866"/>
                  <a:pt x="510540" y="273050"/>
                </a:cubicBezTo>
                <a:cubicBezTo>
                  <a:pt x="518830" y="291701"/>
                  <a:pt x="516855" y="294100"/>
                  <a:pt x="521970" y="311150"/>
                </a:cubicBezTo>
                <a:cubicBezTo>
                  <a:pt x="524278" y="318843"/>
                  <a:pt x="528015" y="326134"/>
                  <a:pt x="529590" y="334010"/>
                </a:cubicBezTo>
                <a:lnTo>
                  <a:pt x="537210" y="372110"/>
                </a:lnTo>
                <a:cubicBezTo>
                  <a:pt x="538480" y="378460"/>
                  <a:pt x="538972" y="385017"/>
                  <a:pt x="541020" y="391160"/>
                </a:cubicBezTo>
                <a:cubicBezTo>
                  <a:pt x="544830" y="402590"/>
                  <a:pt x="549528" y="413761"/>
                  <a:pt x="552450" y="425450"/>
                </a:cubicBezTo>
                <a:cubicBezTo>
                  <a:pt x="554990" y="435610"/>
                  <a:pt x="556758" y="445995"/>
                  <a:pt x="560070" y="455930"/>
                </a:cubicBezTo>
                <a:cubicBezTo>
                  <a:pt x="568068" y="479924"/>
                  <a:pt x="567461" y="474953"/>
                  <a:pt x="571500" y="497840"/>
                </a:cubicBezTo>
                <a:cubicBezTo>
                  <a:pt x="574693" y="515932"/>
                  <a:pt x="577222" y="547385"/>
                  <a:pt x="586740" y="566420"/>
                </a:cubicBezTo>
                <a:cubicBezTo>
                  <a:pt x="589580" y="572100"/>
                  <a:pt x="594805" y="576275"/>
                  <a:pt x="598170" y="581660"/>
                </a:cubicBezTo>
                <a:cubicBezTo>
                  <a:pt x="603206" y="589718"/>
                  <a:pt x="607091" y="599130"/>
                  <a:pt x="609600" y="608330"/>
                </a:cubicBezTo>
                <a:cubicBezTo>
                  <a:pt x="612356" y="618434"/>
                  <a:pt x="613908" y="628875"/>
                  <a:pt x="617220" y="638810"/>
                </a:cubicBezTo>
                <a:lnTo>
                  <a:pt x="624840" y="661670"/>
                </a:lnTo>
                <a:cubicBezTo>
                  <a:pt x="625305" y="689540"/>
                  <a:pt x="604917" y="839973"/>
                  <a:pt x="636270" y="913130"/>
                </a:cubicBezTo>
                <a:cubicBezTo>
                  <a:pt x="640745" y="923571"/>
                  <a:pt x="646430" y="933450"/>
                  <a:pt x="651510" y="943610"/>
                </a:cubicBezTo>
                <a:cubicBezTo>
                  <a:pt x="661178" y="962946"/>
                  <a:pt x="654404" y="955700"/>
                  <a:pt x="670560" y="966470"/>
                </a:cubicBezTo>
                <a:cubicBezTo>
                  <a:pt x="671830" y="972820"/>
                  <a:pt x="671157" y="979897"/>
                  <a:pt x="674370" y="985520"/>
                </a:cubicBezTo>
                <a:cubicBezTo>
                  <a:pt x="676642" y="989496"/>
                  <a:pt x="682074" y="990478"/>
                  <a:pt x="685800" y="993140"/>
                </a:cubicBezTo>
                <a:cubicBezTo>
                  <a:pt x="690967" y="996831"/>
                  <a:pt x="695873" y="1000879"/>
                  <a:pt x="701040" y="1004570"/>
                </a:cubicBezTo>
                <a:cubicBezTo>
                  <a:pt x="704766" y="1007232"/>
                  <a:pt x="708952" y="1009259"/>
                  <a:pt x="712470" y="1012190"/>
                </a:cubicBezTo>
                <a:cubicBezTo>
                  <a:pt x="716609" y="1015639"/>
                  <a:pt x="719647" y="1020312"/>
                  <a:pt x="723900" y="1023620"/>
                </a:cubicBezTo>
                <a:cubicBezTo>
                  <a:pt x="731129" y="1029243"/>
                  <a:pt x="739140" y="1033780"/>
                  <a:pt x="746760" y="1038860"/>
                </a:cubicBezTo>
                <a:cubicBezTo>
                  <a:pt x="750570" y="1041400"/>
                  <a:pt x="754952" y="1043242"/>
                  <a:pt x="758190" y="1046480"/>
                </a:cubicBezTo>
                <a:cubicBezTo>
                  <a:pt x="776668" y="1064958"/>
                  <a:pt x="767452" y="1057735"/>
                  <a:pt x="784860" y="1069340"/>
                </a:cubicBezTo>
                <a:cubicBezTo>
                  <a:pt x="786130" y="1073150"/>
                  <a:pt x="786336" y="1077502"/>
                  <a:pt x="788670" y="1080770"/>
                </a:cubicBezTo>
                <a:cubicBezTo>
                  <a:pt x="792846" y="1086616"/>
                  <a:pt x="799179" y="1090603"/>
                  <a:pt x="803910" y="1096010"/>
                </a:cubicBezTo>
                <a:cubicBezTo>
                  <a:pt x="808092" y="1100789"/>
                  <a:pt x="811530" y="1106170"/>
                  <a:pt x="815340" y="1111250"/>
                </a:cubicBezTo>
                <a:cubicBezTo>
                  <a:pt x="816610" y="1115060"/>
                  <a:pt x="817354" y="1119088"/>
                  <a:pt x="819150" y="1122680"/>
                </a:cubicBezTo>
                <a:cubicBezTo>
                  <a:pt x="821198" y="1126776"/>
                  <a:pt x="825322" y="1129766"/>
                  <a:pt x="826770" y="1134110"/>
                </a:cubicBezTo>
                <a:cubicBezTo>
                  <a:pt x="829213" y="1141439"/>
                  <a:pt x="828137" y="1149641"/>
                  <a:pt x="830580" y="1156970"/>
                </a:cubicBezTo>
                <a:cubicBezTo>
                  <a:pt x="832028" y="1161314"/>
                  <a:pt x="836152" y="1164304"/>
                  <a:pt x="838200" y="1168400"/>
                </a:cubicBezTo>
                <a:cubicBezTo>
                  <a:pt x="839996" y="1171992"/>
                  <a:pt x="840214" y="1176238"/>
                  <a:pt x="842010" y="1179830"/>
                </a:cubicBezTo>
                <a:cubicBezTo>
                  <a:pt x="847314" y="1190439"/>
                  <a:pt x="852634" y="1194264"/>
                  <a:pt x="861060" y="1202690"/>
                </a:cubicBezTo>
                <a:cubicBezTo>
                  <a:pt x="867220" y="1221171"/>
                  <a:pt x="866532" y="1213428"/>
                  <a:pt x="861060" y="1240790"/>
                </a:cubicBezTo>
                <a:cubicBezTo>
                  <a:pt x="860272" y="1244728"/>
                  <a:pt x="860090" y="1249380"/>
                  <a:pt x="857250" y="1252220"/>
                </a:cubicBezTo>
                <a:cubicBezTo>
                  <a:pt x="850774" y="1258696"/>
                  <a:pt x="842010" y="1262380"/>
                  <a:pt x="834390" y="1267460"/>
                </a:cubicBezTo>
                <a:cubicBezTo>
                  <a:pt x="816277" y="1279535"/>
                  <a:pt x="827304" y="1273632"/>
                  <a:pt x="800100" y="1282700"/>
                </a:cubicBezTo>
                <a:lnTo>
                  <a:pt x="765810" y="1294130"/>
                </a:lnTo>
                <a:cubicBezTo>
                  <a:pt x="762000" y="1295400"/>
                  <a:pt x="758318" y="1297152"/>
                  <a:pt x="754380" y="1297940"/>
                </a:cubicBezTo>
                <a:lnTo>
                  <a:pt x="735330" y="1301750"/>
                </a:lnTo>
                <a:cubicBezTo>
                  <a:pt x="731520" y="1304290"/>
                  <a:pt x="727996" y="1307322"/>
                  <a:pt x="723900" y="1309370"/>
                </a:cubicBezTo>
                <a:cubicBezTo>
                  <a:pt x="720308" y="1311166"/>
                  <a:pt x="715310" y="1310340"/>
                  <a:pt x="712470" y="1313180"/>
                </a:cubicBezTo>
                <a:cubicBezTo>
                  <a:pt x="709630" y="1316020"/>
                  <a:pt x="709930" y="1320800"/>
                  <a:pt x="708660" y="1324610"/>
                </a:cubicBezTo>
                <a:cubicBezTo>
                  <a:pt x="709930" y="1337310"/>
                  <a:pt x="710118" y="1350165"/>
                  <a:pt x="712470" y="1362710"/>
                </a:cubicBezTo>
                <a:cubicBezTo>
                  <a:pt x="713950" y="1370605"/>
                  <a:pt x="717550" y="1377950"/>
                  <a:pt x="720090" y="1385570"/>
                </a:cubicBezTo>
                <a:lnTo>
                  <a:pt x="727710" y="1408430"/>
                </a:lnTo>
                <a:cubicBezTo>
                  <a:pt x="728980" y="1412240"/>
                  <a:pt x="729292" y="1416518"/>
                  <a:pt x="731520" y="1419860"/>
                </a:cubicBezTo>
                <a:lnTo>
                  <a:pt x="739140" y="1431290"/>
                </a:lnTo>
                <a:cubicBezTo>
                  <a:pt x="740410" y="1446530"/>
                  <a:pt x="740436" y="1461925"/>
                  <a:pt x="742950" y="1477010"/>
                </a:cubicBezTo>
                <a:cubicBezTo>
                  <a:pt x="744270" y="1484933"/>
                  <a:pt x="750570" y="1499870"/>
                  <a:pt x="750570" y="1499870"/>
                </a:cubicBezTo>
                <a:cubicBezTo>
                  <a:pt x="718820" y="1501140"/>
                  <a:pt x="687029" y="1501634"/>
                  <a:pt x="655320" y="1503680"/>
                </a:cubicBezTo>
                <a:cubicBezTo>
                  <a:pt x="647611" y="1504177"/>
                  <a:pt x="639167" y="1503657"/>
                  <a:pt x="632460" y="1507490"/>
                </a:cubicBezTo>
                <a:cubicBezTo>
                  <a:pt x="628973" y="1509483"/>
                  <a:pt x="630600" y="1515409"/>
                  <a:pt x="628650" y="1518920"/>
                </a:cubicBezTo>
                <a:cubicBezTo>
                  <a:pt x="624202" y="1526926"/>
                  <a:pt x="613410" y="1541780"/>
                  <a:pt x="613410" y="1541780"/>
                </a:cubicBezTo>
                <a:cubicBezTo>
                  <a:pt x="621538" y="1566164"/>
                  <a:pt x="610362" y="1542796"/>
                  <a:pt x="628650" y="1557020"/>
                </a:cubicBezTo>
                <a:cubicBezTo>
                  <a:pt x="674180" y="1592432"/>
                  <a:pt x="623923" y="1577758"/>
                  <a:pt x="701040" y="1583690"/>
                </a:cubicBezTo>
                <a:cubicBezTo>
                  <a:pt x="704850" y="1584960"/>
                  <a:pt x="710978" y="1583771"/>
                  <a:pt x="712470" y="1587500"/>
                </a:cubicBezTo>
                <a:cubicBezTo>
                  <a:pt x="714153" y="1591708"/>
                  <a:pt x="701263" y="1620952"/>
                  <a:pt x="701040" y="1621790"/>
                </a:cubicBezTo>
                <a:cubicBezTo>
                  <a:pt x="697703" y="1634304"/>
                  <a:pt x="697516" y="1647603"/>
                  <a:pt x="693420" y="1659890"/>
                </a:cubicBezTo>
                <a:cubicBezTo>
                  <a:pt x="680616" y="1698303"/>
                  <a:pt x="700152" y="1638720"/>
                  <a:pt x="685800" y="1686560"/>
                </a:cubicBezTo>
                <a:cubicBezTo>
                  <a:pt x="682338" y="1698100"/>
                  <a:pt x="678180" y="1709420"/>
                  <a:pt x="674370" y="1720850"/>
                </a:cubicBezTo>
                <a:lnTo>
                  <a:pt x="670560" y="1732280"/>
                </a:lnTo>
                <a:cubicBezTo>
                  <a:pt x="669290" y="1758950"/>
                  <a:pt x="668967" y="1785682"/>
                  <a:pt x="666750" y="1812290"/>
                </a:cubicBezTo>
                <a:cubicBezTo>
                  <a:pt x="666416" y="1816292"/>
                  <a:pt x="664043" y="1819858"/>
                  <a:pt x="662940" y="1823720"/>
                </a:cubicBezTo>
                <a:cubicBezTo>
                  <a:pt x="651424" y="1864027"/>
                  <a:pt x="669618" y="1807495"/>
                  <a:pt x="651510" y="1861820"/>
                </a:cubicBezTo>
                <a:lnTo>
                  <a:pt x="647700" y="1873250"/>
                </a:lnTo>
                <a:cubicBezTo>
                  <a:pt x="646430" y="1887220"/>
                  <a:pt x="645286" y="1901202"/>
                  <a:pt x="643890" y="1915160"/>
                </a:cubicBezTo>
                <a:cubicBezTo>
                  <a:pt x="642746" y="1926603"/>
                  <a:pt x="643717" y="1938540"/>
                  <a:pt x="640080" y="1949450"/>
                </a:cubicBezTo>
                <a:cubicBezTo>
                  <a:pt x="637184" y="1958138"/>
                  <a:pt x="629920" y="1964690"/>
                  <a:pt x="624840" y="1972310"/>
                </a:cubicBezTo>
                <a:cubicBezTo>
                  <a:pt x="614680" y="1987550"/>
                  <a:pt x="621030" y="1981200"/>
                  <a:pt x="605790" y="1991360"/>
                </a:cubicBezTo>
                <a:cubicBezTo>
                  <a:pt x="585470" y="2021840"/>
                  <a:pt x="612140" y="1985010"/>
                  <a:pt x="586740" y="2010410"/>
                </a:cubicBezTo>
                <a:cubicBezTo>
                  <a:pt x="583502" y="2013648"/>
                  <a:pt x="582358" y="2018602"/>
                  <a:pt x="579120" y="2021840"/>
                </a:cubicBezTo>
                <a:cubicBezTo>
                  <a:pt x="572617" y="2028343"/>
                  <a:pt x="564782" y="2030946"/>
                  <a:pt x="556260" y="2033270"/>
                </a:cubicBezTo>
                <a:cubicBezTo>
                  <a:pt x="546156" y="2036026"/>
                  <a:pt x="525780" y="2040890"/>
                  <a:pt x="525780" y="2040890"/>
                </a:cubicBezTo>
                <a:cubicBezTo>
                  <a:pt x="497084" y="2060020"/>
                  <a:pt x="533554" y="2037558"/>
                  <a:pt x="499110" y="2052320"/>
                </a:cubicBezTo>
                <a:cubicBezTo>
                  <a:pt x="494901" y="2054124"/>
                  <a:pt x="491776" y="2057892"/>
                  <a:pt x="487680" y="2059940"/>
                </a:cubicBezTo>
                <a:cubicBezTo>
                  <a:pt x="482214" y="2062673"/>
                  <a:pt x="465893" y="2066339"/>
                  <a:pt x="461010" y="2067560"/>
                </a:cubicBezTo>
                <a:cubicBezTo>
                  <a:pt x="433070" y="2066290"/>
                  <a:pt x="405159" y="2063750"/>
                  <a:pt x="377190" y="2063750"/>
                </a:cubicBezTo>
                <a:cubicBezTo>
                  <a:pt x="366127" y="2063750"/>
                  <a:pt x="331828" y="2073186"/>
                  <a:pt x="323850" y="2075180"/>
                </a:cubicBezTo>
                <a:lnTo>
                  <a:pt x="278130" y="2086610"/>
                </a:lnTo>
                <a:cubicBezTo>
                  <a:pt x="212210" y="2112978"/>
                  <a:pt x="293305" y="2079023"/>
                  <a:pt x="247650" y="2101850"/>
                </a:cubicBezTo>
                <a:cubicBezTo>
                  <a:pt x="244058" y="2103646"/>
                  <a:pt x="239812" y="2103864"/>
                  <a:pt x="236220" y="2105660"/>
                </a:cubicBezTo>
                <a:cubicBezTo>
                  <a:pt x="232124" y="2107708"/>
                  <a:pt x="228974" y="2111420"/>
                  <a:pt x="224790" y="2113280"/>
                </a:cubicBezTo>
                <a:cubicBezTo>
                  <a:pt x="202277" y="2123286"/>
                  <a:pt x="193796" y="2121804"/>
                  <a:pt x="167640" y="2124710"/>
                </a:cubicBezTo>
                <a:cubicBezTo>
                  <a:pt x="141817" y="2141925"/>
                  <a:pt x="173888" y="2123006"/>
                  <a:pt x="125730" y="2136140"/>
                </a:cubicBezTo>
                <a:cubicBezTo>
                  <a:pt x="121312" y="2137345"/>
                  <a:pt x="118484" y="2141900"/>
                  <a:pt x="114300" y="2143760"/>
                </a:cubicBezTo>
                <a:cubicBezTo>
                  <a:pt x="106960" y="2147022"/>
                  <a:pt x="91440" y="2151380"/>
                  <a:pt x="91440" y="2151380"/>
                </a:cubicBezTo>
                <a:cubicBezTo>
                  <a:pt x="82939" y="2164131"/>
                  <a:pt x="69504" y="2178974"/>
                  <a:pt x="87630" y="2197100"/>
                </a:cubicBezTo>
                <a:cubicBezTo>
                  <a:pt x="93310" y="2202780"/>
                  <a:pt x="93675" y="2182116"/>
                  <a:pt x="95250" y="2174240"/>
                </a:cubicBezTo>
                <a:lnTo>
                  <a:pt x="102870" y="2136140"/>
                </a:lnTo>
                <a:cubicBezTo>
                  <a:pt x="101600" y="2032000"/>
                  <a:pt x="103141" y="1927788"/>
                  <a:pt x="99060" y="1823720"/>
                </a:cubicBezTo>
                <a:cubicBezTo>
                  <a:pt x="98054" y="1798056"/>
                  <a:pt x="89955" y="1773099"/>
                  <a:pt x="87630" y="1747520"/>
                </a:cubicBezTo>
                <a:cubicBezTo>
                  <a:pt x="86360" y="1733550"/>
                  <a:pt x="84985" y="1719589"/>
                  <a:pt x="83820" y="1705610"/>
                </a:cubicBezTo>
                <a:cubicBezTo>
                  <a:pt x="82445" y="1689108"/>
                  <a:pt x="81839" y="1672537"/>
                  <a:pt x="80010" y="1656080"/>
                </a:cubicBezTo>
                <a:cubicBezTo>
                  <a:pt x="78027" y="1638229"/>
                  <a:pt x="75228" y="1620475"/>
                  <a:pt x="72390" y="1602740"/>
                </a:cubicBezTo>
                <a:cubicBezTo>
                  <a:pt x="70147" y="1588719"/>
                  <a:pt x="68059" y="1574643"/>
                  <a:pt x="64770" y="1560830"/>
                </a:cubicBezTo>
                <a:cubicBezTo>
                  <a:pt x="49904" y="1498392"/>
                  <a:pt x="57509" y="1546938"/>
                  <a:pt x="41910" y="1488440"/>
                </a:cubicBezTo>
                <a:cubicBezTo>
                  <a:pt x="39920" y="1480976"/>
                  <a:pt x="39974" y="1473074"/>
                  <a:pt x="38100" y="1465580"/>
                </a:cubicBezTo>
                <a:cubicBezTo>
                  <a:pt x="36152" y="1457788"/>
                  <a:pt x="32788" y="1450413"/>
                  <a:pt x="30480" y="1442720"/>
                </a:cubicBezTo>
                <a:cubicBezTo>
                  <a:pt x="22699" y="1416782"/>
                  <a:pt x="31825" y="1437790"/>
                  <a:pt x="19050" y="1412240"/>
                </a:cubicBezTo>
                <a:cubicBezTo>
                  <a:pt x="23903" y="1385546"/>
                  <a:pt x="30396" y="1346115"/>
                  <a:pt x="38100" y="1320800"/>
                </a:cubicBezTo>
                <a:cubicBezTo>
                  <a:pt x="42083" y="1307714"/>
                  <a:pt x="49510" y="1295831"/>
                  <a:pt x="53340" y="1282700"/>
                </a:cubicBezTo>
                <a:cubicBezTo>
                  <a:pt x="62496" y="1251309"/>
                  <a:pt x="76648" y="1158651"/>
                  <a:pt x="80010" y="1137920"/>
                </a:cubicBezTo>
                <a:cubicBezTo>
                  <a:pt x="94733" y="1047130"/>
                  <a:pt x="79670" y="1128246"/>
                  <a:pt x="102870" y="1008380"/>
                </a:cubicBezTo>
                <a:cubicBezTo>
                  <a:pt x="105331" y="995664"/>
                  <a:pt x="110490" y="970280"/>
                  <a:pt x="110490" y="970280"/>
                </a:cubicBezTo>
                <a:cubicBezTo>
                  <a:pt x="120188" y="853902"/>
                  <a:pt x="123778" y="849558"/>
                  <a:pt x="114300" y="707390"/>
                </a:cubicBezTo>
                <a:cubicBezTo>
                  <a:pt x="113008" y="688006"/>
                  <a:pt x="106219" y="669376"/>
                  <a:pt x="102870" y="650240"/>
                </a:cubicBezTo>
                <a:cubicBezTo>
                  <a:pt x="97327" y="618567"/>
                  <a:pt x="93936" y="586519"/>
                  <a:pt x="87630" y="554990"/>
                </a:cubicBezTo>
                <a:cubicBezTo>
                  <a:pt x="75065" y="492165"/>
                  <a:pt x="85804" y="540521"/>
                  <a:pt x="72390" y="490220"/>
                </a:cubicBezTo>
                <a:cubicBezTo>
                  <a:pt x="70909" y="484667"/>
                  <a:pt x="60247" y="439884"/>
                  <a:pt x="57150" y="433070"/>
                </a:cubicBezTo>
                <a:cubicBezTo>
                  <a:pt x="54522" y="427289"/>
                  <a:pt x="48804" y="423381"/>
                  <a:pt x="45720" y="417830"/>
                </a:cubicBezTo>
                <a:cubicBezTo>
                  <a:pt x="34049" y="396822"/>
                  <a:pt x="43467" y="402935"/>
                  <a:pt x="30480" y="387350"/>
                </a:cubicBezTo>
                <a:cubicBezTo>
                  <a:pt x="21890" y="377042"/>
                  <a:pt x="10293" y="368914"/>
                  <a:pt x="0" y="360680"/>
                </a:cubicBezTo>
                <a:cubicBezTo>
                  <a:pt x="3810" y="356870"/>
                  <a:pt x="7339" y="352757"/>
                  <a:pt x="11430" y="349250"/>
                </a:cubicBezTo>
                <a:cubicBezTo>
                  <a:pt x="34915" y="329120"/>
                  <a:pt x="29533" y="342489"/>
                  <a:pt x="57150" y="307340"/>
                </a:cubicBezTo>
                <a:cubicBezTo>
                  <a:pt x="62413" y="300641"/>
                  <a:pt x="64197" y="291785"/>
                  <a:pt x="68580" y="284480"/>
                </a:cubicBezTo>
                <a:cubicBezTo>
                  <a:pt x="75648" y="272700"/>
                  <a:pt x="85297" y="262477"/>
                  <a:pt x="91440" y="250190"/>
                </a:cubicBezTo>
                <a:lnTo>
                  <a:pt x="106680" y="219710"/>
                </a:lnTo>
                <a:lnTo>
                  <a:pt x="114300" y="204470"/>
                </a:lnTo>
                <a:cubicBezTo>
                  <a:pt x="115570" y="196850"/>
                  <a:pt x="116434" y="189151"/>
                  <a:pt x="118110" y="181610"/>
                </a:cubicBezTo>
                <a:cubicBezTo>
                  <a:pt x="118981" y="177690"/>
                  <a:pt x="121920" y="174196"/>
                  <a:pt x="121920" y="170180"/>
                </a:cubicBezTo>
                <a:cubicBezTo>
                  <a:pt x="121920" y="156152"/>
                  <a:pt x="119578" y="142221"/>
                  <a:pt x="118110" y="128270"/>
                </a:cubicBezTo>
                <a:cubicBezTo>
                  <a:pt x="114796" y="96787"/>
                  <a:pt x="117148" y="106334"/>
                  <a:pt x="110490" y="86360"/>
                </a:cubicBezTo>
                <a:cubicBezTo>
                  <a:pt x="111760" y="73660"/>
                  <a:pt x="112359" y="60875"/>
                  <a:pt x="114300" y="48260"/>
                </a:cubicBezTo>
                <a:cubicBezTo>
                  <a:pt x="114911" y="44291"/>
                  <a:pt x="120015" y="5080"/>
                  <a:pt x="121920" y="2540"/>
                </a:cubicBezTo>
                <a:close/>
              </a:path>
            </a:pathLst>
          </a:custGeom>
          <a:solidFill>
            <a:srgbClr val="cccc00"/>
          </a:solidFill>
          <a:ln w="25560">
            <a:solidFill>
              <a:srgbClr val="9595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Multistability</a:t>
            </a:r>
            <a:endParaRPr b="1" lang="en-US" sz="3900" spc="-1" strike="noStrike">
              <a:solidFill>
                <a:srgbClr val="330066"/>
              </a:solidFill>
              <a:latin typeface="Arial"/>
            </a:endParaRPr>
          </a:p>
        </p:txBody>
      </p:sp>
      <p:pic>
        <p:nvPicPr>
          <p:cNvPr id="292" name="Picture 5" descr="Multistability"/>
          <p:cNvPicPr/>
          <p:nvPr/>
        </p:nvPicPr>
        <p:blipFill>
          <a:blip r:embed="rId1"/>
          <a:stretch/>
        </p:blipFill>
        <p:spPr>
          <a:xfrm>
            <a:off x="1028880" y="1341360"/>
            <a:ext cx="6422760" cy="2659320"/>
          </a:xfrm>
          <a:prstGeom prst="rect">
            <a:avLst/>
          </a:prstGeom>
          <a:ln w="0">
            <a:noFill/>
          </a:ln>
        </p:spPr>
      </p:pic>
      <p:pic>
        <p:nvPicPr>
          <p:cNvPr id="293" name="Picture 5" descr="Multistability"/>
          <p:cNvPicPr/>
          <p:nvPr/>
        </p:nvPicPr>
        <p:blipFill>
          <a:blip r:embed="rId2"/>
          <a:stretch/>
        </p:blipFill>
        <p:spPr>
          <a:xfrm>
            <a:off x="1042920" y="4083120"/>
            <a:ext cx="6423120" cy="2658960"/>
          </a:xfrm>
          <a:prstGeom prst="rect">
            <a:avLst/>
          </a:prstGeom>
          <a:ln w="0">
            <a:noFill/>
          </a:ln>
        </p:spPr>
      </p:pic>
      <p:sp>
        <p:nvSpPr>
          <p:cNvPr id="294" name="Rectangle 7"/>
          <p:cNvSpPr/>
          <p:nvPr/>
        </p:nvSpPr>
        <p:spPr>
          <a:xfrm>
            <a:off x="1908000" y="4365720"/>
            <a:ext cx="1584360" cy="158436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lowchart: Data 8"/>
          <p:cNvSpPr/>
          <p:nvPr/>
        </p:nvSpPr>
        <p:spPr>
          <a:xfrm rot="21028200">
            <a:off x="755640" y="4511160"/>
            <a:ext cx="1281240" cy="152424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lowchart: Data 9"/>
          <p:cNvSpPr/>
          <p:nvPr/>
        </p:nvSpPr>
        <p:spPr>
          <a:xfrm>
            <a:off x="1476360" y="5950080"/>
            <a:ext cx="2016000" cy="792000"/>
          </a:xfrm>
          <a:prstGeom prst="flowChartInputOutpu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12" descr="Faces.jpg"/>
          <p:cNvPicPr/>
          <p:nvPr/>
        </p:nvPicPr>
        <p:blipFill>
          <a:blip r:embed="rId3"/>
          <a:stretch/>
        </p:blipFill>
        <p:spPr>
          <a:xfrm>
            <a:off x="4846680" y="4365720"/>
            <a:ext cx="3254400" cy="2376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Invariance</a:t>
            </a:r>
            <a:endParaRPr b="1" lang="en-US" sz="3900" spc="-1" strike="noStrike">
              <a:solidFill>
                <a:srgbClr val="330066"/>
              </a:solidFill>
              <a:latin typeface="Arial"/>
            </a:endParaRPr>
          </a:p>
        </p:txBody>
      </p:sp>
      <p:sp>
        <p:nvSpPr>
          <p:cNvPr id="2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property of perception whereby simple geometrical objects are recognized independent of rotation, translation, and scale; as well as several other variations such as elastic deformations, different lighting, and different component featur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Invariance</a:t>
            </a:r>
            <a:endParaRPr b="1" lang="en-US" sz="3900" spc="-1" strike="noStrike">
              <a:solidFill>
                <a:srgbClr val="330066"/>
              </a:solidFill>
              <a:latin typeface="Arial"/>
            </a:endParaRPr>
          </a:p>
        </p:txBody>
      </p:sp>
      <p:pic>
        <p:nvPicPr>
          <p:cNvPr id="301" name="Picture 5" descr="Invariance"/>
          <p:cNvPicPr/>
          <p:nvPr/>
        </p:nvPicPr>
        <p:blipFill>
          <a:blip r:embed="rId1"/>
          <a:stretch/>
        </p:blipFill>
        <p:spPr>
          <a:xfrm>
            <a:off x="2340000" y="1628640"/>
            <a:ext cx="4305240" cy="4608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rinciple of </a:t>
            </a:r>
            <a:r>
              <a:rPr b="1" i="1" lang="en-GB" sz="3900" spc="-1" strike="noStrike">
                <a:solidFill>
                  <a:srgbClr val="330066"/>
                </a:solidFill>
                <a:latin typeface="Arial"/>
              </a:rPr>
              <a:t>Prägnanz</a:t>
            </a:r>
            <a:endParaRPr b="1" lang="en-US" sz="3900" spc="-1" strike="noStrike">
              <a:solidFill>
                <a:srgbClr val="330066"/>
              </a:solidFill>
              <a:latin typeface="Arial"/>
            </a:endParaRPr>
          </a:p>
        </p:txBody>
      </p:sp>
      <p:sp>
        <p:nvSpPr>
          <p:cNvPr id="3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e tend to order our experience in a manner that is regular, orderly, symmetric, and si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is results in other more basic law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Closur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Similarity</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Proximity</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Continuity</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aw of Common F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Closure</a:t>
            </a: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mind may experience elements it does not perceive through sensation, in order to complete a regular figure (that is, to increase regularity). </a:t>
            </a:r>
            <a:endParaRPr b="0" lang="en-US" sz="2600" spc="-1" strike="noStrike">
              <a:solidFill>
                <a:srgbClr val="000000"/>
              </a:solidFill>
              <a:latin typeface="Arial"/>
            </a:endParaRPr>
          </a:p>
        </p:txBody>
      </p:sp>
      <p:pic>
        <p:nvPicPr>
          <p:cNvPr id="306" name="Picture 4" descr="Gestalt_ley_de_cierre"/>
          <p:cNvPicPr/>
          <p:nvPr/>
        </p:nvPicPr>
        <p:blipFill>
          <a:blip r:embed="rId1"/>
          <a:stretch/>
        </p:blipFill>
        <p:spPr>
          <a:xfrm>
            <a:off x="1332000" y="3500280"/>
            <a:ext cx="6697440" cy="2741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Similarity</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mind groups similar elements into collective entities or totalities. This similarity might depend on relationships of form, colour, size, or brightness. </a:t>
            </a:r>
            <a:endParaRPr b="0" lang="en-US" sz="3000" spc="-1" strike="noStrike">
              <a:solidFill>
                <a:srgbClr val="000000"/>
              </a:solidFill>
              <a:latin typeface="Arial"/>
            </a:endParaRPr>
          </a:p>
        </p:txBody>
      </p:sp>
      <p:pic>
        <p:nvPicPr>
          <p:cNvPr id="309" name="Picture 5" descr="Gestalt_ley_de_semejanza"/>
          <p:cNvPicPr/>
          <p:nvPr/>
        </p:nvPicPr>
        <p:blipFill>
          <a:blip r:embed="rId1"/>
          <a:stretch/>
        </p:blipFill>
        <p:spPr>
          <a:xfrm>
            <a:off x="1547640" y="3790800"/>
            <a:ext cx="6264360" cy="26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gnitivism</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ental processes such as thinking, memory, knowing, and problem-solving need to be explore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Knowledge can be seen as schema or symbolic mental construction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Learning is defined as change in a learner’s schemat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Proximity</a:t>
            </a:r>
            <a:endParaRPr b="1" lang="en-US" sz="3900" spc="-1" strike="noStrike">
              <a:solidFill>
                <a:srgbClr val="330066"/>
              </a:solidFill>
              <a:latin typeface="Arial"/>
            </a:endParaRPr>
          </a:p>
        </p:txBody>
      </p:sp>
      <p:sp>
        <p:nvSpPr>
          <p:cNvPr id="311"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patial or temporal proximity of elements may induce the mind to perceive a collective or totality. </a:t>
            </a:r>
            <a:endParaRPr b="0" lang="en-US" sz="2600" spc="-1" strike="noStrike">
              <a:solidFill>
                <a:srgbClr val="000000"/>
              </a:solidFill>
              <a:latin typeface="Arial"/>
            </a:endParaRPr>
          </a:p>
        </p:txBody>
      </p:sp>
      <p:pic>
        <p:nvPicPr>
          <p:cNvPr id="312" name="Picture 6" descr="Gestalt_ley_de_proximidad"/>
          <p:cNvPicPr/>
          <p:nvPr/>
        </p:nvPicPr>
        <p:blipFill>
          <a:blip r:embed="rId1"/>
          <a:stretch/>
        </p:blipFill>
        <p:spPr>
          <a:xfrm>
            <a:off x="1476360" y="2997360"/>
            <a:ext cx="6551640" cy="3092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Symmetry</a:t>
            </a:r>
            <a:endParaRPr b="1" lang="en-US" sz="3900" spc="-1" strike="noStrike">
              <a:solidFill>
                <a:srgbClr val="330066"/>
              </a:solidFill>
              <a:latin typeface="Arial"/>
            </a:endParaRPr>
          </a:p>
        </p:txBody>
      </p:sp>
      <p:sp>
        <p:nvSpPr>
          <p:cNvPr id="31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ymmetrical images are perceived collectively, even in spite of distance. </a:t>
            </a:r>
            <a:endParaRPr b="0" lang="en-US" sz="3000" spc="-1" strike="noStrike">
              <a:solidFill>
                <a:srgbClr val="000000"/>
              </a:solidFill>
              <a:latin typeface="Arial"/>
            </a:endParaRPr>
          </a:p>
        </p:txBody>
      </p:sp>
      <p:pic>
        <p:nvPicPr>
          <p:cNvPr id="315" name="Picture 7" descr="gestalt-symmetry"/>
          <p:cNvPicPr/>
          <p:nvPr/>
        </p:nvPicPr>
        <p:blipFill>
          <a:blip r:embed="rId1"/>
          <a:stretch/>
        </p:blipFill>
        <p:spPr>
          <a:xfrm>
            <a:off x="471600" y="3357720"/>
            <a:ext cx="7629480" cy="2808000"/>
          </a:xfrm>
          <a:prstGeom prst="rect">
            <a:avLst/>
          </a:prstGeom>
          <a:ln w="0">
            <a:noFill/>
          </a:ln>
        </p:spPr>
      </p:pic>
      <p:sp>
        <p:nvSpPr>
          <p:cNvPr id="316" name="Rectangle 8"/>
          <p:cNvSpPr/>
          <p:nvPr/>
        </p:nvSpPr>
        <p:spPr>
          <a:xfrm>
            <a:off x="1111320" y="3141720"/>
            <a:ext cx="6989760" cy="331164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Continuity</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mind continues visual, auditory, and kinetic patterns. </a:t>
            </a:r>
            <a:endParaRPr b="0" lang="en-US" sz="2600" spc="-1" strike="noStrike">
              <a:solidFill>
                <a:srgbClr val="000000"/>
              </a:solidFill>
              <a:latin typeface="Arial"/>
            </a:endParaRPr>
          </a:p>
        </p:txBody>
      </p:sp>
      <p:pic>
        <p:nvPicPr>
          <p:cNvPr id="319" name="Picture 9" descr="design-continuity"/>
          <p:cNvPicPr/>
          <p:nvPr/>
        </p:nvPicPr>
        <p:blipFill>
          <a:blip r:embed="rId1"/>
          <a:stretch/>
        </p:blipFill>
        <p:spPr>
          <a:xfrm>
            <a:off x="2050920" y="2997360"/>
            <a:ext cx="5042160" cy="3240000"/>
          </a:xfrm>
          <a:prstGeom prst="rect">
            <a:avLst/>
          </a:prstGeom>
          <a:ln w="0">
            <a:noFill/>
          </a:ln>
        </p:spPr>
      </p:pic>
      <p:sp>
        <p:nvSpPr>
          <p:cNvPr id="320" name="Rectangle 10"/>
          <p:cNvSpPr/>
          <p:nvPr/>
        </p:nvSpPr>
        <p:spPr>
          <a:xfrm>
            <a:off x="1111320" y="2708280"/>
            <a:ext cx="6989760" cy="374508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w of Common Fate</a:t>
            </a:r>
            <a:endParaRPr b="1" lang="en-US" sz="3900" spc="-1" strike="noStrike">
              <a:solidFill>
                <a:srgbClr val="330066"/>
              </a:solidFill>
              <a:latin typeface="Arial"/>
            </a:endParaRPr>
          </a:p>
        </p:txBody>
      </p:sp>
      <p:sp>
        <p:nvSpPr>
          <p:cNvPr id="322"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lements with the same moving direction are perceived as a collective or unit. </a:t>
            </a:r>
            <a:endParaRPr b="0" lang="en-US" sz="2600" spc="-1" strike="noStrike">
              <a:solidFill>
                <a:srgbClr val="000000"/>
              </a:solidFill>
              <a:latin typeface="Arial"/>
            </a:endParaRPr>
          </a:p>
        </p:txBody>
      </p:sp>
      <p:pic>
        <p:nvPicPr>
          <p:cNvPr id="323" name="Picture 9" descr="Common"/>
          <p:cNvPicPr/>
          <p:nvPr/>
        </p:nvPicPr>
        <p:blipFill>
          <a:blip r:embed="rId1"/>
          <a:stretch/>
        </p:blipFill>
        <p:spPr>
          <a:xfrm>
            <a:off x="2338560" y="2881440"/>
            <a:ext cx="4321080" cy="2708280"/>
          </a:xfrm>
          <a:prstGeom prst="rect">
            <a:avLst/>
          </a:prstGeom>
          <a:ln w="0">
            <a:noFill/>
          </a:ln>
        </p:spPr>
      </p:pic>
      <p:sp>
        <p:nvSpPr>
          <p:cNvPr id="324" name="Rectangle 10"/>
          <p:cNvSpPr/>
          <p:nvPr/>
        </p:nvSpPr>
        <p:spPr>
          <a:xfrm>
            <a:off x="1979640" y="3241800"/>
            <a:ext cx="4824360" cy="208908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0066"/>
                </a:solidFill>
                <a:latin typeface="Arial"/>
              </a:rPr>
              <a:t>An Investigation of the spatial perception of time multiplexing during the simulation of motion of objects</a:t>
            </a:r>
            <a:endParaRPr b="1" lang="en-US" sz="2700" spc="-1" strike="noStrike">
              <a:solidFill>
                <a:srgbClr val="330066"/>
              </a:solidFill>
              <a:latin typeface="Arial"/>
            </a:endParaRPr>
          </a:p>
        </p:txBody>
      </p:sp>
      <p:sp>
        <p:nvSpPr>
          <p:cNvPr id="326" name="PlaceHolder 2"/>
          <p:cNvSpPr>
            <a:spLocks noGrp="1"/>
          </p:cNvSpPr>
          <p:nvPr>
            <p:ph/>
          </p:nvPr>
        </p:nvSpPr>
        <p:spPr>
          <a:xfrm>
            <a:off x="457200" y="1484280"/>
            <a:ext cx="4038480" cy="4805280"/>
          </a:xfrm>
          <a:prstGeom prst="rect">
            <a:avLst/>
          </a:prstGeom>
          <a:noFill/>
          <a:ln w="0">
            <a:noFill/>
          </a:ln>
        </p:spPr>
        <p:txBody>
          <a:bodyPr anchor="t">
            <a:normAutofit fontScale="97000"/>
          </a:bodyPr>
          <a:p>
            <a:pPr marL="332640" indent="-33264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project investigated the physiology and psychology of visual perception, and attempted to explain the illusion in those terms. </a:t>
            </a:r>
            <a:endParaRPr b="0" lang="en-US" sz="1900" spc="-1" strike="noStrike">
              <a:solidFill>
                <a:srgbClr val="000000"/>
              </a:solidFill>
              <a:latin typeface="Arial"/>
            </a:endParaRPr>
          </a:p>
          <a:p>
            <a:pPr marL="332640" indent="-33264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psychology investigation centred on </a:t>
            </a:r>
            <a:r>
              <a:rPr b="0" i="1" lang="en-GB" sz="1900" spc="-1" strike="noStrike">
                <a:solidFill>
                  <a:srgbClr val="000000"/>
                </a:solidFill>
                <a:latin typeface="Arial"/>
              </a:rPr>
              <a:t>Gestalt Psychology</a:t>
            </a:r>
            <a:r>
              <a:rPr b="0" lang="en-GB" sz="1900" spc="-1" strike="noStrike">
                <a:solidFill>
                  <a:srgbClr val="000000"/>
                </a:solidFill>
                <a:latin typeface="Arial"/>
              </a:rPr>
              <a:t> and how the principles in Gestalt psychology co-operate to cause the formation of illusory contours. </a:t>
            </a:r>
            <a:endParaRPr b="0" lang="en-US" sz="1900" spc="-1" strike="noStrike">
              <a:solidFill>
                <a:srgbClr val="000000"/>
              </a:solidFill>
              <a:latin typeface="Arial"/>
            </a:endParaRPr>
          </a:p>
          <a:p>
            <a:pPr marL="332640" indent="-33264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 designed an LED Array system whose display characteristics could be varied in software to assist in supporting the proposed theory. </a:t>
            </a:r>
            <a:endParaRPr b="0" lang="en-US" sz="19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 addition the research appears to have found a way of measuring the persistence of vision of illusory contours for very short periods of time.</a:t>
            </a:r>
            <a:r>
              <a:rPr b="0" lang="en-GB" sz="1700" spc="-1" strike="noStrike">
                <a:solidFill>
                  <a:srgbClr val="000000"/>
                </a:solidFill>
                <a:latin typeface="Arial"/>
              </a:rPr>
              <a:t> </a:t>
            </a:r>
            <a:endParaRPr b="0" lang="en-US" sz="1700" spc="-1" strike="noStrike">
              <a:solidFill>
                <a:srgbClr val="000000"/>
              </a:solidFill>
              <a:latin typeface="Arial"/>
            </a:endParaRPr>
          </a:p>
        </p:txBody>
      </p:sp>
      <p:pic>
        <p:nvPicPr>
          <p:cNvPr id="327" name="Picture 7" descr="led0002"/>
          <p:cNvPicPr/>
          <p:nvPr/>
        </p:nvPicPr>
        <p:blipFill>
          <a:blip r:embed="rId1"/>
          <a:stretch/>
        </p:blipFill>
        <p:spPr>
          <a:xfrm>
            <a:off x="4859280" y="2039760"/>
            <a:ext cx="3838680" cy="668520"/>
          </a:xfrm>
          <a:prstGeom prst="rect">
            <a:avLst/>
          </a:prstGeom>
          <a:ln w="0">
            <a:noFill/>
          </a:ln>
        </p:spPr>
      </p:pic>
      <p:pic>
        <p:nvPicPr>
          <p:cNvPr id="328" name="Picture 8" descr="indoor-led-scrolling-signs"/>
          <p:cNvPicPr/>
          <p:nvPr/>
        </p:nvPicPr>
        <p:blipFill>
          <a:blip r:embed="rId2"/>
          <a:stretch/>
        </p:blipFill>
        <p:spPr>
          <a:xfrm>
            <a:off x="4859280" y="328464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Cognitivism:</a:t>
            </a:r>
            <a:br>
              <a:rPr sz="4800"/>
            </a:br>
            <a:r>
              <a:rPr b="1" lang="en-GB" sz="4800" spc="-1" strike="noStrike">
                <a:solidFill>
                  <a:srgbClr val="330066"/>
                </a:solidFill>
                <a:latin typeface="Arial"/>
              </a:rPr>
              <a:t>Instructional Design</a:t>
            </a:r>
            <a:endParaRPr b="1" lang="en-US" sz="4800" spc="-1" strike="noStrike">
              <a:solidFill>
                <a:srgbClr val="330066"/>
              </a:solidFill>
              <a:latin typeface="Arial"/>
            </a:endParaRPr>
          </a:p>
        </p:txBody>
      </p:sp>
      <p:pic>
        <p:nvPicPr>
          <p:cNvPr id="330" name="Picture 3" descr="mammalian-brain-computer-inside"/>
          <p:cNvPicPr/>
          <p:nvPr/>
        </p:nvPicPr>
        <p:blipFill>
          <a:blip r:embed="rId1"/>
          <a:stretch/>
        </p:blipFill>
        <p:spPr>
          <a:xfrm>
            <a:off x="4438800" y="2852640"/>
            <a:ext cx="2869920" cy="3168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4"/>
          <p:cNvSpPr/>
          <p:nvPr/>
        </p:nvSpPr>
        <p:spPr>
          <a:xfrm>
            <a:off x="0" y="0"/>
            <a:ext cx="9144000" cy="6858000"/>
          </a:xfrm>
          <a:prstGeom prst="rect">
            <a:avLst/>
          </a:prstGeom>
          <a:solidFill>
            <a:srgbClr val="262626"/>
          </a:solidFill>
          <a:ln w="255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Kurt Lewin</a:t>
            </a:r>
            <a:endParaRPr b="1" lang="en-US" sz="3900" spc="-1" strike="noStrike">
              <a:solidFill>
                <a:srgbClr val="330066"/>
              </a:solidFill>
              <a:latin typeface="Arial"/>
            </a:endParaRPr>
          </a:p>
        </p:txBody>
      </p:sp>
      <p:sp>
        <p:nvSpPr>
          <p:cNvPr id="333" name="PlaceHolder 2"/>
          <p:cNvSpPr>
            <a:spLocks noGrp="1"/>
          </p:cNvSpPr>
          <p:nvPr>
            <p:ph/>
          </p:nvPr>
        </p:nvSpPr>
        <p:spPr>
          <a:xfrm>
            <a:off x="178920" y="1700280"/>
            <a:ext cx="403884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Sept 9, 1890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ied Feb 12, 1947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in Mogilno, Polan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sychologi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ounder of social psycholog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Worked closely with the Gestalt psychologists</a:t>
            </a:r>
            <a:endParaRPr b="0" lang="en-US" sz="2600" spc="-1" strike="noStrike">
              <a:solidFill>
                <a:srgbClr val="000000"/>
              </a:solidFill>
              <a:latin typeface="Arial"/>
            </a:endParaRPr>
          </a:p>
        </p:txBody>
      </p:sp>
      <p:pic>
        <p:nvPicPr>
          <p:cNvPr id="334" name="Picture 6" descr="115864-004-BD47C641"/>
          <p:cNvPicPr/>
          <p:nvPr/>
        </p:nvPicPr>
        <p:blipFill>
          <a:blip r:embed="rId1"/>
          <a:stretch/>
        </p:blipFill>
        <p:spPr>
          <a:xfrm>
            <a:off x="5003640" y="981000"/>
            <a:ext cx="3456000" cy="4815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Force field Analysis</a:t>
            </a:r>
            <a:endParaRPr b="1" lang="en-US" sz="3900" spc="-1" strike="noStrike">
              <a:solidFill>
                <a:srgbClr val="330066"/>
              </a:solidFill>
              <a:latin typeface="Arial"/>
            </a:endParaRPr>
          </a:p>
        </p:txBody>
      </p:sp>
      <p:sp>
        <p:nvSpPr>
          <p:cNvPr id="336"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s a framework for looking at the factors (</a:t>
            </a:r>
            <a:r>
              <a:rPr b="0" i="1" lang="en-GB" sz="2200" spc="-1" strike="noStrike">
                <a:solidFill>
                  <a:srgbClr val="000000"/>
                </a:solidFill>
                <a:latin typeface="Arial"/>
              </a:rPr>
              <a:t>forces</a:t>
            </a:r>
            <a:r>
              <a:rPr b="0" lang="en-GB" sz="2200" spc="-1" strike="noStrike">
                <a:solidFill>
                  <a:srgbClr val="000000"/>
                </a:solidFill>
                <a:latin typeface="Arial"/>
              </a:rPr>
              <a:t>) that influence a situation, originally social situations.</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Lewin believed the "field" to be a Gestalt psychological environment existing in an individual's (or in the collective group) mind at a certain point in time that can be mathematically described in a topological constellation of constructs. </a:t>
            </a:r>
            <a:endParaRPr b="0" lang="en-US" sz="2200" spc="-1" strike="noStrike">
              <a:solidFill>
                <a:srgbClr val="000000"/>
              </a:solidFill>
              <a:latin typeface="Arial"/>
            </a:endParaRPr>
          </a:p>
        </p:txBody>
      </p:sp>
      <p:pic>
        <p:nvPicPr>
          <p:cNvPr id="337" name="Picture 6" descr="force_field"/>
          <p:cNvPicPr/>
          <p:nvPr/>
        </p:nvPicPr>
        <p:blipFill>
          <a:blip r:embed="rId1"/>
          <a:stretch/>
        </p:blipFill>
        <p:spPr>
          <a:xfrm>
            <a:off x="5219640" y="1341360"/>
            <a:ext cx="3095640" cy="2111400"/>
          </a:xfrm>
          <a:prstGeom prst="rect">
            <a:avLst/>
          </a:prstGeom>
          <a:ln w="0">
            <a:noFill/>
          </a:ln>
        </p:spPr>
      </p:pic>
      <p:pic>
        <p:nvPicPr>
          <p:cNvPr id="338" name="Picture 7" descr="force_field"/>
          <p:cNvPicPr/>
          <p:nvPr/>
        </p:nvPicPr>
        <p:blipFill>
          <a:blip r:embed="rId2"/>
          <a:stretch/>
        </p:blipFill>
        <p:spPr>
          <a:xfrm>
            <a:off x="5508720" y="3809880"/>
            <a:ext cx="2663640" cy="2427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Action Research</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first coined the term “action research” in about 1944. In his 1946 paper “Action Research and Minority Problems” he described action research as “</a:t>
            </a:r>
            <a:r>
              <a:rPr b="0" i="1" lang="en-IE" sz="2200" spc="-1" strike="noStrike">
                <a:solidFill>
                  <a:srgbClr val="000000"/>
                </a:solidFill>
                <a:latin typeface="Arial"/>
              </a:rPr>
              <a:t>a comparative research on the conditions and effects of various forms of social action and research leading to social action</a:t>
            </a:r>
            <a:r>
              <a:rPr b="0" lang="en-IE" sz="2200" spc="-1" strike="noStrike">
                <a:solidFill>
                  <a:srgbClr val="000000"/>
                </a:solidFill>
                <a:latin typeface="Arial"/>
              </a:rPr>
              <a:t>” that uses “</a:t>
            </a:r>
            <a:r>
              <a:rPr b="0" i="1" lang="en-IE" sz="2200" spc="-1" strike="noStrike">
                <a:solidFill>
                  <a:srgbClr val="000000"/>
                </a:solidFill>
                <a:latin typeface="Arial"/>
              </a:rPr>
              <a:t>a spiral of steps, each of which is composed of a circle of planning, action, and fact-finding about the result of the action</a:t>
            </a:r>
            <a:r>
              <a:rPr b="0" lang="en-IE" sz="2200" spc="-1" strike="noStrike">
                <a:solidFill>
                  <a:srgbClr val="000000"/>
                </a:solidFill>
                <a:latin typeface="Arial"/>
              </a:rPr>
              <a:t>”. </a:t>
            </a:r>
            <a:endParaRPr b="0" lang="en-US" sz="2200" spc="-1" strike="noStrike">
              <a:solidFill>
                <a:srgbClr val="000000"/>
              </a:solidFill>
              <a:latin typeface="Arial"/>
            </a:endParaRPr>
          </a:p>
        </p:txBody>
      </p:sp>
      <p:pic>
        <p:nvPicPr>
          <p:cNvPr id="341" name="Picture 6" descr="action_research"/>
          <p:cNvPicPr/>
          <p:nvPr/>
        </p:nvPicPr>
        <p:blipFill>
          <a:blip r:embed="rId1"/>
          <a:stretch/>
        </p:blipFill>
        <p:spPr>
          <a:xfrm>
            <a:off x="4859280" y="1773360"/>
            <a:ext cx="3865680" cy="3402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structional Design</a:t>
            </a:r>
            <a:endParaRPr b="1" lang="en-US" sz="3900" spc="-1" strike="noStrike">
              <a:solidFill>
                <a:srgbClr val="330066"/>
              </a:solidFill>
              <a:latin typeface="Arial"/>
            </a:endParaRPr>
          </a:p>
        </p:txBody>
      </p:sp>
      <p:sp>
        <p:nvSpPr>
          <p:cNvPr id="34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Active Learning</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struction must be planned with a clear vision of what the students will do with the content presented. It is critical that students interact with the instructional content and that activities be developed to promote and support open-ended, self-directed learning. Content should never be delivered for memorization, but instead for use as a tool in planned and sequenced activities.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A Cohesive Approach</a:t>
            </a:r>
            <a:r>
              <a:rPr b="0" lang="en-GB"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ewin wrote that a piecemeal approach to guiding learners to accept new ideas, attitudes, and behaviors is ineffective. Instead, a cohesive approach must be utilized to support changes in cognition, affect, and behavior.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Impact of the Social Environment</a:t>
            </a:r>
            <a:r>
              <a:rPr b="0" lang="en-GB"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ewin theorized that before changes in ideas, attitudes, and behavior will occur, modifications in a learner's perception of self and his/her social environment are essential. He also argued that it is easier to create change in a social context than individually.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SHOCK – HORROR - DISMAY</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re is a great deal of ambiguity in the education literature as to what constitutes Cognitivism, and how it different from Constructivis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at follows is my take on thi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More work on Instructional Design</a:t>
            </a:r>
            <a:endParaRPr b="1" lang="en-US" sz="4800" spc="-1" strike="noStrike">
              <a:solidFill>
                <a:srgbClr val="330066"/>
              </a:solidFill>
              <a:latin typeface="Arial"/>
            </a:endParaRPr>
          </a:p>
        </p:txBody>
      </p:sp>
      <p:sp>
        <p:nvSpPr>
          <p:cNvPr id="345"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structional Design</a:t>
            </a:r>
            <a:endParaRPr b="1" lang="en-US" sz="3900" spc="-1" strike="noStrike">
              <a:solidFill>
                <a:srgbClr val="330066"/>
              </a:solidFill>
              <a:latin typeface="Arial"/>
            </a:endParaRPr>
          </a:p>
        </p:txBody>
      </p:sp>
      <p:sp>
        <p:nvSpPr>
          <p:cNvPr id="34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Maximise the effectiveness, efficiency and appeal of instruction and other learning experience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process consists of determining the current state and needs of the learner, defining the end goal of instruction, and creating some "intervention" to assist in the transi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outcome of this instruction may be directly observable and scientifically measured or completely hidden and assum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4"/>
          <p:cNvSpPr/>
          <p:nvPr/>
        </p:nvSpPr>
        <p:spPr>
          <a:xfrm>
            <a:off x="0" y="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Robert Mills Gagné</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rn in Aug 21, 1916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ed in April 28, 2002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rn in in North Andover, Massachusetts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ducational psychologis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best known for his “</a:t>
            </a:r>
            <a:r>
              <a:rPr b="0" i="1" lang="en-IE" sz="2200" spc="-1" strike="noStrike">
                <a:solidFill>
                  <a:srgbClr val="000000"/>
                </a:solidFill>
                <a:latin typeface="Arial"/>
              </a:rPr>
              <a:t>Conditions of Learning</a:t>
            </a:r>
            <a:r>
              <a:rPr b="0" lang="en-IE"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involved in applying instructional theory to the design of computer based learning.</a:t>
            </a:r>
            <a:endParaRPr b="0" lang="en-US" sz="2200" spc="-1" strike="noStrike">
              <a:solidFill>
                <a:srgbClr val="000000"/>
              </a:solidFill>
              <a:latin typeface="Arial"/>
            </a:endParaRPr>
          </a:p>
        </p:txBody>
      </p:sp>
      <p:pic>
        <p:nvPicPr>
          <p:cNvPr id="351" name="Picture 7" descr="gagne"/>
          <p:cNvPicPr/>
          <p:nvPr/>
        </p:nvPicPr>
        <p:blipFill>
          <a:blip r:embed="rId1"/>
          <a:stretch/>
        </p:blipFill>
        <p:spPr>
          <a:xfrm>
            <a:off x="5292720" y="1268280"/>
            <a:ext cx="3413160" cy="4464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Gagné Assumption </a:t>
            </a:r>
            <a:endParaRPr b="1" lang="en-US" sz="3900" spc="-1" strike="noStrike">
              <a:solidFill>
                <a:srgbClr val="330066"/>
              </a:solidFill>
              <a:latin typeface="Arial"/>
            </a:endParaRPr>
          </a:p>
        </p:txBody>
      </p:sp>
      <p:sp>
        <p:nvSpPr>
          <p:cNvPr id="353" name="PlaceHolder 2"/>
          <p:cNvSpPr>
            <a:spLocks noGrp="1"/>
          </p:cNvSpPr>
          <p:nvPr>
            <p:ph/>
          </p:nvPr>
        </p:nvSpPr>
        <p:spPr>
          <a:xfrm>
            <a:off x="457200" y="1719360"/>
            <a:ext cx="8229600" cy="4411440"/>
          </a:xfrm>
          <a:prstGeom prst="rect">
            <a:avLst/>
          </a:prstGeom>
          <a:noFill/>
          <a:ln w="0">
            <a:noFill/>
          </a:ln>
        </p:spPr>
        <p:txBody>
          <a:bodyPr anchor="t">
            <a:normAutofit/>
          </a:bodyPr>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ifferent types of learning exist, and that different instructional conditions are most likely to bring about these different types of learning.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Five Categories of Learning</a:t>
            </a:r>
            <a:endParaRPr b="1" lang="en-US" sz="3900" spc="-1" strike="noStrike">
              <a:solidFill>
                <a:srgbClr val="330066"/>
              </a:solidFill>
              <a:latin typeface="Arial"/>
            </a:endParaRPr>
          </a:p>
        </p:txBody>
      </p:sp>
      <p:sp>
        <p:nvSpPr>
          <p:cNvPr id="355" name="PlaceHolder 2"/>
          <p:cNvSpPr>
            <a:spLocks noGrp="1"/>
          </p:cNvSpPr>
          <p:nvPr>
            <p:ph/>
          </p:nvPr>
        </p:nvSpPr>
        <p:spPr>
          <a:xfrm>
            <a:off x="457200" y="1719360"/>
            <a:ext cx="8229600" cy="4411440"/>
          </a:xfrm>
          <a:prstGeom prst="rect">
            <a:avLst/>
          </a:prstGeom>
          <a:noFill/>
          <a:ln w="0">
            <a:noFill/>
          </a:ln>
        </p:spPr>
        <p:txBody>
          <a:bodyPr anchor="t">
            <a:normAutofit/>
          </a:bodyPr>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verbal information</a:t>
            </a:r>
            <a:endParaRPr b="0" lang="en-US" sz="3000" spc="-1" strike="noStrike">
              <a:solidFill>
                <a:srgbClr val="000000"/>
              </a:solidFill>
              <a:latin typeface="Arial"/>
            </a:endParaRPr>
          </a:p>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intellectual skills</a:t>
            </a:r>
            <a:endParaRPr b="0" lang="en-US" sz="3000" spc="-1" strike="noStrike">
              <a:solidFill>
                <a:srgbClr val="000000"/>
              </a:solidFill>
              <a:latin typeface="Arial"/>
            </a:endParaRPr>
          </a:p>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cognitive strategies</a:t>
            </a:r>
            <a:endParaRPr b="0" lang="en-US" sz="3000" spc="-1" strike="noStrike">
              <a:solidFill>
                <a:srgbClr val="000000"/>
              </a:solidFill>
              <a:latin typeface="Arial"/>
            </a:endParaRPr>
          </a:p>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motor skills</a:t>
            </a:r>
            <a:endParaRPr b="0" lang="en-US" sz="3000" spc="-1" strike="noStrike">
              <a:solidFill>
                <a:srgbClr val="000000"/>
              </a:solidFill>
              <a:latin typeface="Arial"/>
            </a:endParaRPr>
          </a:p>
          <a:p>
            <a:pPr marL="361800" indent="-3618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ttitud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Eight Types of Learning</a:t>
            </a:r>
            <a:endParaRPr b="1" lang="en-US" sz="3900" spc="-1" strike="noStrike">
              <a:solidFill>
                <a:srgbClr val="330066"/>
              </a:solidFill>
              <a:latin typeface="Arial"/>
            </a:endParaRPr>
          </a:p>
        </p:txBody>
      </p:sp>
      <p:sp>
        <p:nvSpPr>
          <p:cNvPr id="357" name="PlaceHolder 2"/>
          <p:cNvSpPr>
            <a:spLocks noGrp="1"/>
          </p:cNvSpPr>
          <p:nvPr>
            <p:ph/>
          </p:nvPr>
        </p:nvSpPr>
        <p:spPr>
          <a:xfrm>
            <a:off x="457200" y="1719360"/>
            <a:ext cx="8229600" cy="4411440"/>
          </a:xfrm>
          <a:prstGeom prst="rect">
            <a:avLst/>
          </a:prstGeom>
          <a:noFill/>
          <a:ln w="0">
            <a:noFill/>
          </a:ln>
        </p:spPr>
        <p:txBody>
          <a:bodyPr anchor="t">
            <a:normAutofit/>
          </a:bodyPr>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Signal Learning</a:t>
            </a:r>
            <a:r>
              <a:rPr b="0" lang="en-IE" sz="1900" spc="-1" strike="noStrike">
                <a:solidFill>
                  <a:srgbClr val="000000"/>
                </a:solidFill>
                <a:latin typeface="Arial"/>
              </a:rPr>
              <a:t> - The individual learns to make a general, diffuse response to a signal. Such was the classical conditioned response of Pavlov.</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Stimulus-Response Learning</a:t>
            </a:r>
            <a:r>
              <a:rPr b="0" lang="en-IE" sz="1900" spc="-1" strike="noStrike">
                <a:solidFill>
                  <a:srgbClr val="000000"/>
                </a:solidFill>
                <a:latin typeface="Arial"/>
              </a:rPr>
              <a:t> - The learner acquires a precise response to a discriminated stimulus.</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Chaining</a:t>
            </a:r>
            <a:r>
              <a:rPr b="0" lang="en-IE" sz="1900" spc="-1" strike="noStrike">
                <a:solidFill>
                  <a:srgbClr val="000000"/>
                </a:solidFill>
                <a:latin typeface="Arial"/>
              </a:rPr>
              <a:t> - A chain of two or more stimulus-response connections is acquired.</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Verbal Association</a:t>
            </a:r>
            <a:r>
              <a:rPr b="0" lang="en-IE" sz="1900" spc="-1" strike="noStrike">
                <a:solidFill>
                  <a:srgbClr val="000000"/>
                </a:solidFill>
                <a:latin typeface="Arial"/>
              </a:rPr>
              <a:t> - The learning of chains that are verbal.</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Discrimination Learning</a:t>
            </a:r>
            <a:r>
              <a:rPr b="0" lang="en-IE" sz="1900" spc="-1" strike="noStrike">
                <a:solidFill>
                  <a:srgbClr val="000000"/>
                </a:solidFill>
                <a:latin typeface="Arial"/>
              </a:rPr>
              <a:t> - The individual learns to make different identifying responses to many different stimuli that may resemble each other in physical appearance.</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Concept Learning</a:t>
            </a:r>
            <a:r>
              <a:rPr b="0" lang="en-IE" sz="1900" spc="-1" strike="noStrike">
                <a:solidFill>
                  <a:srgbClr val="000000"/>
                </a:solidFill>
                <a:latin typeface="Arial"/>
              </a:rPr>
              <a:t> - The learner acquires a capability of making a common response to a class of stimuli.</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Rule Learning</a:t>
            </a:r>
            <a:r>
              <a:rPr b="0" lang="en-IE" sz="1900" spc="-1" strike="noStrike">
                <a:solidFill>
                  <a:srgbClr val="000000"/>
                </a:solidFill>
                <a:latin typeface="Arial"/>
              </a:rPr>
              <a:t> -  A rule is a chain of two or more concepts.</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Arial"/>
              </a:rPr>
              <a:t>Problem Solving</a:t>
            </a:r>
            <a:r>
              <a:rPr b="0" lang="en-IE" sz="1900" spc="-1" strike="noStrike">
                <a:solidFill>
                  <a:srgbClr val="000000"/>
                </a:solidFill>
                <a:latin typeface="Arial"/>
              </a:rPr>
              <a:t> - A kind of learning that requires the internal events usually called thinking.</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agné’s Nine Events of Instruction</a:t>
            </a:r>
            <a:endParaRPr b="1" lang="en-US" sz="3900" spc="-1" strike="noStrike">
              <a:solidFill>
                <a:srgbClr val="330066"/>
              </a:solidFill>
              <a:latin typeface="Arial"/>
            </a:endParaRPr>
          </a:p>
        </p:txBody>
      </p:sp>
      <p:pic>
        <p:nvPicPr>
          <p:cNvPr id="359" name="Picture 4" descr="gagne"/>
          <p:cNvPicPr/>
          <p:nvPr/>
        </p:nvPicPr>
        <p:blipFill>
          <a:blip r:embed="rId1"/>
          <a:stretch/>
        </p:blipFill>
        <p:spPr>
          <a:xfrm>
            <a:off x="7812000" y="44280"/>
            <a:ext cx="1266840" cy="1657440"/>
          </a:xfrm>
          <a:prstGeom prst="rect">
            <a:avLst/>
          </a:prstGeom>
          <a:ln w="0">
            <a:noFill/>
          </a:ln>
        </p:spPr>
      </p:pic>
      <p:pic>
        <p:nvPicPr>
          <p:cNvPr id="360" name="Picture 6" descr="gagne"/>
          <p:cNvPicPr/>
          <p:nvPr/>
        </p:nvPicPr>
        <p:blipFill>
          <a:blip r:embed="rId2"/>
          <a:stretch/>
        </p:blipFill>
        <p:spPr>
          <a:xfrm>
            <a:off x="843120" y="2160720"/>
            <a:ext cx="7457760" cy="2923920"/>
          </a:xfrm>
          <a:prstGeom prst="rect">
            <a:avLst/>
          </a:prstGeom>
          <a:ln w="0">
            <a:noFill/>
          </a:ln>
        </p:spPr>
      </p:pic>
      <p:sp>
        <p:nvSpPr>
          <p:cNvPr id="361" name="WordArt 7"/>
          <p:cNvSpPr txBox="1"/>
          <p:nvPr/>
        </p:nvSpPr>
        <p:spPr>
          <a:xfrm>
            <a:off x="7418520" y="5950080"/>
            <a:ext cx="140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Micro</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Nine Events of Instruction</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anchor="t">
            <a:normAutofit/>
          </a:bodyPr>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Gain attention</a:t>
            </a:r>
            <a:r>
              <a:rPr b="0" lang="en-IE" sz="1700" spc="-1" strike="noStrike">
                <a:solidFill>
                  <a:srgbClr val="000000"/>
                </a:solidFill>
                <a:latin typeface="Arial"/>
              </a:rPr>
              <a:t> - Curiosity motivates students to learn.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Inform learners of objectives</a:t>
            </a:r>
            <a:r>
              <a:rPr b="0" lang="en-IE" sz="1700" spc="-1" strike="noStrike">
                <a:solidFill>
                  <a:srgbClr val="000000"/>
                </a:solidFill>
                <a:latin typeface="Arial"/>
              </a:rPr>
              <a:t> - </a:t>
            </a:r>
            <a:r>
              <a:rPr b="0" lang="en-GB" sz="1700" spc="-1" strike="noStrike">
                <a:solidFill>
                  <a:srgbClr val="000000"/>
                </a:solidFill>
                <a:latin typeface="Arial"/>
              </a:rPr>
              <a:t>These objectives should form the basis for assessment.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Stimulate recall of prior learning</a:t>
            </a:r>
            <a:r>
              <a:rPr b="0" lang="en-IE" sz="1700" spc="-1" strike="noStrike">
                <a:solidFill>
                  <a:srgbClr val="000000"/>
                </a:solidFill>
                <a:latin typeface="Arial"/>
              </a:rPr>
              <a:t> - </a:t>
            </a:r>
            <a:r>
              <a:rPr b="0" lang="en-GB" sz="1700" spc="-1" strike="noStrike">
                <a:solidFill>
                  <a:srgbClr val="000000"/>
                </a:solidFill>
                <a:latin typeface="Arial"/>
              </a:rPr>
              <a:t>Associating new information with prior knowledge can facilitate the learning process.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Present the content</a:t>
            </a:r>
            <a:r>
              <a:rPr b="0" lang="en-IE" sz="1700" spc="-1" strike="noStrike">
                <a:solidFill>
                  <a:srgbClr val="000000"/>
                </a:solidFill>
                <a:latin typeface="Arial"/>
              </a:rPr>
              <a:t> - </a:t>
            </a:r>
            <a:r>
              <a:rPr b="0" lang="en-GB" sz="1700" spc="-1" strike="noStrike">
                <a:solidFill>
                  <a:srgbClr val="000000"/>
                </a:solidFill>
                <a:latin typeface="Arial"/>
              </a:rPr>
              <a:t>This event of instruction is where the new content is actually presented to the learner.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Provide “learning guidance”</a:t>
            </a:r>
            <a:r>
              <a:rPr b="0" lang="en-IE" sz="1700" spc="-1" strike="noStrike">
                <a:solidFill>
                  <a:srgbClr val="000000"/>
                </a:solidFill>
                <a:latin typeface="Arial"/>
              </a:rPr>
              <a:t> - </a:t>
            </a:r>
            <a:r>
              <a:rPr b="0" lang="en-GB" sz="1700" spc="-1" strike="noStrike">
                <a:solidFill>
                  <a:srgbClr val="000000"/>
                </a:solidFill>
                <a:latin typeface="Arial"/>
              </a:rPr>
              <a:t>use of examples, non-examples, case studies, graphical representations, mnemonics, and analogies.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Elicit performance (practice)</a:t>
            </a:r>
            <a:r>
              <a:rPr b="0" lang="en-IE" sz="1700" spc="-1" strike="noStrike">
                <a:solidFill>
                  <a:srgbClr val="000000"/>
                </a:solidFill>
                <a:latin typeface="Arial"/>
              </a:rPr>
              <a:t> - </a:t>
            </a:r>
            <a:r>
              <a:rPr b="0" lang="en-GB" sz="1700" spc="-1" strike="noStrike">
                <a:solidFill>
                  <a:srgbClr val="000000"/>
                </a:solidFill>
                <a:latin typeface="Arial"/>
              </a:rPr>
              <a:t>Eliciting performance provides an opportunity for learners to confirm their correct understanding, and the repetition further increases the likelihood of retention.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Provide feedback</a:t>
            </a:r>
            <a:r>
              <a:rPr b="0" lang="en-IE" sz="1700" spc="-1" strike="noStrike">
                <a:solidFill>
                  <a:srgbClr val="000000"/>
                </a:solidFill>
                <a:latin typeface="Arial"/>
              </a:rPr>
              <a:t> - </a:t>
            </a:r>
            <a:r>
              <a:rPr b="0" lang="en-GB" sz="1700" spc="-1" strike="noStrike">
                <a:solidFill>
                  <a:srgbClr val="000000"/>
                </a:solidFill>
                <a:latin typeface="Arial"/>
              </a:rPr>
              <a:t>guidance and answers provided at this stage are called formative feedback.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Assess performance</a:t>
            </a:r>
            <a:r>
              <a:rPr b="0" lang="en-IE" sz="1700" spc="-1" strike="noStrike">
                <a:solidFill>
                  <a:srgbClr val="000000"/>
                </a:solidFill>
                <a:latin typeface="Arial"/>
              </a:rPr>
              <a:t> - </a:t>
            </a:r>
            <a:r>
              <a:rPr b="0" lang="en-GB" sz="1700" spc="-1" strike="noStrike">
                <a:solidFill>
                  <a:srgbClr val="000000"/>
                </a:solidFill>
                <a:latin typeface="Arial"/>
              </a:rPr>
              <a:t>take a final assessment. </a:t>
            </a:r>
            <a:endParaRPr b="0" lang="en-US" sz="1700" spc="-1" strike="noStrike">
              <a:solidFill>
                <a:srgbClr val="000000"/>
              </a:solidFill>
              <a:latin typeface="Arial"/>
            </a:endParaRPr>
          </a:p>
          <a:p>
            <a:pPr marL="361800" indent="-361800">
              <a:lnSpc>
                <a:spcPct val="80000"/>
              </a:lnSpc>
              <a:spcBef>
                <a:spcPts val="425"/>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Arial"/>
              </a:rPr>
              <a:t>Enhance retention and transfer to the job</a:t>
            </a:r>
            <a:r>
              <a:rPr b="0" lang="en-IE" sz="1700" spc="-1" strike="noStrike">
                <a:solidFill>
                  <a:srgbClr val="000000"/>
                </a:solidFill>
                <a:latin typeface="Arial"/>
              </a:rPr>
              <a:t> - </a:t>
            </a:r>
            <a:r>
              <a:rPr b="0" lang="en-GB" sz="1700" spc="-1" strike="noStrike">
                <a:solidFill>
                  <a:srgbClr val="000000"/>
                </a:solidFill>
                <a:latin typeface="Arial"/>
              </a:rPr>
              <a:t>Effective education will have a "performance" focu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4"/>
          <p:cNvSpPr/>
          <p:nvPr/>
        </p:nvSpPr>
        <p:spPr>
          <a:xfrm>
            <a:off x="0" y="-2700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title"/>
          </p:nvPr>
        </p:nvSpPr>
        <p:spPr>
          <a:xfrm>
            <a:off x="456840" y="8377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orge </a:t>
            </a:r>
            <a:br>
              <a:rPr sz="3900"/>
            </a:br>
            <a:r>
              <a:rPr b="1" lang="en-GB" sz="3900" spc="-1" strike="noStrike">
                <a:solidFill>
                  <a:srgbClr val="330066"/>
                </a:solidFill>
                <a:latin typeface="Arial"/>
              </a:rPr>
              <a:t>Armitage </a:t>
            </a:r>
            <a:br>
              <a:rPr sz="3900"/>
            </a:br>
            <a:r>
              <a:rPr b="1" lang="en-GB" sz="3900" spc="-1" strike="noStrike">
                <a:solidFill>
                  <a:srgbClr val="330066"/>
                </a:solidFill>
                <a:latin typeface="Arial"/>
              </a:rPr>
              <a:t>Miller</a:t>
            </a:r>
            <a:endParaRPr b="1" lang="en-US" sz="3900" spc="-1" strike="noStrike">
              <a:solidFill>
                <a:srgbClr val="330066"/>
              </a:solidFill>
              <a:latin typeface="Arial"/>
            </a:endParaRPr>
          </a:p>
        </p:txBody>
      </p:sp>
      <p:sp>
        <p:nvSpPr>
          <p:cNvPr id="366" name="PlaceHolder 2"/>
          <p:cNvSpPr>
            <a:spLocks noGrp="1"/>
          </p:cNvSpPr>
          <p:nvPr>
            <p:ph/>
          </p:nvPr>
        </p:nvSpPr>
        <p:spPr>
          <a:xfrm>
            <a:off x="457200" y="2546280"/>
            <a:ext cx="4038480" cy="405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Feb 3, 192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ge 9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Charleston, West Virgini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sychologist and Cognitive Scienti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under of WordNe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t>
            </a:r>
            <a:r>
              <a:rPr b="0" lang="en-GB" sz="2600" spc="-1" strike="noStrike">
                <a:solidFill>
                  <a:srgbClr val="000000"/>
                </a:solidFill>
                <a:latin typeface="Arial"/>
              </a:rPr>
              <a:t>Miller’s Magic Number”</a:t>
            </a:r>
            <a:endParaRPr b="0" lang="en-US" sz="2600" spc="-1" strike="noStrike">
              <a:solidFill>
                <a:srgbClr val="000000"/>
              </a:solidFill>
              <a:latin typeface="Arial"/>
            </a:endParaRPr>
          </a:p>
        </p:txBody>
      </p:sp>
      <p:pic>
        <p:nvPicPr>
          <p:cNvPr id="367" name="Picture 7" descr="Miller2"/>
          <p:cNvPicPr/>
          <p:nvPr/>
        </p:nvPicPr>
        <p:blipFill>
          <a:blip r:embed="rId1"/>
          <a:stretch/>
        </p:blipFill>
        <p:spPr>
          <a:xfrm>
            <a:off x="4564080" y="115920"/>
            <a:ext cx="4386240" cy="6553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formation Processing Theory</a:t>
            </a:r>
            <a:endParaRPr b="1" lang="en-US" sz="3900" spc="-1" strike="noStrike">
              <a:solidFill>
                <a:srgbClr val="330066"/>
              </a:solidFill>
              <a:latin typeface="Arial"/>
            </a:endParaRPr>
          </a:p>
        </p:txBody>
      </p:sp>
      <p:sp>
        <p:nvSpPr>
          <p:cNvPr id="369"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E: “Test-Operate-Test-Exit”</a:t>
            </a:r>
            <a:endParaRPr b="0" lang="en-US" sz="20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IE" sz="2200" spc="-1" strike="noStrike">
                <a:solidFill>
                  <a:srgbClr val="000000"/>
                </a:solidFill>
                <a:latin typeface="Arial"/>
              </a:rPr>
              <a:t>an iterative problem solving strategy based on feedback loops</a:t>
            </a:r>
            <a:endParaRPr b="0" lang="en-US" sz="22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st</a:t>
            </a:r>
            <a:r>
              <a:rPr b="0" lang="en-GB" sz="2000" spc="-1" strike="noStrike">
                <a:solidFill>
                  <a:srgbClr val="000000"/>
                </a:solidFill>
                <a:latin typeface="Arial"/>
              </a:rPr>
              <a:t> where the system is currently,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 perform some </a:t>
            </a:r>
            <a:r>
              <a:rPr b="1" lang="en-GB" sz="2000" spc="-1" strike="noStrike">
                <a:solidFill>
                  <a:srgbClr val="000000"/>
                </a:solidFill>
                <a:latin typeface="Arial"/>
              </a:rPr>
              <a:t>operation</a:t>
            </a:r>
            <a:r>
              <a:rPr b="0" lang="en-GB" sz="2000" spc="-1" strike="noStrike">
                <a:solidFill>
                  <a:srgbClr val="000000"/>
                </a:solidFill>
                <a:latin typeface="Arial"/>
              </a:rPr>
              <a:t> that makes a change,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 </a:t>
            </a:r>
            <a:r>
              <a:rPr b="1" lang="en-GB" sz="2000" spc="-1" strike="noStrike">
                <a:solidFill>
                  <a:srgbClr val="000000"/>
                </a:solidFill>
                <a:latin typeface="Arial"/>
              </a:rPr>
              <a:t>retest</a:t>
            </a:r>
            <a:r>
              <a:rPr b="0" lang="en-GB" sz="2000" spc="-1" strike="noStrike">
                <a:solidFill>
                  <a:srgbClr val="000000"/>
                </a:solidFill>
                <a:latin typeface="Arial"/>
              </a:rPr>
              <a:t> again,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to repeat this until the answer is satisfactory, at which point the process is complete and ends (or </a:t>
            </a:r>
            <a:r>
              <a:rPr b="1" lang="en-GB" sz="2000" spc="-1" strike="noStrike">
                <a:solidFill>
                  <a:srgbClr val="000000"/>
                </a:solidFill>
                <a:latin typeface="Arial"/>
              </a:rPr>
              <a:t>exit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370" name="Rectangle 6"/>
          <p:cNvSpPr/>
          <p:nvPr/>
        </p:nvSpPr>
        <p:spPr>
          <a:xfrm>
            <a:off x="6156360" y="2708280"/>
            <a:ext cx="1440000" cy="93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7"/>
          <p:cNvSpPr/>
          <p:nvPr/>
        </p:nvSpPr>
        <p:spPr>
          <a:xfrm>
            <a:off x="6156360" y="4437000"/>
            <a:ext cx="1440000" cy="93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5364000" y="2997360"/>
            <a:ext cx="792360" cy="360360"/>
          </a:xfrm>
          <a:prstGeom prst="rightArrow">
            <a:avLst>
              <a:gd name="adj1" fmla="val 50000"/>
              <a:gd name="adj2" fmla="val 5497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7596360" y="299736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1"/>
          <p:cNvSpPr/>
          <p:nvPr/>
        </p:nvSpPr>
        <p:spPr>
          <a:xfrm rot="5400000">
            <a:off x="6156000" y="386064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2"/>
          <p:cNvSpPr/>
          <p:nvPr/>
        </p:nvSpPr>
        <p:spPr>
          <a:xfrm rot="16200000">
            <a:off x="6804000" y="386064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4"/>
          <p:cNvSpPr/>
          <p:nvPr/>
        </p:nvSpPr>
        <p:spPr>
          <a:xfrm>
            <a:off x="6537240" y="2990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a:t>
            </a:r>
            <a:endParaRPr b="0" lang="en-US" sz="1800" spc="-1" strike="noStrike">
              <a:solidFill>
                <a:srgbClr val="000000"/>
              </a:solidFill>
              <a:latin typeface="Arial"/>
            </a:endParaRPr>
          </a:p>
        </p:txBody>
      </p:sp>
      <p:sp>
        <p:nvSpPr>
          <p:cNvPr id="377" name="Text Box 15"/>
          <p:cNvSpPr/>
          <p:nvPr/>
        </p:nvSpPr>
        <p:spPr>
          <a:xfrm>
            <a:off x="6374520" y="4718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e</a:t>
            </a:r>
            <a:endParaRPr b="0" lang="en-US" sz="1800" spc="-1" strike="noStrike">
              <a:solidFill>
                <a:srgbClr val="000000"/>
              </a:solidFill>
              <a:latin typeface="Arial"/>
            </a:endParaRPr>
          </a:p>
        </p:txBody>
      </p:sp>
      <p:sp>
        <p:nvSpPr>
          <p:cNvPr id="378" name="Text Box 16"/>
          <p:cNvSpPr/>
          <p:nvPr/>
        </p:nvSpPr>
        <p:spPr>
          <a:xfrm>
            <a:off x="8409240" y="299736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SHOCK – HORROR - DISMAY</a:t>
            </a:r>
            <a:endParaRPr b="1" lang="en-US" sz="3900" spc="-1" strike="noStrike">
              <a:solidFill>
                <a:srgbClr val="330066"/>
              </a:solidFill>
              <a:latin typeface="Arial"/>
            </a:endParaRPr>
          </a:p>
        </p:txBody>
      </p:sp>
      <p:sp>
        <p:nvSpPr>
          <p:cNvPr id="166" name="PlaceHolder 2"/>
          <p:cNvSpPr>
            <a:spLocks noGrp="1"/>
          </p:cNvSpPr>
          <p:nvPr>
            <p:ph/>
          </p:nvPr>
        </p:nvSpPr>
        <p:spPr>
          <a:xfrm>
            <a:off x="457200" y="170028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re is a great deal of ambiguity in the education literature as to what constitutes Cognitivism, and how it different from Constructivis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at follows is my take on things…</a:t>
            </a:r>
            <a:endParaRPr b="0" lang="en-US" sz="3000" spc="-1" strike="noStrike">
              <a:solidFill>
                <a:srgbClr val="000000"/>
              </a:solidFill>
              <a:latin typeface="Arial"/>
            </a:endParaRPr>
          </a:p>
        </p:txBody>
      </p:sp>
      <p:sp>
        <p:nvSpPr>
          <p:cNvPr id="167" name="Rectangle 7"/>
          <p:cNvSpPr/>
          <p:nvPr/>
        </p:nvSpPr>
        <p:spPr>
          <a:xfrm>
            <a:off x="6470640" y="5013360"/>
            <a:ext cx="1441440" cy="1079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nstructivism</a:t>
            </a:r>
            <a:endParaRPr b="0" lang="en-US" sz="1400" spc="-1" strike="noStrike">
              <a:solidFill>
                <a:srgbClr val="000000"/>
              </a:solidFill>
              <a:latin typeface="Arial"/>
            </a:endParaRPr>
          </a:p>
        </p:txBody>
      </p:sp>
      <p:sp>
        <p:nvSpPr>
          <p:cNvPr id="168" name="AutoShape 5"/>
          <p:cNvSpPr/>
          <p:nvPr/>
        </p:nvSpPr>
        <p:spPr>
          <a:xfrm>
            <a:off x="4425840" y="5013360"/>
            <a:ext cx="2159280" cy="1079640"/>
          </a:xfrm>
          <a:prstGeom prst="rightArrowCallout">
            <a:avLst>
              <a:gd name="adj1" fmla="val 25002"/>
              <a:gd name="adj2" fmla="val 25000"/>
              <a:gd name="adj3" fmla="val 33333"/>
              <a:gd name="adj4" fmla="val 6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gni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tructivism</a:t>
            </a:r>
            <a:endParaRPr b="0" lang="en-US" sz="1400" spc="-1" strike="noStrike">
              <a:solidFill>
                <a:srgbClr val="000000"/>
              </a:solidFill>
              <a:latin typeface="Arial"/>
            </a:endParaRPr>
          </a:p>
        </p:txBody>
      </p:sp>
      <p:sp>
        <p:nvSpPr>
          <p:cNvPr id="169" name="AutoShape 4"/>
          <p:cNvSpPr/>
          <p:nvPr/>
        </p:nvSpPr>
        <p:spPr>
          <a:xfrm>
            <a:off x="2411280" y="5013360"/>
            <a:ext cx="2159280" cy="1079640"/>
          </a:xfrm>
          <a:prstGeom prst="rightArrowCallout">
            <a:avLst>
              <a:gd name="adj1" fmla="val 25002"/>
              <a:gd name="adj2" fmla="val 25000"/>
              <a:gd name="adj3" fmla="val 33333"/>
              <a:gd name="adj4" fmla="val 6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gnitivism</a:t>
            </a:r>
            <a:endParaRPr b="0" lang="en-US" sz="1400" spc="-1" strike="noStrike">
              <a:solidFill>
                <a:srgbClr val="000000"/>
              </a:solidFill>
              <a:latin typeface="Arial"/>
            </a:endParaRPr>
          </a:p>
        </p:txBody>
      </p:sp>
      <p:sp>
        <p:nvSpPr>
          <p:cNvPr id="170" name="AutoShape 7"/>
          <p:cNvSpPr/>
          <p:nvPr/>
        </p:nvSpPr>
        <p:spPr>
          <a:xfrm>
            <a:off x="468360" y="5013360"/>
            <a:ext cx="2158920" cy="1079640"/>
          </a:xfrm>
          <a:prstGeom prst="rightArrowCallout">
            <a:avLst>
              <a:gd name="adj1" fmla="val 25002"/>
              <a:gd name="adj2" fmla="val 25000"/>
              <a:gd name="adj3" fmla="val 33328"/>
              <a:gd name="adj4" fmla="val 6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to-Cognitivis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formation Processing Theory</a:t>
            </a:r>
            <a:endParaRPr b="1" lang="en-US" sz="3900" spc="-1" strike="noStrike">
              <a:solidFill>
                <a:srgbClr val="330066"/>
              </a:solidFill>
              <a:latin typeface="Arial"/>
            </a:endParaRPr>
          </a:p>
        </p:txBody>
      </p:sp>
      <p:sp>
        <p:nvSpPr>
          <p:cNvPr id="380"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following is an example of a simple TOTE: When driving a car and looking for the appropriate turn off.</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st</a:t>
            </a:r>
            <a:r>
              <a:rPr b="0" lang="en-GB" sz="1800" spc="-1" strike="noStrike">
                <a:solidFill>
                  <a:srgbClr val="000000"/>
                </a:solidFill>
                <a:latin typeface="Arial"/>
              </a:rPr>
              <a:t> - is this the turnoff? - </a:t>
            </a:r>
            <a:r>
              <a:rPr b="1" lang="en-GB" sz="1800" spc="-1" strike="noStrike">
                <a:solidFill>
                  <a:srgbClr val="000000"/>
                </a:solidFill>
                <a:latin typeface="Arial"/>
              </a:rPr>
              <a:t>No</a:t>
            </a:r>
            <a:r>
              <a:rPr b="0" lang="en-GB" sz="1800" spc="-1" strike="noStrike">
                <a:solidFill>
                  <a:srgbClr val="000000"/>
                </a:solidFill>
                <a:latin typeface="Arial"/>
              </a:rPr>
              <a:t>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e</a:t>
            </a:r>
            <a:r>
              <a:rPr b="0" lang="en-GB" sz="1800" spc="-1" strike="noStrike">
                <a:solidFill>
                  <a:srgbClr val="000000"/>
                </a:solidFill>
                <a:latin typeface="Arial"/>
              </a:rPr>
              <a:t> - keep driving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st</a:t>
            </a:r>
            <a:r>
              <a:rPr b="0" lang="en-GB" sz="1800" spc="-1" strike="noStrike">
                <a:solidFill>
                  <a:srgbClr val="000000"/>
                </a:solidFill>
                <a:latin typeface="Arial"/>
              </a:rPr>
              <a:t> - is this the turnoff? - </a:t>
            </a:r>
            <a:r>
              <a:rPr b="1" lang="en-GB" sz="1800" spc="-1" strike="noStrike">
                <a:solidFill>
                  <a:srgbClr val="000000"/>
                </a:solidFill>
                <a:latin typeface="Arial"/>
              </a:rPr>
              <a:t>No</a:t>
            </a:r>
            <a:r>
              <a:rPr b="0" lang="en-GB" sz="1800" spc="-1" strike="noStrike">
                <a:solidFill>
                  <a:srgbClr val="000000"/>
                </a:solidFill>
                <a:latin typeface="Arial"/>
              </a:rPr>
              <a:t>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e</a:t>
            </a:r>
            <a:r>
              <a:rPr b="0" lang="en-GB" sz="1800" spc="-1" strike="noStrike">
                <a:solidFill>
                  <a:srgbClr val="000000"/>
                </a:solidFill>
                <a:latin typeface="Arial"/>
              </a:rPr>
              <a:t> - keep driving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st</a:t>
            </a:r>
            <a:r>
              <a:rPr b="0" lang="en-GB" sz="1800" spc="-1" strike="noStrike">
                <a:solidFill>
                  <a:srgbClr val="000000"/>
                </a:solidFill>
                <a:latin typeface="Arial"/>
              </a:rPr>
              <a:t> - is this the turnoff? - </a:t>
            </a:r>
            <a:r>
              <a:rPr b="1" lang="en-GB" sz="1800" spc="-1" strike="noStrike">
                <a:solidFill>
                  <a:srgbClr val="000000"/>
                </a:solidFill>
                <a:latin typeface="Arial"/>
              </a:rPr>
              <a:t>Yes</a:t>
            </a:r>
            <a:r>
              <a:rPr b="0" lang="en-GB" sz="1800" spc="-1" strike="noStrike">
                <a:solidFill>
                  <a:srgbClr val="000000"/>
                </a:solidFill>
                <a:latin typeface="Arial"/>
              </a:rPr>
              <a:t> </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it</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81" name="Rectangle 4"/>
          <p:cNvSpPr/>
          <p:nvPr/>
        </p:nvSpPr>
        <p:spPr>
          <a:xfrm>
            <a:off x="6156360" y="2708280"/>
            <a:ext cx="1440000" cy="93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5"/>
          <p:cNvSpPr/>
          <p:nvPr/>
        </p:nvSpPr>
        <p:spPr>
          <a:xfrm>
            <a:off x="6156360" y="4437000"/>
            <a:ext cx="1440000" cy="93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6"/>
          <p:cNvSpPr/>
          <p:nvPr/>
        </p:nvSpPr>
        <p:spPr>
          <a:xfrm>
            <a:off x="5364000" y="2997360"/>
            <a:ext cx="792360" cy="360360"/>
          </a:xfrm>
          <a:prstGeom prst="rightArrow">
            <a:avLst>
              <a:gd name="adj1" fmla="val 50000"/>
              <a:gd name="adj2" fmla="val 5497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7"/>
          <p:cNvSpPr/>
          <p:nvPr/>
        </p:nvSpPr>
        <p:spPr>
          <a:xfrm>
            <a:off x="7596360" y="299736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8"/>
          <p:cNvSpPr/>
          <p:nvPr/>
        </p:nvSpPr>
        <p:spPr>
          <a:xfrm rot="5400000">
            <a:off x="6156000" y="386064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9"/>
          <p:cNvSpPr/>
          <p:nvPr/>
        </p:nvSpPr>
        <p:spPr>
          <a:xfrm rot="16200000">
            <a:off x="6804000" y="3860640"/>
            <a:ext cx="792000" cy="360360"/>
          </a:xfrm>
          <a:prstGeom prst="rightArrow">
            <a:avLst>
              <a:gd name="adj1" fmla="val 50000"/>
              <a:gd name="adj2" fmla="val 54945"/>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10"/>
          <p:cNvSpPr/>
          <p:nvPr/>
        </p:nvSpPr>
        <p:spPr>
          <a:xfrm>
            <a:off x="6537240" y="2990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a:t>
            </a:r>
            <a:endParaRPr b="0" lang="en-US" sz="1800" spc="-1" strike="noStrike">
              <a:solidFill>
                <a:srgbClr val="000000"/>
              </a:solidFill>
              <a:latin typeface="Arial"/>
            </a:endParaRPr>
          </a:p>
        </p:txBody>
      </p:sp>
      <p:sp>
        <p:nvSpPr>
          <p:cNvPr id="388" name="Text Box 11"/>
          <p:cNvSpPr/>
          <p:nvPr/>
        </p:nvSpPr>
        <p:spPr>
          <a:xfrm>
            <a:off x="6374520" y="4718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e</a:t>
            </a:r>
            <a:endParaRPr b="0" lang="en-US" sz="1800" spc="-1" strike="noStrike">
              <a:solidFill>
                <a:srgbClr val="000000"/>
              </a:solidFill>
              <a:latin typeface="Arial"/>
            </a:endParaRPr>
          </a:p>
        </p:txBody>
      </p:sp>
      <p:sp>
        <p:nvSpPr>
          <p:cNvPr id="389" name="Text Box 12"/>
          <p:cNvSpPr/>
          <p:nvPr/>
        </p:nvSpPr>
        <p:spPr>
          <a:xfrm>
            <a:off x="8409240" y="299736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it</a:t>
            </a:r>
            <a:endParaRPr b="0" lang="en-US" sz="1800" spc="-1" strike="noStrike">
              <a:solidFill>
                <a:srgbClr val="000000"/>
              </a:solidFill>
              <a:latin typeface="Arial"/>
            </a:endParaRPr>
          </a:p>
        </p:txBody>
      </p:sp>
      <p:sp>
        <p:nvSpPr>
          <p:cNvPr id="390" name="Oval 13"/>
          <p:cNvSpPr/>
          <p:nvPr/>
        </p:nvSpPr>
        <p:spPr>
          <a:xfrm>
            <a:off x="4284720" y="2997360"/>
            <a:ext cx="1008000" cy="431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14"/>
          <p:cNvSpPr/>
          <p:nvPr/>
        </p:nvSpPr>
        <p:spPr>
          <a:xfrm>
            <a:off x="4260240" y="299736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6.11111E-006 1.11111E-006 C 0.01406 -0.00208 0.02794 -0.00046 0.04183 0.00209 C 0.04426 0.00324 0.04687 0.00417 0.0493 0.00533 C 0.0611 0.00417 0.07187 0.00186 0.08367 0.00093 C 0.09392 -0.00185 0.08072 0.00232 0.0894 -0.00231 C 0.09669 -0.00625 0.1052 -0.00393 0.11319 -0.00439 C 0.11735 -0.00555 0.12135 -0.00694 0.12551 -0.00764 C 0.13923 -0.01412 0.1526 -0.00926 0.16805 -0.00879 C 0.16909 -0.00347 0.17048 0.00116 0.17135 0.00648 C 0.17169 0.03773 0.17135 0.06922 0.17222 0.10047 C 0.17239 0.10417 0.17551 0.11158 0.17621 0.11574 C 0.17673 0.11875 0.17742 0.12153 0.17794 0.12454 C 0.17812 0.1257 0.17864 0.12778 0.17864 0.12778 C 0.17933 0.18588 0.17742 0.17963 0.18454 0.21528 C 0.18472 0.22037 0.18385 0.24653 0.19027 0.25348 C 0.19496 0.25857 0.20225 0.2551 0.20815 0.25556 C 0.21926 0.26042 0.2361 0.25718 0.246 0.25672 C 0.24496 0.23727 0.24253 0.21644 0.24756 0.19769 C 0.24652 0.13727 0.24392 0.07755 0.24027 0.01736 C 0.23975 0.00834 0.23871 -0.01852 0.23124 -0.02199 C 0.22829 -0.0206 0.22534 -0.01967 0.22222 -0.01875 C 0.21805 -0.01481 0.21319 -0.01273 0.20902 -0.00879 C 0.20711 -0.00486 0.1986 0.00486 0.19513 0.00648 C 0.1901 0.00301 0.1868 -0.00277 0.18124 -0.00439 C 0.1776 -0.00416 0.17395 -0.00439 0.17048 -0.00347 C 0.16944 -0.00324 0.16909 -0.00115 0.16805 -0.00115 C 0.16683 -0.00115 0.16579 -0.00277 0.16475 -0.00347 C 0.16562 0.00324 0.16701 0.00903 0.16892 0.01528 C 0.16944 0.02292 0.17031 0.02963 0.17135 0.03704 C 0.17204 0.10949 0.1651 0.1088 0.17551 0.14746 C 0.17638 0.18079 0.17708 0.20186 0.17794 0.23936 C 0.17812 0.24861 0.18263 0.25834 0.18367 0.2676 C 0.20017 0.26204 0.21631 0.24398 0.23124 0.23264 C 0.23315 0.23125 0.23472 0.22871 0.23697 0.22824 C 0.24426 0.22709 0.24079 0.22778 0.24756 0.22616 C 0.25225 0.22686 0.25659 0.22616 0.25989 0.23056 C 0.25798 0.2213 0.25572 0.21389 0.25242 0.20533 C 0.25225 0.20324 0.25208 0.20093 0.25173 0.19885 C 0.25121 0.19514 0.24999 0.18797 0.24999 0.18797 C 0.24617 0.12616 0.24826 0.07778 0.24756 0.00648 C 0.24739 -0.01227 0.24669 -0.01828 0.23524 -0.02639 C 0.22864 -0.02592 0.22204 -0.02685 0.21562 -0.02523 C 0.20833 -0.02314 0.19166 -0.01157 0.18454 -0.00555 C 0.18228 -0.0037 0.18142 -0.00023 0.17951 0.00209 C 0.17916 0.00324 0.17951 0.00533 0.17864 0.00533 C 0.1776 0.00533 0.17777 0.00301 0.17708 0.00209 C 0.17673 0.00162 0.17274 0.00023 0.17222 1.11111E-006 C 0.16996 0.0007 0.16735 0.00023 0.16562 0.00209 C 0.16492 0.00278 0.16683 0.00417 0.16718 0.00533 C 0.16961 0.0125 0.1684 0.01158 0.17048 0.01968 C 0.17638 0.04283 0.1802 0.06574 0.18454 0.08959 C 0.18628 0.11898 0.18576 0.14306 0.18524 0.17477 C 0.1861 0.25741 0.16805 0.2632 0.20989 0.25556 C 0.22447 0.24908 0.23784 0.24769 0.25329 0.24699 C 0.25242 0.20348 0.25173 0.16158 0.25086 0.11783 C 0.25069 0.10926 0.24774 0.07662 0.2434 0.07084 C 0.24079 0.03936 0.24201 0.05857 0.24097 0.01297 C 0.2427 -0.01435 0.24722 1.11111000000003E-006 0.27864 -0.00115 C 0.28419 -0.00231 0.29027 -0.00578 0.29513 -0.00115 C 0.30416 -0.00439 0.31215 -0.00926 0.32135 -0.01111 C 0.34062 -0.00949 0.33489 -0.0074 0.35659 -0.00995 C 0.36631 -0.01435 0.37517 -0.01597 0.38524 -0.01759 C 0.40433 -0.01643 0.40017 -0.01713 0.41232 -0.01111 C 0.41649 -0.00486 0.42291 -0.00879 0.42864 -0.00879 E">
                                      <p:cBhvr>
                                        <p:cTn id="14" dur="5000" fill="hold"/>
                                        <p:tgtEl>
                                          <p:spTgt spid="3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9"/>
          <p:cNvSpPr/>
          <p:nvPr/>
        </p:nvSpPr>
        <p:spPr>
          <a:xfrm>
            <a:off x="0" y="-2700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Picture 7" descr="Miller2"/>
          <p:cNvPicPr/>
          <p:nvPr/>
        </p:nvPicPr>
        <p:blipFill>
          <a:blip r:embed="rId1"/>
          <a:stretch/>
        </p:blipFill>
        <p:spPr>
          <a:xfrm>
            <a:off x="6227640" y="2563920"/>
            <a:ext cx="2506680" cy="3744720"/>
          </a:xfrm>
          <a:prstGeom prst="rect">
            <a:avLst/>
          </a:prstGeom>
          <a:ln w="0">
            <a:noFill/>
          </a:ln>
        </p:spPr>
      </p:pic>
      <p:sp>
        <p:nvSpPr>
          <p:cNvPr id="394" name="Rounded Rectangular Callout 10"/>
          <p:cNvSpPr/>
          <p:nvPr/>
        </p:nvSpPr>
        <p:spPr>
          <a:xfrm rot="5400000">
            <a:off x="1042560" y="1017360"/>
            <a:ext cx="3349800" cy="5003640"/>
          </a:xfrm>
          <a:prstGeom prst="wedgeRoundRectCallout">
            <a:avLst>
              <a:gd name="adj1" fmla="val 28722"/>
              <a:gd name="adj2" fmla="val -78712"/>
              <a:gd name="adj3" fmla="val 16667"/>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p:nvPr>
        </p:nvSpPr>
        <p:spPr>
          <a:xfrm>
            <a:off x="108000" y="2277720"/>
            <a:ext cx="5194080" cy="1366920"/>
          </a:xfrm>
          <a:prstGeom prst="rect">
            <a:avLst/>
          </a:prstGeom>
          <a:noFill/>
          <a:ln w="0">
            <a:noFill/>
          </a:ln>
        </p:spPr>
        <p:txBody>
          <a:bodyPr anchor="t">
            <a:normAutofit fontScale="58000"/>
          </a:bodyPr>
          <a:p>
            <a:pPr marL="198720" indent="0" algn="ctr">
              <a:lnSpc>
                <a:spcPct val="10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400" spc="-1" strike="noStrike">
                <a:solidFill>
                  <a:srgbClr val="190033"/>
                </a:solidFill>
                <a:latin typeface="Times New Roman"/>
                <a:ea typeface="Times New Roman"/>
              </a:rPr>
              <a:t>7 ± 2</a:t>
            </a:r>
            <a:endParaRPr b="0" lang="en-US" sz="14400" spc="-1" strike="noStrike">
              <a:solidFill>
                <a:srgbClr val="000000"/>
              </a:solidFill>
              <a:latin typeface="Arial"/>
            </a:endParaRPr>
          </a:p>
        </p:txBody>
      </p:sp>
      <p:sp>
        <p:nvSpPr>
          <p:cNvPr id="396"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iller’s Magic Number</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iller’s Magic Number</a:t>
            </a:r>
            <a:endParaRPr b="1" lang="en-US" sz="3900" spc="-1" strike="noStrike">
              <a:solidFill>
                <a:srgbClr val="330066"/>
              </a:solidFill>
              <a:latin typeface="Arial"/>
            </a:endParaRPr>
          </a:p>
        </p:txBody>
      </p:sp>
      <p:sp>
        <p:nvSpPr>
          <p:cNvPr id="3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t>
            </a:r>
            <a:r>
              <a:rPr b="1" lang="en-IE" sz="2600" spc="-1" strike="noStrike">
                <a:solidFill>
                  <a:srgbClr val="000000"/>
                </a:solidFill>
                <a:latin typeface="Arial"/>
              </a:rPr>
              <a:t>The Magical Number Seven, Plus or Minus Two: Some Limits on Our Capacity for Processing Information</a:t>
            </a:r>
            <a:r>
              <a:rPr b="0" lang="en-IE" sz="2600" spc="-1" strike="noStrike">
                <a:solidFill>
                  <a:srgbClr val="000000"/>
                </a:solidFill>
                <a:latin typeface="Arial"/>
              </a:rPr>
              <a:t>" (Miller 1956) is one of the most highly cited papers in psychology</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e looked at Memory span - which is a long list of items (e.g., digits, letters, words) that a person can repeat back immediately after presentation in correct order.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iller observed that memory span of young adults is approximately 7 </a:t>
            </a:r>
            <a:r>
              <a:rPr b="1" i="1" lang="en-GB" sz="2600" spc="-1" strike="noStrike">
                <a:solidFill>
                  <a:srgbClr val="000000"/>
                </a:solidFill>
                <a:latin typeface="Arial"/>
              </a:rPr>
              <a:t>chunks</a:t>
            </a:r>
            <a:r>
              <a:rPr b="0" lang="en-GB" sz="2600" spc="-1" strike="noStrike">
                <a:solidFill>
                  <a:srgbClr val="000000"/>
                </a:solidFill>
                <a:latin typeface="Arial"/>
              </a:rPr>
              <a:t>. He noticed that memory span is approximately the same for stimuli with vastly different amount of informa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4"/>
          <p:cNvSpPr/>
          <p:nvPr/>
        </p:nvSpPr>
        <p:spPr>
          <a:xfrm>
            <a:off x="0" y="0"/>
            <a:ext cx="9144000" cy="6858000"/>
          </a:xfrm>
          <a:prstGeom prst="rect">
            <a:avLst/>
          </a:prstGeom>
          <a:solidFill>
            <a:srgbClr val="d9d9d9"/>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harles M. Reigeluth </a:t>
            </a:r>
            <a:endParaRPr b="1" lang="en-US" sz="3900" spc="-1" strike="noStrike">
              <a:solidFill>
                <a:srgbClr val="330066"/>
              </a:solidFill>
              <a:latin typeface="Arial"/>
            </a:endParaRPr>
          </a:p>
        </p:txBody>
      </p:sp>
      <p:sp>
        <p:nvSpPr>
          <p:cNvPr id="401"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aboration Theory </a:t>
            </a:r>
            <a:endParaRPr b="0" lang="en-US" sz="20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ruction is made out of layers and that each layer of instruction </a:t>
            </a:r>
            <a:r>
              <a:rPr b="0" i="1" lang="en-GB" sz="1800" spc="-1" strike="noStrike">
                <a:solidFill>
                  <a:srgbClr val="000000"/>
                </a:solidFill>
                <a:latin typeface="Arial"/>
              </a:rPr>
              <a:t>elaborates</a:t>
            </a:r>
            <a:r>
              <a:rPr b="0" lang="en-GB" sz="1800" spc="-1" strike="noStrike">
                <a:solidFill>
                  <a:srgbClr val="000000"/>
                </a:solidFill>
                <a:latin typeface="Arial"/>
              </a:rPr>
              <a:t> on the previously presented ideas. By elaborating on the previous ideal, it reiterates, thereby improving retention </a:t>
            </a:r>
            <a:endParaRPr b="0" lang="en-US" sz="18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sent overview of simplest and most fundamental ideas </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dd complexity to one aspect </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view the overview and show relationships to the details </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vide additional elaboration of details </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vide additional summary and synthesis </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402" name="Picture 7" descr="C"/>
          <p:cNvPicPr/>
          <p:nvPr/>
        </p:nvPicPr>
        <p:blipFill>
          <a:blip r:embed="rId1"/>
          <a:stretch/>
        </p:blipFill>
        <p:spPr>
          <a:xfrm>
            <a:off x="5010120" y="1744560"/>
            <a:ext cx="3233880" cy="4060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Reigeluth’s Elaboration Theory</a:t>
            </a:r>
            <a:endParaRPr b="1" lang="en-US" sz="3900" spc="-1" strike="noStrike">
              <a:solidFill>
                <a:srgbClr val="330066"/>
              </a:solidFill>
              <a:latin typeface="Arial"/>
            </a:endParaRPr>
          </a:p>
        </p:txBody>
      </p:sp>
      <p:pic>
        <p:nvPicPr>
          <p:cNvPr id="404" name="Picture 4" descr="C"/>
          <p:cNvPicPr/>
          <p:nvPr/>
        </p:nvPicPr>
        <p:blipFill>
          <a:blip r:embed="rId1"/>
          <a:stretch/>
        </p:blipFill>
        <p:spPr>
          <a:xfrm>
            <a:off x="7885080" y="44280"/>
            <a:ext cx="1203480" cy="1513080"/>
          </a:xfrm>
          <a:prstGeom prst="rect">
            <a:avLst/>
          </a:prstGeom>
          <a:ln w="0">
            <a:noFill/>
          </a:ln>
        </p:spPr>
      </p:pic>
      <p:pic>
        <p:nvPicPr>
          <p:cNvPr id="405" name="Picture 6" descr="diagram"/>
          <p:cNvPicPr/>
          <p:nvPr/>
        </p:nvPicPr>
        <p:blipFill>
          <a:blip r:embed="rId2"/>
          <a:stretch/>
        </p:blipFill>
        <p:spPr>
          <a:xfrm>
            <a:off x="2243160" y="1628640"/>
            <a:ext cx="4657680" cy="4924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harles M. Reigeluth </a:t>
            </a:r>
            <a:endParaRPr b="1" lang="en-US" sz="3900" spc="-1" strike="noStrike">
              <a:solidFill>
                <a:srgbClr val="330066"/>
              </a:solidFill>
              <a:latin typeface="Arial"/>
            </a:endParaRPr>
          </a:p>
        </p:txBody>
      </p:sp>
      <p:sp>
        <p:nvSpPr>
          <p:cNvPr id="407" name="PlaceHolder 2"/>
          <p:cNvSpPr>
            <a:spLocks noGrp="1"/>
          </p:cNvSpPr>
          <p:nvPr>
            <p:ph/>
          </p:nvPr>
        </p:nvSpPr>
        <p:spPr>
          <a:xfrm>
            <a:off x="468360" y="1719360"/>
            <a:ext cx="8229600" cy="4805280"/>
          </a:xfrm>
          <a:prstGeom prst="rect">
            <a:avLst/>
          </a:prstGeom>
          <a:noFill/>
          <a:ln w="0">
            <a:noFill/>
          </a:ln>
        </p:spPr>
        <p:txBody>
          <a:bodyPr anchor="t">
            <a:normAutofit/>
          </a:bodyPr>
          <a:p>
            <a:pPr marL="495360" indent="-49536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Eight Steps in Elaboration Theory </a:t>
            </a:r>
            <a:endParaRPr b="0" lang="en-US" sz="19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Organizing Course Structure</a:t>
            </a:r>
            <a:r>
              <a:rPr b="1" lang="en-GB" sz="1700" spc="-1" strike="noStrike">
                <a:solidFill>
                  <a:srgbClr val="000000"/>
                </a:solidFill>
                <a:latin typeface="Arial"/>
              </a:rPr>
              <a:t>:</a:t>
            </a:r>
            <a:r>
              <a:rPr b="0" lang="en-GB" sz="1700" spc="-1" strike="noStrike">
                <a:solidFill>
                  <a:srgbClr val="000000"/>
                </a:solidFill>
                <a:latin typeface="Arial"/>
              </a:rPr>
              <a:t> Single organisation for complete course</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Simple to complex:</a:t>
            </a:r>
            <a:r>
              <a:rPr b="0" i="1" lang="en-GB" sz="1700" spc="-1" strike="noStrike">
                <a:solidFill>
                  <a:srgbClr val="000000"/>
                </a:solidFill>
                <a:latin typeface="Arial"/>
              </a:rPr>
              <a:t> </a:t>
            </a:r>
            <a:r>
              <a:rPr b="0" lang="en-GB" sz="1700" spc="-1" strike="noStrike">
                <a:solidFill>
                  <a:srgbClr val="000000"/>
                </a:solidFill>
                <a:latin typeface="Arial"/>
              </a:rPr>
              <a:t>start with simplest ideas, in the first lesson, and then add elaborations in subsequent lessons.</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Within-lesson sequence</a:t>
            </a:r>
            <a:r>
              <a:rPr b="1" lang="en-GB" sz="1700" spc="-1" strike="noStrike">
                <a:solidFill>
                  <a:srgbClr val="000000"/>
                </a:solidFill>
                <a:latin typeface="Arial"/>
              </a:rPr>
              <a:t>:</a:t>
            </a:r>
            <a:r>
              <a:rPr b="0" lang="en-GB" sz="1700" spc="-1" strike="noStrike">
                <a:solidFill>
                  <a:srgbClr val="000000"/>
                </a:solidFill>
                <a:latin typeface="Arial"/>
              </a:rPr>
              <a:t> general to detailed, simple to complex, abstract to concrete.</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Summarizers:</a:t>
            </a:r>
            <a:r>
              <a:rPr b="0" lang="en-GB" sz="1700" spc="-1" strike="noStrike">
                <a:solidFill>
                  <a:srgbClr val="000000"/>
                </a:solidFill>
                <a:latin typeface="Arial"/>
              </a:rPr>
              <a:t> content reviews presented in rule-example-practice format </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ynthesizers:</a:t>
            </a:r>
            <a:r>
              <a:rPr b="0" lang="en-GB" sz="1700" spc="-1" strike="noStrike">
                <a:solidFill>
                  <a:srgbClr val="000000"/>
                </a:solidFill>
                <a:latin typeface="Arial"/>
              </a:rPr>
              <a:t> Presentation devices that help the learner integrate content elements into a meaningful whole and assimilate them into prior knowledge, e.g. a concept hierarchy, a procedural flowchart or decision table, or a cause-effect model .</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Analogies:</a:t>
            </a:r>
            <a:r>
              <a:rPr b="0" lang="en-GB" sz="1700" spc="-1" strike="noStrike">
                <a:solidFill>
                  <a:srgbClr val="000000"/>
                </a:solidFill>
                <a:latin typeface="Arial"/>
              </a:rPr>
              <a:t> relate the content to learners' prior knowledge, use multiple analogies, especially with a highly divergent group of learners. </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Cognitive strategies</a:t>
            </a:r>
            <a:r>
              <a:rPr b="1" lang="en-GB" sz="1700" spc="-1" strike="noStrike">
                <a:solidFill>
                  <a:srgbClr val="000000"/>
                </a:solidFill>
                <a:latin typeface="Arial"/>
              </a:rPr>
              <a:t>:</a:t>
            </a:r>
            <a:r>
              <a:rPr b="0" lang="en-GB" sz="1700" spc="-1" strike="noStrike">
                <a:solidFill>
                  <a:srgbClr val="000000"/>
                </a:solidFill>
                <a:latin typeface="Arial"/>
              </a:rPr>
              <a:t> variety of cues - pictures, diagrams, mnemonics, etc. - can trigger cognitive strategies needed for processing of material.</a:t>
            </a:r>
            <a:endParaRPr b="0" lang="en-US" sz="1700" spc="-1" strike="noStrike">
              <a:solidFill>
                <a:srgbClr val="000000"/>
              </a:solidFill>
              <a:latin typeface="Arial"/>
            </a:endParaRPr>
          </a:p>
          <a:p>
            <a:pPr lvl="1" marL="763560" indent="-419040">
              <a:lnSpc>
                <a:spcPct val="80000"/>
              </a:lnSpc>
              <a:spcBef>
                <a:spcPts val="425"/>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00000"/>
                </a:solidFill>
                <a:latin typeface="Arial"/>
              </a:rPr>
              <a:t>Learner control</a:t>
            </a:r>
            <a:r>
              <a:rPr b="1" lang="en-GB" sz="1700" spc="-1" strike="noStrike">
                <a:solidFill>
                  <a:srgbClr val="000000"/>
                </a:solidFill>
                <a:latin typeface="Arial"/>
              </a:rPr>
              <a:t>:</a:t>
            </a:r>
            <a:r>
              <a:rPr b="0" lang="en-GB" sz="1700" spc="-1" strike="noStrike">
                <a:solidFill>
                  <a:srgbClr val="000000"/>
                </a:solidFill>
                <a:latin typeface="Arial"/>
              </a:rPr>
              <a:t> Learners are encouraged to exercise control over both content and instructional strategy. Clear labelling and separation of strategy components facilitates effective learner control of those component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nstructivism</a:t>
            </a:r>
            <a:endParaRPr b="1" lang="en-US" sz="3900" spc="-1" strike="noStrike">
              <a:solidFill>
                <a:srgbClr val="330066"/>
              </a:solidFill>
              <a:latin typeface="Arial"/>
            </a:endParaRPr>
          </a:p>
        </p:txBody>
      </p:sp>
      <p:pic>
        <p:nvPicPr>
          <p:cNvPr id="409" name="Picture 3" descr="fig1"/>
          <p:cNvPicPr/>
          <p:nvPr/>
        </p:nvPicPr>
        <p:blipFill>
          <a:blip r:embed="rId1"/>
          <a:stretch/>
        </p:blipFill>
        <p:spPr>
          <a:xfrm>
            <a:off x="322200" y="1284120"/>
            <a:ext cx="8497800" cy="5177160"/>
          </a:xfrm>
          <a:prstGeom prst="rect">
            <a:avLst/>
          </a:prstGeom>
          <a:ln w="0">
            <a:noFill/>
          </a:ln>
        </p:spPr>
      </p:pic>
      <p:sp>
        <p:nvSpPr>
          <p:cNvPr id="410" name="Rectangle 4"/>
          <p:cNvSpPr/>
          <p:nvPr/>
        </p:nvSpPr>
        <p:spPr>
          <a:xfrm>
            <a:off x="4788000" y="2349360"/>
            <a:ext cx="2160360" cy="151128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Proto-Cognitivism:</a:t>
            </a:r>
            <a:br>
              <a:rPr sz="4800"/>
            </a:br>
            <a:r>
              <a:rPr b="1" lang="en-GB" sz="4800" spc="-1" strike="noStrike">
                <a:solidFill>
                  <a:srgbClr val="330066"/>
                </a:solidFill>
                <a:latin typeface="Arial"/>
              </a:rPr>
              <a:t>Gestalt Psychology</a:t>
            </a:r>
            <a:endParaRPr b="1" lang="en-US" sz="4800" spc="-1" strike="noStrike">
              <a:solidFill>
                <a:srgbClr val="330066"/>
              </a:solidFill>
              <a:latin typeface="Arial"/>
            </a:endParaRPr>
          </a:p>
        </p:txBody>
      </p:sp>
      <p:pic>
        <p:nvPicPr>
          <p:cNvPr id="172" name="Picture 7" descr="RubinGestalt"/>
          <p:cNvPicPr/>
          <p:nvPr/>
        </p:nvPicPr>
        <p:blipFill>
          <a:blip r:embed="rId1"/>
          <a:stretch/>
        </p:blipFill>
        <p:spPr>
          <a:xfrm>
            <a:off x="4137120" y="2862360"/>
            <a:ext cx="3085920" cy="344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Gestalt Psychology</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Gestalt</a:t>
            </a:r>
            <a:r>
              <a:rPr b="0" lang="en-GB" sz="3000" spc="-1" strike="noStrike">
                <a:solidFill>
                  <a:srgbClr val="000000"/>
                </a:solidFill>
                <a:latin typeface="Arial"/>
              </a:rPr>
              <a:t> - "essence or shape of an entity's complete form"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r>
            <a:r>
              <a:rPr b="0" i="1" lang="en-GB" sz="3000" spc="-1" strike="noStrike">
                <a:solidFill>
                  <a:srgbClr val="000000"/>
                </a:solidFill>
                <a:latin typeface="Arial"/>
              </a:rPr>
              <a:t>The whole is greater than the sum of the parts</a:t>
            </a:r>
            <a:r>
              <a:rPr b="0" lang="en-GB" sz="3000" spc="-1" strike="noStrike">
                <a:solidFill>
                  <a:srgbClr val="000000"/>
                </a:solidFill>
                <a:latin typeface="Arial"/>
              </a:rPr>
              <a:t>" is often used when explaining Gestalt theory. </a:t>
            </a:r>
            <a:endParaRPr b="0" lang="en-US" sz="3000" spc="-1" strike="noStrike">
              <a:solidFill>
                <a:srgbClr val="000000"/>
              </a:solidFill>
              <a:latin typeface="Arial"/>
            </a:endParaRPr>
          </a:p>
        </p:txBody>
      </p:sp>
      <p:pic>
        <p:nvPicPr>
          <p:cNvPr id="175" name="Picture 4" descr="RubinGestalt"/>
          <p:cNvPicPr/>
          <p:nvPr/>
        </p:nvPicPr>
        <p:blipFill>
          <a:blip r:embed="rId1"/>
          <a:stretch/>
        </p:blipFill>
        <p:spPr>
          <a:xfrm>
            <a:off x="7542360" y="115920"/>
            <a:ext cx="1484280" cy="16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9:19:36Z</dcterms:created>
  <dc:creator>dgordon</dc:creator>
  <dc:description/>
  <dc:language>en-US</dc:language>
  <cp:lastModifiedBy>dgordon</cp:lastModifiedBy>
  <dcterms:modified xsi:type="dcterms:W3CDTF">2011-02-09T18:01:53Z</dcterms:modified>
  <cp:revision>48</cp:revision>
  <dc:subject/>
  <dc:title>Learning Theories</dc:title>
</cp:coreProperties>
</file>