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0651-70F8-462F-8661-80C8349E3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6EE8-1973-491C-97C9-67DFCE0B3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AC47-6E78-4AE9-8ECB-993EA8E19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0734-6F5E-493F-A800-CFAF30AF5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DCD7-B876-4EE7-B718-D88080C3F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A24A-EFEF-4168-8011-66EC32A46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8F29-D588-4A0F-989E-1B70FE5D6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97C2-1EDB-4B2F-A3A9-51F39CF46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F929-7D22-473D-B807-01D7770CB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5A83-8014-4DAD-9685-954FE4F67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E974-9F47-43E5-88BD-B0888F357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C04A-7708-489D-A680-4BB75FDA3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FCE4-FD4A-4DC1-ACC6-1FA4AFF35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5881-0907-47B9-A6CA-A7ADBCA29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585D-8B56-46E1-B393-D264C1D10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E59C-B2FD-4D2E-90A4-DAF685084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1CBF-8189-4A65-9D5A-435DDCE797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2825-84DA-4C5E-87F5-19339B085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5C47-D51D-47EB-A703-6670D0A9E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5D1F-7555-44CB-9076-00443AB7B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6025-A88D-4A96-817A-68B41140F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DD83-155D-465A-A03B-6328AB029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D213-7633-4AC3-88FC-95AAE3A65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C7BA-5443-47C3-A20F-59E7E22BF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C53B-DD5F-4BD9-802D-979CD4E1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514-BDD8-4BED-8316-DB6BB2C6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CB5D-061D-42FD-8BEC-8FD37C4E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7E1-574C-437D-B3C9-3A6EE47C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37E3-FFE8-4D1E-8271-B3882728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BC01-D3A4-41F1-981A-BC5EBFC8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FE68-C169-47EC-ACC8-EC9E0825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E2DB-87A8-45D3-9825-4AD819BC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2EDD-EFAE-46A4-9B89-ECED2500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CCB6-B87D-4C5C-B62F-13B76694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8798-DD3D-4FD2-B27D-97A8EB8F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7F2-4331-4CDF-BBDE-6C63FF4A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91B0-D622-4FAA-B410-3A152593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DAA7-BE8A-420C-87C6-10D47F63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8020-3F1C-4E22-941B-74BF57B9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A269-B1EF-4B1F-BF69-2E524837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93A7-92B3-4ED6-8741-81AF561A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E335-6C88-4D90-B76E-08C5517A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A38A1-7BBC-4306-BD99-B6001C13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A4956-6081-425F-879C-3034E9E2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2CE29-BD02-40D3-9689-5DAAC5A4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9A7B4-25AE-4D8A-9BD4-41A54B63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06B-2B5F-425D-AD43-8779E9D3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0F1E0-F859-4435-BE9B-3F946A27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49E3E-72C4-4357-AEF5-E8FD0539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DF072-29D1-49CD-B1A4-A5C9D538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8A426-3C40-4401-96DB-787803D5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334F0-137D-4D69-AE81-1092640B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3495C-2CB1-4FA5-9CEB-F88D86E5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4CC4-FD5E-4287-A317-584E702A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326-D31B-4530-908C-A76F88FA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275C-12E0-4A1E-9C47-095DA944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1FB-DCB0-41CF-9E2F-636949A4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0D1-FB67-415D-925C-257E956B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B2D-B1B8-4FDA-8A00-8C7AAC4C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34A-8EAE-4314-A768-7934E07B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8640-8893-4F00-AE21-D2E8B44130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1"/>
          <p:cNvSpPr/>
          <p:nvPr/>
        </p:nvSpPr>
        <p:spPr>
          <a:xfrm>
            <a:off x="762120" y="137160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11"/>
          <p:cNvSpPr/>
          <p:nvPr/>
        </p:nvSpPr>
        <p:spPr>
          <a:xfrm>
            <a:off x="762120" y="137160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3"/>
          <p:cNvSpPr/>
          <p:nvPr/>
        </p:nvSpPr>
        <p:spPr>
          <a:xfrm>
            <a:off x="762120" y="137160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AF1A-1007-4F2C-8865-CE4AB42204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1"/>
          <p:cNvSpPr/>
          <p:nvPr/>
        </p:nvSpPr>
        <p:spPr>
          <a:xfrm>
            <a:off x="762120" y="137160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4B86-8717-4EA6-8F75-1F62681E61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8244000" y="9360"/>
            <a:ext cx="936360" cy="6858000"/>
          </a:xfrm>
          <a:prstGeom prst="rect">
            <a:avLst/>
          </a:prstGeom>
          <a:solidFill>
            <a:srgbClr val="0d0d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0d0d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250920" y="1268280"/>
            <a:ext cx="2520720" cy="466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Wh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d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we</a:t>
            </a:r>
            <a:br>
              <a:rPr sz="6000"/>
            </a:b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teach</a:t>
            </a:r>
            <a:br>
              <a:rPr sz="6000"/>
            </a:b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?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Karsh,Yousef-Robert_Oppenheimer-9_February_1956-m"/>
          <p:cNvPicPr/>
          <p:nvPr/>
        </p:nvPicPr>
        <p:blipFill>
          <a:blip r:embed="rId1"/>
          <a:stretch/>
        </p:blipFill>
        <p:spPr>
          <a:xfrm>
            <a:off x="3059280" y="0"/>
            <a:ext cx="529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. Give the student group a sense of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? Group work is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. Because it’s cost-effective - larg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. Because it’s cost-effective - larg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? Instead of throwing out questions to students (as some may be intimidated) ask student to spend next 3 minutes writing down 3 most important ideas we’ve been talking about, and spend a minute comparing you’ve with your neighbour…look for 5 volunte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her than getting student to asks questions; at end of class collect on slips of paper and answer at start of next class or on-line on discussion bo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. To help map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. To help map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? Signpost the course. Show the students the syllabus, included learning outcomes. Number the topics instead of bullet pointin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. To see how the students are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. To see how the students are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? Look at their 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? Handout your slides, with first slide having questions about previous lecture - spend 5 minutes of lecture getting student to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. To change student belief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. To change student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? By sharing your experience + Expert views + Existing Theories + Other students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the student’s learning active, when students apply their ideas, it become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i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. To help students lear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042920" y="485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Why te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. To help students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? For a few minutes ask the students to reflect on HOW they are learning. Share with others their approaches, their triumphs and disast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? Stop class for a few minutes and discuss their note-making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? Ask student to write down 3 things they don’t yet know about a topic and want to learn…amalgamate lists and hand to lect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. To help students figure out what the lecturer is going to ask in the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. To help students figure out what the lecturer is going to ask in the exa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? Students need to be more strategic about assessment, it is an intelligent response to their situation. But you just need to help them figure out you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ul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assessment, not every little facet of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can lecturers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t a notebook per cour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clude attendance sheets, handouts, slid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fter each le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te down errors in slides and hando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rite down key points of le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icky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ood 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can lecturers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clude questions after each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did I do be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should I avo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surprised 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were the good student ques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couldn’t the students answ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743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Zone of Proximal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4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ygotsky’s term for the range of tasks that are too difficult for the child to master alone but that can be learned with guidance and assistance of adults or more-skilled childre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lower limit of ZPD is the level of skill reached by the child working independent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upper limit is the level of additional responsibility the child can accept with the assistance of an able instructo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caffolding is changing the level of support. Over the course of a teaching session, a more-skilled person adjusts the amount of guidance to fit the child’s current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zpdgraph"/>
          <p:cNvPicPr/>
          <p:nvPr/>
        </p:nvPicPr>
        <p:blipFill>
          <a:blip r:embed="rId1"/>
          <a:stretch/>
        </p:blipFill>
        <p:spPr>
          <a:xfrm>
            <a:off x="4500720" y="2141640"/>
            <a:ext cx="4464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structional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Maximise the effectiveness, efficiency and appeal of instruction and other learning experienc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The process consists of determining the current state and needs of the learner, defining the end goal of instruction, and creating some "intervention" to assist in the trans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The outcome of this instruction may be directly observable and scientifically measured or completely hidden and assum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C:\Documents and Settings\dgordon.COMP\Desktop\Qui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alibri"/>
              </a:rPr>
              <a:t>POP QUIZ</a:t>
            </a:r>
            <a:endParaRPr b="0" lang="en-US" sz="1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P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. On average do students prefer to work alone or in group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in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a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dun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5" descr="C:\Documents and Settings\dgordon.COMP\Desktop\Quiz.jpg"/>
          <p:cNvPicPr/>
          <p:nvPr/>
        </p:nvPicPr>
        <p:blipFill>
          <a:blip r:embed="rId1"/>
          <a:stretch/>
        </p:blipFill>
        <p:spPr>
          <a:xfrm>
            <a:off x="7885080" y="0"/>
            <a:ext cx="1258920" cy="1346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Documents and Settings\dgordon.COMP\Desktop\Quiz.jpg"/>
          <p:cNvPicPr/>
          <p:nvPr/>
        </p:nvPicPr>
        <p:blipFill>
          <a:blip r:embed="rId2"/>
          <a:stretch/>
        </p:blipFill>
        <p:spPr>
          <a:xfrm>
            <a:off x="0" y="0"/>
            <a:ext cx="12589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P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. On average do students prefer to work alone or in group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in group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alon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dunn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6" descr="C:\Documents and Settings\dgordon.COMP\Desktop\Quiz.jpg"/>
          <p:cNvPicPr/>
          <p:nvPr/>
        </p:nvPicPr>
        <p:blipFill>
          <a:blip r:embed="rId1"/>
          <a:stretch/>
        </p:blipFill>
        <p:spPr>
          <a:xfrm>
            <a:off x="0" y="0"/>
            <a:ext cx="1258920" cy="1346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Documents and Settings\dgordon.COMP\Desktop\Quiz.jpg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To Enthus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P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. Is it better for students to work collaboratively or competitive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collabora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competi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Equally good for their learn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6" descr="C:\Documents and Settings\dgordon.COMP\Desktop\Quiz.jpg"/>
          <p:cNvPicPr/>
          <p:nvPr/>
        </p:nvPicPr>
        <p:blipFill>
          <a:blip r:embed="rId1"/>
          <a:stretch/>
        </p:blipFill>
        <p:spPr>
          <a:xfrm>
            <a:off x="0" y="0"/>
            <a:ext cx="1258920" cy="1346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:\Documents and Settings\dgordon.COMP\Desktop\Quiz.jpg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P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. Is it better for students to work collaboratively or competitive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collaborativel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competitivel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Equally good for their learn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6" descr="C:\Documents and Settings\dgordon.COMP\Desktop\Quiz.jpg"/>
          <p:cNvPicPr/>
          <p:nvPr/>
        </p:nvPicPr>
        <p:blipFill>
          <a:blip r:embed="rId1"/>
          <a:stretch/>
        </p:blipFill>
        <p:spPr>
          <a:xfrm>
            <a:off x="0" y="0"/>
            <a:ext cx="1258920" cy="1346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Documents and Settings\dgordon.COMP\Desktop\Quiz.jpg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P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. Do students learn better if you offer a small rewa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Y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N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dunn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6" descr="C:\Documents and Settings\dgordon.COMP\Desktop\Quiz.jpg"/>
          <p:cNvPicPr/>
          <p:nvPr/>
        </p:nvPicPr>
        <p:blipFill>
          <a:blip r:embed="rId1"/>
          <a:stretch/>
        </p:blipFill>
        <p:spPr>
          <a:xfrm>
            <a:off x="0" y="0"/>
            <a:ext cx="1258920" cy="1346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Documents and Settings\dgordon.COMP\Desktop\Quiz.jpg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P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. Do students learn better if you offer a small rewa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Y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N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dunn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C:\Documents and Settings\dgordon.COMP\Desktop\Quiz.jpg"/>
          <p:cNvPicPr/>
          <p:nvPr/>
        </p:nvPicPr>
        <p:blipFill>
          <a:blip r:embed="rId1"/>
          <a:stretch/>
        </p:blipFill>
        <p:spPr>
          <a:xfrm>
            <a:off x="0" y="0"/>
            <a:ext cx="1258920" cy="1346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C:\Documents and Settings\dgordon.COMP\Desktop\Quiz.jpg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P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. Which is better, detailed feedback 3 weeks after an assignment in handed up, or a % result one week la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Feed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Perce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dun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6" descr="C:\Documents and Settings\dgordon.COMP\Desktop\Quiz.jpg"/>
          <p:cNvPicPr/>
          <p:nvPr/>
        </p:nvPicPr>
        <p:blipFill>
          <a:blip r:embed="rId1"/>
          <a:stretch/>
        </p:blipFill>
        <p:spPr>
          <a:xfrm>
            <a:off x="0" y="0"/>
            <a:ext cx="1258920" cy="1346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C:\Documents and Settings\dgordon.COMP\Desktop\Quiz.jpg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P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. Which is better, detailed feedback 3 weeks after an assignment in handed up, or a % result one week la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Feedback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Percentag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dunn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6" descr="C:\Documents and Settings\dgordon.COMP\Desktop\Quiz.jpg"/>
          <p:cNvPicPr/>
          <p:nvPr/>
        </p:nvPicPr>
        <p:blipFill>
          <a:blip r:embed="rId1"/>
          <a:stretch/>
        </p:blipFill>
        <p:spPr>
          <a:xfrm>
            <a:off x="0" y="0"/>
            <a:ext cx="1258920" cy="1346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Documents and Settings\dgordon.COMP\Desktop\Quiz.jpg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P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5. How soon after a lecture starts will a student’s attention tend to drif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10 m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20 m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40 m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6" descr="C:\Documents and Settings\dgordon.COMP\Desktop\Quiz.jpg"/>
          <p:cNvPicPr/>
          <p:nvPr/>
        </p:nvPicPr>
        <p:blipFill>
          <a:blip r:embed="rId1"/>
          <a:stretch/>
        </p:blipFill>
        <p:spPr>
          <a:xfrm>
            <a:off x="0" y="0"/>
            <a:ext cx="1258920" cy="1346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:\Documents and Settings\dgordon.COMP\Desktop\Quiz.jpg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P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5. How soon after a lecture starts will a student’s attention tend to drif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10 mi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20 mi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40 mi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6" descr="C:\Documents and Settings\dgordon.COMP\Desktop\Quiz.jpg"/>
          <p:cNvPicPr/>
          <p:nvPr/>
        </p:nvPicPr>
        <p:blipFill>
          <a:blip r:embed="rId1"/>
          <a:stretch/>
        </p:blipFill>
        <p:spPr>
          <a:xfrm>
            <a:off x="0" y="0"/>
            <a:ext cx="1258920" cy="1346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Documents and Settings\dgordon.COMP\Desktop\Quiz.jpg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If you read one book on teaching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Content Placeholder 7" descr="lec.jpg"/>
          <p:cNvPicPr/>
          <p:nvPr/>
        </p:nvPicPr>
        <p:blipFill>
          <a:blip r:embed="rId1"/>
          <a:stretch/>
        </p:blipFill>
        <p:spPr>
          <a:xfrm>
            <a:off x="5056200" y="1600200"/>
            <a:ext cx="3332160" cy="45259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Lecturing: A Practical Guid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” by Sally Brown and Phil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To Enthus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? Put yourself in their sho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, if you’ve taught the topic for yea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, if new to you to do..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To give students the info they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To give students the info they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? Handouts can give 10 times more material, but must mix info with other materials (Make sure handout has lots of free 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 To cover the sylla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 To cover the sylla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? In a meaningfully manner. Give the students time to reflect and revise. So stop teaching for the last 3 weeks and get students to reflect and rev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buClr>
                <a:srgbClr val="4f81b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. Give the student group a sense of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90324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Arial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1:07:24Z</dcterms:created>
  <dc:creator>John Musser</dc:creator>
  <dc:description/>
  <dc:language>en-US</dc:language>
  <cp:lastModifiedBy>dgordon</cp:lastModifiedBy>
  <dcterms:modified xsi:type="dcterms:W3CDTF">2011-01-16T12:56:17Z</dcterms:modified>
  <cp:revision>759</cp:revision>
  <dc:subject/>
  <dc:title>Software Project Management</dc:title>
</cp:coreProperties>
</file>