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1.png" ContentType="image/png"/>
  <Override PartName="/ppt/media/image48.jpeg" ContentType="image/jpeg"/>
  <Override PartName="/ppt/media/image32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2.jpeg" ContentType="image/jpeg"/>
  <Override PartName="/ppt/media/image5.jpeg" ContentType="image/jpeg"/>
  <Override PartName="/ppt/media/image5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8031-BC01-4954-A90C-7FF81808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52F9-6198-4B28-93FE-7FF33373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872-8891-430D-968B-73BDD0355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5EBD-EEF7-47EF-B29C-5FA3280C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9296-77FE-4CC5-93BB-975BA0DF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D097-BEE1-47A8-ABA5-3BBC149C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F12E-1B1D-4163-AB0F-7B3DAA06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36D0-CEA9-4450-86B5-6069F9EA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6128-44ED-4C43-83EB-7F55D3D2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2C3F-F4F2-4ECB-BACF-822B180A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38CF-A8EE-44D9-90C4-80F75779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1D5E-64E9-48C7-90DA-09860BC6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56DF-104E-46A8-A9E3-C963B2B1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1382-D81A-4C0E-81DE-3F0791B4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CBA6-378F-4299-B77D-0E2857CB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E45D-3330-41C7-BFAF-DFC7836E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54D20-10A8-4871-BFA6-00E3C7DA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0CB0-005B-4567-88B9-69D11AD7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5272-A400-4B52-BFF4-6D5482FE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D198-6310-412E-A37F-28FFF21E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797C-050E-4F51-9349-AE66A21C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F830-0711-4296-B621-6C33D220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4F33-B9AE-4CCA-A511-7F611071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D25E-A085-430D-A249-A3CEC7A7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3DB2-8EA5-498C-9B99-EDC0B2EB4AC4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A81D-9CB6-4E9E-8C35-46A17C1084EE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166760"/>
            <a:ext cx="8278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3366"/>
                </a:solidFill>
                <a:latin typeface="Arial"/>
              </a:rPr>
              <a:t>Universal Design for Learning: </a:t>
            </a:r>
            <a:br>
              <a:rPr sz="3200"/>
            </a:br>
            <a:r>
              <a:rPr b="1" lang="en-IE" sz="3200" spc="-1" strike="noStrike">
                <a:solidFill>
                  <a:srgbClr val="003366"/>
                </a:solidFill>
                <a:latin typeface="Arial"/>
              </a:rPr>
              <a:t>Assistive Technology and eLearning</a:t>
            </a:r>
            <a:r>
              <a:rPr b="1" lang="en-IE" sz="3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Wri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Word Predication program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or students with fine motor control iss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nd with vocabulary proble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Co:Writer 40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Gus Commun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elepathic 200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953480" y="1557360"/>
            <a:ext cx="1068120" cy="1441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913520" y="3284640"/>
            <a:ext cx="1122480" cy="12938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7645320" y="4724280"/>
            <a:ext cx="1463760" cy="1584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667640" y="4724280"/>
            <a:ext cx="1405080" cy="15843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Wri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Speech Recognition program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or students with fine motor control iss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nd with physical disabil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Dragon Naturally Speak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List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asoft-Talk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448400" y="1839960"/>
            <a:ext cx="1660680" cy="16603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380360" y="3429000"/>
            <a:ext cx="1638360" cy="1638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6877080" y="5084640"/>
            <a:ext cx="21366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sition of Thoughts</a:t>
            </a: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y writers have difficulty with the pre-writing organization of ideas, how they fit together and how to write them wel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sition of Thoughts</a:t>
            </a:r>
            <a:r>
              <a:rPr b="1" i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Organizing though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low-chart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ask analys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Webb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etworking ide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Outlining strateg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sition of Though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Organizing though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Kidspir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nspir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Draft Build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812000" y="1865160"/>
            <a:ext cx="1117800" cy="1563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667640" y="3573360"/>
            <a:ext cx="1473120" cy="1473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018200" y="5126040"/>
            <a:ext cx="1946520" cy="14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sition of Though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ultimedia Writing progra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Ultimate Writing and Creativity Cent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magination Express: Destination Ser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Kid Works Delux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308720" y="1341360"/>
            <a:ext cx="1695600" cy="1519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308720" y="2924280"/>
            <a:ext cx="1727280" cy="1527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7300800" y="4508640"/>
            <a:ext cx="17352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position of Though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Note Taking progra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Writing dis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lphaSmar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DreamWrit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77080" y="1628640"/>
            <a:ext cx="214308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00720" y="4221000"/>
            <a:ext cx="259560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good reader must be strong i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lphabetic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Mastery of the alphab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Understanding the relationships between letters and 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Syllables and phonem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Identify letter soun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Sound out 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luen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Read connected words rapidly, smoothly and automaticall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 good vocabul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Development of Alphabetic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icture symbo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oardMak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imon Sounds It Ou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Fast ForWork Language Basic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Read, Write &amp; Typ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740720" y="1844640"/>
            <a:ext cx="1114200" cy="1871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724360" y="2421000"/>
            <a:ext cx="1833840" cy="1508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873920" y="3573360"/>
            <a:ext cx="1090800" cy="1297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135840" y="4076640"/>
            <a:ext cx="1531800" cy="1639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7853400" y="5086440"/>
            <a:ext cx="11826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Development of Flu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Taped Books and Talking Storybook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Reading for the Blind and Dyslexic Organiz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iving Boo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tart-to-Finish Boo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020000" y="2938320"/>
            <a:ext cx="1944720" cy="777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236000" y="4145040"/>
            <a:ext cx="1676160" cy="1371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292720" y="5084640"/>
            <a:ext cx="1644480" cy="15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Last Wee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0560" y="1844640"/>
            <a:ext cx="739908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Reading Comprehen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Kurzweil 3000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ntelliTools Read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www.readwritethink.or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948360" y="1844640"/>
            <a:ext cx="1494000" cy="1785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364000" y="3429000"/>
            <a:ext cx="1629000" cy="14922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7020000" y="4581360"/>
            <a:ext cx="18414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th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hematics problems are wide and varied and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Difficulty processing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Visual spatial confu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nability to develop number sen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th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Language processing proble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ncluding terminology confu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ollowing verbal explan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anaging steps of complex calcul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Blocks in Mo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ntelliMathic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451640" y="1989000"/>
            <a:ext cx="1378080" cy="1656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7380360" y="3933720"/>
            <a:ext cx="1511280" cy="1828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427640" y="4653000"/>
            <a:ext cx="23810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th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Visual spatial confu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nability to symbolically or visually represent or code numerical information (e.g. confuse 6 and 9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bac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292720" y="4221000"/>
            <a:ext cx="240984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th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Visual spatial confu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Inability to symbolically or visually represent or code numerical information (e.g. confuse 6 and 9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Mathpad Plus Fractions and Decima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508720" y="4581360"/>
            <a:ext cx="2971800" cy="20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th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Development of Number Sen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Understanding what numbers me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Cruncher 2.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Graph Club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EdMark Calculator Colle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732720" y="1773360"/>
            <a:ext cx="2303280" cy="19526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164360" y="3429000"/>
            <a:ext cx="1812960" cy="1873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7381800" y="5373720"/>
            <a:ext cx="129384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mun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unications can be delayed or interrupted by disabilities, inclu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Language and Spee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Hea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mun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Expressive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Greetings, making choices, social inter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Picture communication boa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Choice boa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Alphabet boa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Eye gaze boa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mun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Expressive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Greetings, making choices, social inter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Voice Output Devic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Cheap Tal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tep-by-Step Communicat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BigMa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The Alpha Talk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439040" y="44280"/>
            <a:ext cx="1555560" cy="1944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093080" y="3649680"/>
            <a:ext cx="1803240" cy="1795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6732720" y="522936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7164360" y="1844640"/>
            <a:ext cx="18003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mun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Expressive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Greetings, making choices, social intera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Other Communication Devi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Prentorm Vangua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Dynavox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Speaking Dynamically P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EZ Key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164360" y="193680"/>
            <a:ext cx="1800360" cy="1434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236000" y="1770120"/>
            <a:ext cx="1609560" cy="15890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6156360" y="3860640"/>
            <a:ext cx="1228680" cy="2281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7524720" y="4076640"/>
            <a:ext cx="12430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Universal Design for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om last week’s class we know that different students learn in different way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can we accommodate the many ways that they have of learning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early the more diverse our range of instructional methods, the more types of students we will be able to addr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mun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Receptive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Remembering instructions, problems with rate, complexity or amount of spoken instru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Real objec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Photograph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Picture symbo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6666"/>
                </a:solidFill>
                <a:latin typeface="Arial"/>
              </a:rPr>
              <a:t>Assistive Technology in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ommunication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Receptive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Remembering instructions, problems with rate, complexity or amount of spoken instru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Picture It - Slater Softwa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Laureate First 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151680" y="2332080"/>
            <a:ext cx="2523960" cy="9525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724360" y="4149720"/>
            <a:ext cx="3208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ools we have looked 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Writ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Talking Word Processor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Word Predication program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Speech Recognition program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Composition of Thought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Organization of Though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Mindmapping Tool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Multimedia Writing program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Notetaking Program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Read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Development of Alphabetics (picture symbols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Fluency (Audio books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Reading Comprehens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66"/>
                </a:solidFill>
                <a:latin typeface="Arial"/>
              </a:rPr>
              <a:t>Math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Difficulty processing languag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Visual spatial confusio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3366"/>
                </a:solidFill>
                <a:latin typeface="Arial"/>
              </a:rPr>
              <a:t>Inability to develop number sen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Arial"/>
              </a:rPr>
              <a:t>Communic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xpressive Languag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Receptive Languag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Instructional Episodes to support learning (Recognition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e have a vast array of patterns collected in our cul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n topics like Maths, science, geography, geology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But since all students are not on an equal footing when it comes to recognising such patterns, we need to differentia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Instructional Episodes to support learning (Recognition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e can provide multiple examp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he more examples we give the better a student will understand thing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Highlight critical feat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Good teachers explicitly highlight the critical features of a pattern to help studen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ovide Multiple Media forma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ith varying degree of depth and detail, students will figure out what works best for the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upport Background Knowled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Get students to relate new material to things they already kno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Arial"/>
              </a:rPr>
              <a:t>Instructional Episodes to support learning (Strategic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how them bad examples as well as goo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o that they can recognise and develop their own patter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ovide practice with sup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f it’s a complex task, let them focus on subtasks and scaffold around th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Provide ongoing feedba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Let them listen to what they have typ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Get student to demonstrate ski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Pianists perform recitals, students can use tools to create posters, with papers,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ome Term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pen Sour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ree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hare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dandon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Universal Design for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we were relying on the print medium alone, this flexibility would be very difficult, but with the additional of new media, it is possible to provide a wider range of flexibilit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uch software already exists but is aimed at assistive technology (AT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r some students AT is a requirement for learning, because they cannot function without 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t the same AT devices can be used as learning supports for all students in the cla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realization means that students who have specific learning preferences can be accommodated using these devic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Wri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ing is a complex task that required the integration of a number of different skill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writer must generate ideas, organize these ideas and write sentences and paragraph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ents may be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d spell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llegible handwrit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fficulties composing sentenc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Wri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mechanics of writing include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utomatic letter form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Use of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Basic spel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Capitaliz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unctu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Clarity of expres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ppropriate gramm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Wri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Raised lined pap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Pencil grip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Slant bo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Ergonomic pe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508720" y="23446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6000" y="27082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435640" y="400536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174080" y="4898880"/>
            <a:ext cx="179064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ssistive Technology in Wri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-Tech Aids can include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Talking Word Process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To help students monitor their wri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Intellitalk 2 + 3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Writeout Lou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Read and Write Gol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96360" y="1844640"/>
            <a:ext cx="1473120" cy="1208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751880" y="3068640"/>
            <a:ext cx="996840" cy="1324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740720" y="4437000"/>
            <a:ext cx="116820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22:10:36Z</dcterms:created>
  <dc:creator>dgordon</dc:creator>
  <dc:description/>
  <dc:language>en-US</dc:language>
  <cp:lastModifiedBy>dgordon</cp:lastModifiedBy>
  <dcterms:modified xsi:type="dcterms:W3CDTF">2010-04-19T19:43:56Z</dcterms:modified>
  <cp:revision>13</cp:revision>
  <dc:subject/>
  <dc:title>UNIVERSAL DESIGN  FOR LEARNING</dc:title>
</cp:coreProperties>
</file>