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1.png" ContentType="image/png"/>
  <Override PartName="/ppt/media/image48.jpeg" ContentType="image/jpeg"/>
  <Override PartName="/ppt/media/image32.jpeg" ContentType="image/jpeg"/>
  <Override PartName="/ppt/media/image26.jpeg" ContentType="image/jpeg"/>
  <Override PartName="/ppt/media/image49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2.jpeg" ContentType="image/jpeg"/>
  <Override PartName="/ppt/media/image5.jpeg" ContentType="image/jpeg"/>
  <Override PartName="/ppt/media/image5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8D70-48EF-4CD0-8493-65A846978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C509-2509-47E1-81C0-2121F8B93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5AE0-9543-4C89-A017-0AB0B89FC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B021-2B30-41A6-9ABF-6AEAE9832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BF7E8-753E-4D5C-8CC8-D8195C74C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5C729-1830-4357-BB13-822BEC865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670C3-1F87-4446-B185-7866244B1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5D971-1834-4D2E-913A-EBF80A27C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49B9E-87BA-4971-A82C-CE933CB11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8828F-3E89-4C5D-8B5E-BB2B2E9F5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3A248-C56F-4165-AECE-63DA6FDDC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E2D4-CF1A-4D8A-BC54-5CB3DFE8B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C14EB-2926-4E2B-A1AC-EDAAEDC34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E4DEA-BF73-4D0B-BD68-17259193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97A69-6920-4903-9A7F-590F43AFB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6DAD2-176A-4CDD-9D3F-EA1931DB6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A7EFE-9389-44F2-8583-A476857BB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8BD2-C7EE-4E52-9640-C54BA899C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DA81-9002-4AC7-BC6C-868FEA4F8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116F-6C35-45DA-9E25-90BDE3F7D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8057-99B3-4E46-809B-CF70F4A14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5C4B-29CF-4C8D-A2B4-880B42849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1A12-2CA0-4310-AC32-C34C0C6C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F937-E3D9-41E9-B8BD-208D6B9B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EFC97-9D7D-4A67-9F4B-F20F760BC391}" type="slidenum"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3D908-00CF-4630-B14C-BD80569E9280}" type="slidenum"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1166760"/>
            <a:ext cx="8278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3366"/>
                </a:solidFill>
                <a:latin typeface="Arial"/>
              </a:rPr>
              <a:t>Universal Design for Learning: </a:t>
            </a:r>
            <a:br>
              <a:rPr sz="3200"/>
            </a:br>
            <a:r>
              <a:rPr b="1" lang="en-IE" sz="3200" spc="-1" strike="noStrike">
                <a:solidFill>
                  <a:srgbClr val="003366"/>
                </a:solidFill>
                <a:latin typeface="Arial"/>
              </a:rPr>
              <a:t>Assistive Technology and eLearning</a:t>
            </a:r>
            <a:r>
              <a:rPr b="1" lang="en-IE" sz="3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66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Assistive Technology in Writ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-Tech Aids can include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Word Predication program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For students with fine motor control issu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And with vocabulary problem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Co:Writer 400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Gus Communic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Telepathic 200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953480" y="1557360"/>
            <a:ext cx="1068120" cy="14414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7913520" y="3284640"/>
            <a:ext cx="1122480" cy="12938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7645320" y="4724280"/>
            <a:ext cx="1463760" cy="15843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7667640" y="4724280"/>
            <a:ext cx="1405080" cy="1584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Assistive Technology in Writ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-Tech Aids can include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Speech Recognition program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For students with fine motor control issu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And with physical disabilit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Dragon Naturally Speak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iList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Abasoft-Talk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448400" y="1839960"/>
            <a:ext cx="1660680" cy="16603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7380360" y="3429000"/>
            <a:ext cx="1638360" cy="1638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6877080" y="5084640"/>
            <a:ext cx="213660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6666"/>
                </a:solidFill>
                <a:latin typeface="Arial"/>
              </a:rPr>
              <a:t>Assistive Technology in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mposition of Thoughts</a:t>
            </a:r>
            <a:r>
              <a:rPr b="1" i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ny writers have difficulty with the pre-writing organization of ideas, how they fit together and how to write them wel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6666"/>
                </a:solidFill>
                <a:latin typeface="Arial"/>
              </a:rPr>
              <a:t>Assistive Technology in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mposition of Thoughts</a:t>
            </a:r>
            <a:r>
              <a:rPr b="1" i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-Tech Aids can include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Organizing though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Flow-chart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Task analysi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Webb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Networking idea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Outlining strategi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6666"/>
                </a:solidFill>
                <a:latin typeface="Arial"/>
              </a:rPr>
              <a:t>Assistive Technology in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mposition of Thought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-Tech Aids can include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Organizing though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Kidspir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Inspir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Draft Build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812000" y="1865160"/>
            <a:ext cx="1117800" cy="15638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7667640" y="3573360"/>
            <a:ext cx="1473120" cy="14734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7018200" y="5126040"/>
            <a:ext cx="1946520" cy="14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6666"/>
                </a:solidFill>
                <a:latin typeface="Arial"/>
              </a:rPr>
              <a:t>Assistive Technology in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mposition of Thought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-Tech Aids can include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Multimedia Writing program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Ultimate Writing and Creativity Centr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Imagination Express: Destination Seri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Kid Works Delux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308720" y="1341360"/>
            <a:ext cx="1695600" cy="15192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7308720" y="2924280"/>
            <a:ext cx="1727280" cy="1527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7300800" y="4508640"/>
            <a:ext cx="17352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6666"/>
                </a:solidFill>
                <a:latin typeface="Arial"/>
              </a:rPr>
              <a:t>Assistive Technology in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mposition of Thought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-Tech Aids can include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Note Taking program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Writing disabil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AlphaSmar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DreamWrit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877080" y="1628640"/>
            <a:ext cx="2143080" cy="23050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6300720" y="4221000"/>
            <a:ext cx="2595600" cy="19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Assistive Technology in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ad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good reader must be strong i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Alphabetic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Mastery of the alphabe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Understanding the relationships between letters and 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Syllables and phonem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Identify letter soun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Sound out 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Fluenc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Read connected words rapidly, smoothly and automaticall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A good vocabul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Assistive Technology in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ad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-Tech Aids can include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Development of Alphabetic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Picture symbol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BoardMak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Simon Sounds It Ou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Fast ForWork Language Basic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Read, Write &amp; Typ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740720" y="1844640"/>
            <a:ext cx="1114200" cy="18716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5724360" y="2421000"/>
            <a:ext cx="1833840" cy="15080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7873920" y="3573360"/>
            <a:ext cx="1090800" cy="12970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6135840" y="4076640"/>
            <a:ext cx="1531800" cy="16398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7853400" y="5086440"/>
            <a:ext cx="11826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Assistive Technology in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ad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-Tech Aids can include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Development of Fluenc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Taped Books and Talking Storybook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Reading for the Blind and Dyslexic Organiz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Living Boo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Start-to-Finish Boo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020000" y="2938320"/>
            <a:ext cx="1944720" cy="7779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7236000" y="4145040"/>
            <a:ext cx="1676160" cy="13716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5292720" y="5084640"/>
            <a:ext cx="1644480" cy="15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Last Wee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060560" y="1844640"/>
            <a:ext cx="739908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Assistive Technology in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ad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-Tech Aids can include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Reading Comprehens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Kurzweil 3000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IntelliTools Read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www.readwritethink.or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948360" y="1844640"/>
            <a:ext cx="1494000" cy="17859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5364000" y="3429000"/>
            <a:ext cx="1629000" cy="14922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7020000" y="4581360"/>
            <a:ext cx="184140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Assistive Technology in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ath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thematics problems are wide and varied and can include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Difficulty processing langu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Visual spatial confus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Inability to develop number sen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Assistive Technology in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ath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-Tech Aids can include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Language processing problem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Including terminology confus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Following verbal explana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Managing steps of complex calcula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Blocks in Mo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IntelliMathic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7451640" y="1989000"/>
            <a:ext cx="1378080" cy="16560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7380360" y="3933720"/>
            <a:ext cx="1511280" cy="18288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4427640" y="4653000"/>
            <a:ext cx="238104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Assistive Technology in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ath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-Tech Aids can include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Visual spatial confus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Inability to symbolically or visually represent or code numerical information (e.g. confuse 6 and 9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Abacu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292720" y="4221000"/>
            <a:ext cx="2409840" cy="21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Assistive Technology in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ath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-Tech Aids can include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Visual spatial confus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Inability to symbolically or visually represent or code numerical information (e.g. confuse 6 and 9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Mathpad Plus Fractions and Decimal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508720" y="4581360"/>
            <a:ext cx="2971800" cy="20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Assistive Technology in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ath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-Tech Aids can include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Development of Number Sen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Understanding what numbers mea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Cruncher 2.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The Graph Club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EdMark Calculator Collec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6732720" y="1773360"/>
            <a:ext cx="2303280" cy="19526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7164360" y="3429000"/>
            <a:ext cx="1812960" cy="18730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7381800" y="5373720"/>
            <a:ext cx="1293840" cy="12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6666"/>
                </a:solidFill>
                <a:latin typeface="Arial"/>
              </a:rPr>
              <a:t>Assistive Technology in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mmunication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munications can be delayed or interrupted by disabilities, includ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Language and Speec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Hear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6666"/>
                </a:solidFill>
                <a:latin typeface="Arial"/>
              </a:rPr>
              <a:t>Assistive Technology in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mmunication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-Tech Aids can include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Expressive Langu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Greetings, making choices, social intera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Picture communication boa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Choice boa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Alphabet boa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Eye gaze boa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6666"/>
                </a:solidFill>
                <a:latin typeface="Arial"/>
              </a:rPr>
              <a:t>Assistive Technology in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mmunication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-Tech Aids can include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Expressive Langu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Greetings, making choices, social intera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Voice Output Device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Cheap Tal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Step-by-Step Communicato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The BigMac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The Alpha Talk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7439040" y="44280"/>
            <a:ext cx="1555560" cy="19447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7093080" y="3649680"/>
            <a:ext cx="1803240" cy="17953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6732720" y="5229360"/>
            <a:ext cx="2286000" cy="15238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4"/>
          <a:stretch/>
        </p:blipFill>
        <p:spPr>
          <a:xfrm>
            <a:off x="7164360" y="1844640"/>
            <a:ext cx="180036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6666"/>
                </a:solidFill>
                <a:latin typeface="Arial"/>
              </a:rPr>
              <a:t>Assistive Technology in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mmunication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-Tech Aids can include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Expressive Langu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Greetings, making choices, social intera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Other Communication Devic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Prentorm Vanguar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Dynavox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Speaking Dynamically Pr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EZ Key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7164360" y="193680"/>
            <a:ext cx="1800360" cy="14349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7236000" y="1770120"/>
            <a:ext cx="1609560" cy="15890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6156360" y="3860640"/>
            <a:ext cx="1228680" cy="22813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7524720" y="4076640"/>
            <a:ext cx="124308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Universal Design for Learn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rom last week’s class we know that different students learn in different way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 can we accommodate the many ways that they have of learning 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early the more diverse our range of instructional methods, the more types of students we will be able to addres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6666"/>
                </a:solidFill>
                <a:latin typeface="Arial"/>
              </a:rPr>
              <a:t>Assistive Technology in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mmunication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-Tech Aids can include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Receptive Langu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Remembering instructions, problems with rate, complexity or amount of spoken instru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Real objec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Photograph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Picture symbol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6666"/>
                </a:solidFill>
                <a:latin typeface="Arial"/>
              </a:rPr>
              <a:t>Assistive Technology in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mmunication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-Tech Aids can include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Receptive Langu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Remembering instructions, problems with rate, complexity or amount of spoken instru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Picture It - Slater Softwar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Laureate First Wo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6151680" y="2332080"/>
            <a:ext cx="2523960" cy="9525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5724360" y="4149720"/>
            <a:ext cx="32086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ools we have looked 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3366"/>
                </a:solidFill>
                <a:latin typeface="Arial"/>
              </a:rPr>
              <a:t>Writin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Arial"/>
              </a:rPr>
              <a:t>Talking Word Processor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Arial"/>
              </a:rPr>
              <a:t>Word Predication program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Arial"/>
              </a:rPr>
              <a:t>Speech Recognition program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3366"/>
                </a:solidFill>
                <a:latin typeface="Arial"/>
              </a:rPr>
              <a:t>Composition of Thought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Arial"/>
              </a:rPr>
              <a:t>Organization of Thought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Arial"/>
              </a:rPr>
              <a:t>Mindmapping Tool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Arial"/>
              </a:rPr>
              <a:t>Multimedia Writing program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Arial"/>
              </a:rPr>
              <a:t>Notetaking Program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3366"/>
                </a:solidFill>
                <a:latin typeface="Arial"/>
              </a:rPr>
              <a:t>Readin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Arial"/>
              </a:rPr>
              <a:t>Development of Alphabetics (picture symbols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Arial"/>
              </a:rPr>
              <a:t>Fluency (Audio books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Arial"/>
              </a:rPr>
              <a:t>Reading Comprehensio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3366"/>
                </a:solidFill>
                <a:latin typeface="Arial"/>
              </a:rPr>
              <a:t>Math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Arial"/>
              </a:rPr>
              <a:t>Difficulty processing languag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Arial"/>
              </a:rPr>
              <a:t>Visual spatial confusio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Arial"/>
              </a:rPr>
              <a:t>Inability to develop number sens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Communication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Expressive Languag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Receptive Languag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Arial"/>
              </a:rPr>
              <a:t>Instructional Episodes to support learning (Recognition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We have a vast array of patterns collected in our cultu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On topics like Maths, science, geography, geology, etc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But since all students are not on an equal footing when it comes to recognising such patterns, we need to differentiat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Arial"/>
              </a:rPr>
              <a:t>Instructional Episodes to support learning (Recognition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We can provide multiple examp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The more examples we give the better a student will understand thing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Highlight critical featur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Good teachers explicitly highlight the critical features of a pattern to help studen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Provide Multiple Media forma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With varying degree of depth and detail, students will figure out what works best for the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Support Background Knowled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Get students to relate new material to things they already know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Arial"/>
              </a:rPr>
              <a:t>Instructional Episodes to support learning (Strategic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Show them bad examples as well as goo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So that they can recognise and develop their own patter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Provide practice with suppor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If it’s a complex task, let them focus on subtasks and scaffold around th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Provide ongoing feedbac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Let them listen to what they have typ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Get student to demonstrate skill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Pianists perform recitals, students can use tools to create posters, with papers, etc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ome Term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Open Sour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Freewa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harewa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dandonwa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Universal Design for Learn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f we were relying on the print medium alone, this flexibility would be very difficult, but with the additional of new media, it is possible to provide a wider range of flexibilit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uch software already exists but is aimed at assistive technology (AT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Assistive Technolog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r some students AT is a requirement for learning, because they cannot function without i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ut the same AT devices can be used as learning supports for all students in the clas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s realization means that students who have specific learning preferences can be accommodated using these devic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Assistive Technology in Writ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riting is a complex task that required the integration of a number of different skill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writer must generate ideas, organize these ideas and write sentences and paragraph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udents may be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ad spell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llegible handwrit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fficulties composing sentence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Assistive Technology in Writ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mechanics of writing includes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Automatic letter form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Use of spa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Basic spell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Capitaliz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Punctu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Spe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Clarity of express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Appropriate gramm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Assistive Technology in Writ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-Tech Aids can include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Raised lined pap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Pencil grip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Slant board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Ergonomic pe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508720" y="234468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6000" y="270828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5435640" y="400536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7174080" y="4898880"/>
            <a:ext cx="179064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Assistive Technology in Writ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-Tech Aids can include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Talking Word Processo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To help students monitor their writ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Intellitalk 2 + 3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Writeout Lou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Read and Write Gol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596360" y="1844640"/>
            <a:ext cx="1473120" cy="1208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7751880" y="3068640"/>
            <a:ext cx="996840" cy="13240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740720" y="4437000"/>
            <a:ext cx="116820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6T22:10:36Z</dcterms:created>
  <dc:creator>dgordon</dc:creator>
  <dc:description/>
  <dc:language>en-US</dc:language>
  <cp:lastModifiedBy>dgordon</cp:lastModifiedBy>
  <dcterms:modified xsi:type="dcterms:W3CDTF">2010-04-19T19:43:56Z</dcterms:modified>
  <cp:revision>13</cp:revision>
  <dc:subject/>
  <dc:title>UNIVERSAL DESIGN  FOR LEARNING</dc:title>
</cp:coreProperties>
</file>