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06A6-2CDB-426E-A373-DC8D403B39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24D1-65C5-4C0A-A33F-ADC82D67BBB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2" name="PlaceHolder 1"/>
          <p:cNvSpPr>
            <a:spLocks noGrp="1"/>
          </p:cNvSpPr>
          <p:nvPr>
            <p:ph type="sldImg"/>
          </p:nvPr>
        </p:nvSpPr>
        <p:spPr>
          <a:xfrm>
            <a:off x="1136520" y="155520"/>
            <a:ext cx="4572000" cy="3429000"/>
          </a:xfrm>
          <a:prstGeom prst="rect">
            <a:avLst/>
          </a:prstGeom>
          <a:ln w="0">
            <a:noFill/>
          </a:ln>
        </p:spPr>
      </p:sp>
      <p:sp>
        <p:nvSpPr>
          <p:cNvPr id="183" name="PlaceHolder 2"/>
          <p:cNvSpPr>
            <a:spLocks noGrp="1"/>
          </p:cNvSpPr>
          <p:nvPr>
            <p:ph type="body"/>
          </p:nvPr>
        </p:nvSpPr>
        <p:spPr>
          <a:xfrm>
            <a:off x="661680" y="3641760"/>
            <a:ext cx="5445000" cy="534672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w or light-tech communication tools are classified as those not having a power source. These Communication Tools are relatively inexpensive, easily made, quickly accessed, and easily replaced. Many are paper based using pictures, but communication boards can also be collections of real or miniature objects depending on the needs of the student. Light tech is not necessarily for just early communicators.  These tools can be used as a person's primary or secondary means of communication and can enhance expressive or receptive language. </a:t>
            </a:r>
            <a:endParaRPr b="0" lang="en-US" sz="9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ols on the slides are as follo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Communication Vest/Apron from Mayer-Johns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Homemade picture communication ring</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Go!Board from Enabling Devic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Communication board/ Laminated Topic Board downloaded from Tinsnips.com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Flip 'n Talk from Mayer-Johns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Velcro Choice Board from Creative Communicating with Laminated Boardmaker symbols from Mayer-Johnso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cussion Prompts:</a:t>
            </a:r>
            <a:endParaRPr b="0" lang="en-US" sz="800" spc="-1" strike="noStrike">
              <a:solidFill>
                <a:srgbClr val="000000"/>
              </a:solidFill>
              <a:latin typeface="Times New Roman"/>
            </a:endParaRPr>
          </a:p>
          <a:p>
            <a:pPr>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Who would benefit from using these Communication Tool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ight technology is beneficial for all students with speech and language deficits that limit or prohibit the expression or comprehension of verbal language. Students with beginning communication skills would benefit from using light technology as a primary means of communication. Additionally, light technology would benefit students with organizational difficulties or who are visual learner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2. Why would you use light-tech communication with a student already using a high-tech communication devi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ople use a variety of means to communicate. Light-tech A student who uses a high tech communication tool might also use a variety of light tech devices for use in various environments and situations.  An example is a plastic coated picture board that could be used in a swimming pool.</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4869-62B6-47F2-BBFE-212F4B7E19B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the purpose of this presentation, Mid-tech communication tools are classified as those that have a power source and speech output, but do not possess computer based features (such as dynamic display, or internal symbol libraries). The speech output is digitized, which means recorded speech. Mid-tech devices have various features including variance in the number of messages available to a student, button/cell size, the ability to use objects or photographs or pictures as the means of language representation, and various modes of access, such as auditory or visual scanning. These displays are always static. Mid-tech AAC gives students access to voice output and can be easily programmed to meet the needs of a variety of students and/or situations. Mid tech can be used as a primary or secondary means of communication and combines with other low or high tech means of communication. The devices shown on this slide are examples of mid-tech devices that have one  to four messages, or the ability to sequence a variety of message for a set time fram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represented on this slide:</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oved Platform Communicator from Enabling Devices</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N’ Talk Go Board from Enabling Devices</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Mack from Ablenet</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Talker from Attainment</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By-Step Communicator from Ablene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C45B-55C5-496B-A357-9BB42939E37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8" name="PlaceHolder 1"/>
          <p:cNvSpPr>
            <a:spLocks noGrp="1"/>
          </p:cNvSpPr>
          <p:nvPr>
            <p:ph type="sldImg"/>
          </p:nvPr>
        </p:nvSpPr>
        <p:spPr>
          <a:xfrm>
            <a:off x="1143000" y="685800"/>
            <a:ext cx="4575240" cy="3430440"/>
          </a:xfrm>
          <a:prstGeom prst="rect">
            <a:avLst/>
          </a:prstGeom>
          <a:ln w="0">
            <a:noFill/>
          </a:ln>
        </p:spPr>
      </p:sp>
      <p:sp>
        <p:nvSpPr>
          <p:cNvPr id="189"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se mid-tech devices illustrate the range of options a student can have within mid-tech AAC devices. These options include a greater number of messages, the ability to have messages on multiple levels, and alternative modes of access such as visual and auditory scanning.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ols presented on this slide:</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N' Talk from Frame Technologie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erhawk from Adamlab </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tbox from Saltillo</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ch Scan from Mayer-Johnson</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lking picture frame from Radio Shack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cussion Promp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ho would benefit from mid-tech devic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Mid tech devices are beneficial for students who need a simple means to communicate and who need objects or pictures as their language representation system rather than written words exclusively. In addition, these devices work well for students who need an additional device to supplement their high technolog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Voice Output Communication Devices Under $1,000</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3D53-4AB4-4A7A-8B9D-5A9647585FC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1" name="PlaceHolder 1"/>
          <p:cNvSpPr>
            <a:spLocks noGrp="1"/>
          </p:cNvSpPr>
          <p:nvPr>
            <p:ph type="sldImg"/>
          </p:nvPr>
        </p:nvSpPr>
        <p:spPr>
          <a:xfrm>
            <a:off x="1143000" y="685800"/>
            <a:ext cx="4575240" cy="3430440"/>
          </a:xfrm>
          <a:prstGeom prst="rect">
            <a:avLst/>
          </a:prstGeom>
          <a:ln w="0">
            <a:noFill/>
          </a:ln>
        </p:spPr>
      </p:sp>
      <p:sp>
        <p:nvSpPr>
          <p:cNvPr id="192"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gh Tech AAC devices have computer based features and offer a wide range of options. These devices on this slide are referred to as “dedicated” because the device will only run the pre-programmed communication software. One of the features that differentiates a high tech device from a mid-tech device is the use of dynamic display and/or text to speech capabilities. Dynamic display eliminates the need for paper overlays and a manual change of the levels. </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ices on this slide are as follow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ynaWrite from DynaVox System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ghtwriter from Zygo Industrie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ingboard from PRC</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hfinder from PRC</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ynaMyte from DynaVox System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ynaMo from DynaVox System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cussion Prompt:</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ho would benefit from High Tech Devic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igh tech devices are beneficial for student whose communication needs cannot be met within the confines of a mid tech or low tech system. The reasons for this could include the need for a large vocabulary base, or physical deficits that limit the ability to handle frequent paper board changes.</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0C55-35F9-47AB-AF20-07A67B891D6D}"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4" name="PlaceHolder 1"/>
          <p:cNvSpPr>
            <a:spLocks noGrp="1"/>
          </p:cNvSpPr>
          <p:nvPr>
            <p:ph type="sldImg"/>
          </p:nvPr>
        </p:nvSpPr>
        <p:spPr>
          <a:xfrm>
            <a:off x="1143000" y="685800"/>
            <a:ext cx="4575240" cy="3430440"/>
          </a:xfrm>
          <a:prstGeom prst="rect">
            <a:avLst/>
          </a:prstGeom>
          <a:ln w="0">
            <a:noFill/>
          </a:ln>
        </p:spPr>
      </p:sp>
      <p:sp>
        <p:nvSpPr>
          <p:cNvPr id="195"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Tech Non-Dedicated AAC devices offer the user additional features beyond voice output, such as access to word processing, educational software and connection to the internet. Examples of non-dedicated devices include laptop computers, Tablet PCs, and PDAs that utilize communication software, such as Speaking Dynamically Pro from Mayer-Johnson or Velocity from Enkidu</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vices on this slides are as follows:</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ury from ATI</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mini from  ATI</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mtop EX from Enkidu </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t Portable Impact from Enkidu</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scussion Prompt:</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Who would benfit from these devi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igh tech non-dedicated devices are beneficial for students whose communication needs include additional software products or need software support to participate in the classroom.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s: AAC and Related Websit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lected AAC Resource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6D2C-0FC4-489C-AF14-D1A09F9EAA34}"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e commercially available communication software package is Speaking Dynamically Pro from Mayer-Johnson. The software comes pre-programmed with many communication pages, but it is easily customized to meet a particular student's needs. This illustrates some of the pre-programmed pages related to food choice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155C-C2D9-4A29-A223-F52565CBA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F001-119F-414E-94C4-1FB2C650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92CED-66FD-4D7E-9E10-A2645F41E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D2815-7A2B-413D-8D2D-CB11DC8D7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0BCFC-A428-4657-A97F-28E1C9871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5E3D-1F18-4D4A-8F57-1DCDC39D5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C2F7C-C407-4DF6-816B-B7F0F4568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DB2D-3748-400A-ACCC-781EB1752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84375-B9E3-4119-9AB9-8BD934033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E85DE-B685-43CE-A7C9-4D88A1EEF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90FB2-DD13-4D02-B638-C40CB4504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ED0A6-6124-4D39-9D49-4D7BF6162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AC36-BDCD-4AB8-8652-BE0652BF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1E092-E526-488B-86A9-4E3238043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95CCC-A485-4EB4-92FE-0B5B618FF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6FC5C-79AF-4581-8929-98FB6AD4C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EC98E-5FD8-47B6-8AE8-2D562EF1D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C4AF2-7EC0-4C8D-B1F5-3A3A4E3F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9A29E-07F2-4D39-816C-34A3B693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6DF3-C616-4B34-8CB3-850D4D53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0500-CE18-4519-A04A-E76A63CF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F1B64-44B8-4819-AB81-F2CE7352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3DBC-8260-4453-9AEF-60F527E98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814A-DAED-41EF-9ACD-E524507C9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5972-7CBB-4FBA-8F90-F76404F714E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5D29-9C99-4F0C-A467-1392D41AF36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aac.unl.edu/vbstudy"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oatsoft.org/Software/Software/by-category/Repository/Function/AAC"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70000" y="1403280"/>
            <a:ext cx="7488000" cy="7840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Augmentative and Alternative Communication Systems</a:t>
            </a:r>
            <a:endParaRPr b="1" lang="en-US" sz="40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 </a:t>
            </a:r>
            <a:endParaRPr b="0" lang="en-US" sz="2800" spc="-1" strike="noStrike">
              <a:solidFill>
                <a:srgbClr val="003366"/>
              </a:solidFill>
              <a:latin typeface="Arial"/>
            </a:endParaRPr>
          </a:p>
        </p:txBody>
      </p:sp>
      <p:sp>
        <p:nvSpPr>
          <p:cNvPr id="104" name="AutoShape 2"/>
          <p:cNvSpPr/>
          <p:nvPr/>
        </p:nvSpPr>
        <p:spPr>
          <a:xfrm>
            <a:off x="1187280" y="2104920"/>
            <a:ext cx="7632720" cy="1108080"/>
          </a:xfrm>
          <a:prstGeom prst="roundRect">
            <a:avLst>
              <a:gd name="adj" fmla="val 50000"/>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ok and Hussey, Chapter 11</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AC Assessment and Evaluation</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5000"/>
          </a:bodyPr>
          <a:p>
            <a:pPr marL="325800" indent="-3258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predictive assessment</a:t>
            </a:r>
            <a:r>
              <a:rPr b="0" lang="en-US" sz="2800" spc="-1" strike="noStrike">
                <a:solidFill>
                  <a:srgbClr val="003366"/>
                </a:solidFill>
                <a:latin typeface="Arial"/>
              </a:rPr>
              <a:t> means that you attempt to understand a person’s needs and status both today and predict their future needs.</a:t>
            </a:r>
            <a:endParaRPr b="0" lang="en-US" sz="2800" spc="-1" strike="noStrike">
              <a:solidFill>
                <a:srgbClr val="003366"/>
              </a:solidFill>
              <a:latin typeface="Arial"/>
            </a:endParaRPr>
          </a:p>
          <a:p>
            <a:pPr marL="325800" indent="-3258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erial assessment</a:t>
            </a:r>
            <a:r>
              <a:rPr b="0" lang="en-US" sz="2800" spc="-1" strike="noStrike">
                <a:solidFill>
                  <a:srgbClr val="003366"/>
                </a:solidFill>
                <a:latin typeface="Arial"/>
              </a:rPr>
              <a:t> is a continuing evaluation to meet changing needs.</a:t>
            </a:r>
            <a:endParaRPr b="0" lang="en-US" sz="2800" spc="-1" strike="noStrike">
              <a:solidFill>
                <a:srgbClr val="003366"/>
              </a:solidFill>
              <a:latin typeface="Arial"/>
            </a:endParaRPr>
          </a:p>
          <a:p>
            <a:pPr marL="325800" indent="-3258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curriculum-based assessment</a:t>
            </a:r>
            <a:r>
              <a:rPr b="0" lang="en-US" sz="2800" spc="-1" strike="noStrike">
                <a:solidFill>
                  <a:srgbClr val="003366"/>
                </a:solidFill>
                <a:latin typeface="Arial"/>
              </a:rPr>
              <a:t> is continuous in classrooms to help coordinate AAC interventions with the achievement of educational goa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rriers to Participation</a:t>
            </a: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ider the case of a child with a speech difficulty, if their school that purchases a </a:t>
            </a:r>
            <a:r>
              <a:rPr b="0" i="1" lang="en-US" sz="2800" spc="-1" strike="noStrike">
                <a:solidFill>
                  <a:srgbClr val="003366"/>
                </a:solidFill>
                <a:latin typeface="Arial"/>
              </a:rPr>
              <a:t>speech-generating device</a:t>
            </a:r>
            <a:r>
              <a:rPr b="0" lang="en-US" sz="2800" spc="-1" strike="noStrike">
                <a:solidFill>
                  <a:srgbClr val="003366"/>
                </a:solidFill>
                <a:latin typeface="Arial"/>
              </a:rPr>
              <a:t> (SGD), the child will have to leave the device at school when they go h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reates a real barrier into providing full societal particip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school typically allow student to take home musical instruments, why is th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ssessing Representation</a:t>
            </a:r>
            <a:endParaRPr b="1" lang="en-US" sz="3600" spc="-1" strike="noStrike">
              <a:solidFill>
                <a:srgbClr val="006666"/>
              </a:solidFill>
              <a:latin typeface="Arial"/>
            </a:endParaRPr>
          </a:p>
        </p:txBody>
      </p:sp>
      <p:sp>
        <p:nvSpPr>
          <p:cNvPr id="128"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nique problem in the domain of AAC is determining the symbols an individual can use to communica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ght-Tech AAC Options</a:t>
            </a:r>
            <a:endParaRPr b="1" lang="en-US" sz="3600" spc="-1" strike="noStrike">
              <a:solidFill>
                <a:srgbClr val="006666"/>
              </a:solidFill>
              <a:latin typeface="Arial"/>
            </a:endParaRPr>
          </a:p>
        </p:txBody>
      </p:sp>
      <p:pic>
        <p:nvPicPr>
          <p:cNvPr id="130" name="Picture 14" descr="60small"/>
          <p:cNvPicPr/>
          <p:nvPr/>
        </p:nvPicPr>
        <p:blipFill>
          <a:blip r:embed="rId1"/>
          <a:stretch/>
        </p:blipFill>
        <p:spPr>
          <a:xfrm>
            <a:off x="755640" y="1989000"/>
            <a:ext cx="6912000" cy="486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1" descr="61small"/>
          <p:cNvPicPr/>
          <p:nvPr/>
        </p:nvPicPr>
        <p:blipFill>
          <a:blip r:embed="rId1"/>
          <a:stretch/>
        </p:blipFill>
        <p:spPr>
          <a:xfrm>
            <a:off x="755640" y="1978200"/>
            <a:ext cx="6912000" cy="4879800"/>
          </a:xfrm>
          <a:prstGeom prst="rect">
            <a:avLst/>
          </a:prstGeom>
          <a:ln w="0">
            <a:noFill/>
          </a:ln>
        </p:spPr>
      </p:pic>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d-Tech AAC Devic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id-Tech AAC Tools</a:t>
            </a:r>
            <a:endParaRPr b="1" lang="en-US" sz="3600" spc="-1" strike="noStrike">
              <a:solidFill>
                <a:srgbClr val="006666"/>
              </a:solidFill>
              <a:latin typeface="Arial"/>
            </a:endParaRPr>
          </a:p>
        </p:txBody>
      </p:sp>
      <p:pic>
        <p:nvPicPr>
          <p:cNvPr id="134" name="Picture 11" descr="62small"/>
          <p:cNvPicPr/>
          <p:nvPr/>
        </p:nvPicPr>
        <p:blipFill>
          <a:blip r:embed="rId1"/>
          <a:stretch/>
        </p:blipFill>
        <p:spPr>
          <a:xfrm>
            <a:off x="755640" y="2004840"/>
            <a:ext cx="6900840" cy="485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gh-Tech Dedicated AAC Tools</a:t>
            </a:r>
            <a:endParaRPr b="1" lang="en-US" sz="3600" spc="-1" strike="noStrike">
              <a:solidFill>
                <a:srgbClr val="006666"/>
              </a:solidFill>
              <a:latin typeface="Arial"/>
            </a:endParaRPr>
          </a:p>
        </p:txBody>
      </p:sp>
      <p:pic>
        <p:nvPicPr>
          <p:cNvPr id="136" name="Picture 12" descr="63small"/>
          <p:cNvPicPr/>
          <p:nvPr/>
        </p:nvPicPr>
        <p:blipFill>
          <a:blip r:embed="rId1"/>
          <a:stretch/>
        </p:blipFill>
        <p:spPr>
          <a:xfrm>
            <a:off x="755640" y="1916280"/>
            <a:ext cx="691200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756720" y="834120"/>
            <a:ext cx="8280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gh-Tech Non-Dedicated AAC Tools</a:t>
            </a:r>
            <a:endParaRPr b="1" lang="en-US" sz="3600" spc="-1" strike="noStrike">
              <a:solidFill>
                <a:srgbClr val="006666"/>
              </a:solidFill>
              <a:latin typeface="Arial"/>
            </a:endParaRPr>
          </a:p>
        </p:txBody>
      </p:sp>
      <p:pic>
        <p:nvPicPr>
          <p:cNvPr id="138" name="Picture 9" descr="64"/>
          <p:cNvPicPr/>
          <p:nvPr/>
        </p:nvPicPr>
        <p:blipFill>
          <a:blip r:embed="rId1"/>
          <a:stretch/>
        </p:blipFill>
        <p:spPr>
          <a:xfrm>
            <a:off x="696960" y="1955880"/>
            <a:ext cx="6970680" cy="490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4648320" y="3124080"/>
            <a:ext cx="2209680" cy="13366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pic>
        <p:nvPicPr>
          <p:cNvPr id="140" name="Picture 10" descr="65small"/>
          <p:cNvPicPr/>
          <p:nvPr/>
        </p:nvPicPr>
        <p:blipFill>
          <a:blip r:embed="rId1"/>
          <a:stretch/>
        </p:blipFill>
        <p:spPr>
          <a:xfrm>
            <a:off x="755640" y="1932120"/>
            <a:ext cx="6912000" cy="4925880"/>
          </a:xfrm>
          <a:prstGeom prst="rect">
            <a:avLst/>
          </a:prstGeom>
          <a:ln w="0">
            <a:noFill/>
          </a:ln>
        </p:spPr>
      </p:pic>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Software</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High-Tech AAC Systems</a:t>
            </a:r>
            <a:endParaRPr b="1" lang="en-US" sz="3600" spc="-1" strike="noStrike">
              <a:solidFill>
                <a:srgbClr val="006666"/>
              </a:solidFill>
              <a:latin typeface="Arial"/>
            </a:endParaRPr>
          </a:p>
        </p:txBody>
      </p:sp>
      <p:sp>
        <p:nvSpPr>
          <p:cNvPr id="143"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man-Technology Interfac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face allows the client to access the low-, medium, or high-tech device.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can be joysticks, keyboards, switches, mouses, etc.</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selection sets use visible symbols, so people with visual impairments need an alternative approach.</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4"/>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Arial"/>
            </a:endParaRPr>
          </a:p>
        </p:txBody>
      </p:sp>
      <p:sp>
        <p:nvSpPr>
          <p:cNvPr id="106" name="Rectangle 5"/>
          <p:cNvSpPr/>
          <p:nvPr/>
        </p:nvSpPr>
        <p:spPr>
          <a:xfrm>
            <a:off x="838080" y="2513160"/>
            <a:ext cx="377028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07" name="Picture 6" descr="gotalk"/>
          <p:cNvPicPr/>
          <p:nvPr/>
        </p:nvPicPr>
        <p:blipFill>
          <a:blip r:embed="rId1"/>
          <a:stretch/>
        </p:blipFill>
        <p:spPr>
          <a:xfrm>
            <a:off x="4761000" y="2523960"/>
            <a:ext cx="3770280" cy="3210120"/>
          </a:xfrm>
          <a:prstGeom prst="rect">
            <a:avLst/>
          </a:prstGeom>
          <a:ln w="0">
            <a:noFill/>
          </a:ln>
        </p:spPr>
      </p:pic>
      <p:sp>
        <p:nvSpPr>
          <p:cNvPr id="108" name="WordArt 8"/>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Retrieval Techniques</a:t>
            </a:r>
            <a:endParaRPr b="1" lang="en-US" sz="3600" spc="-1" strike="noStrike">
              <a:solidFill>
                <a:srgbClr val="006666"/>
              </a:solidFill>
              <a:latin typeface="Arial"/>
            </a:endParaRPr>
          </a:p>
        </p:txBody>
      </p:sp>
      <p:sp>
        <p:nvSpPr>
          <p:cNvPr id="145"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breviation expans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predi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comple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Retrieval Techniques</a:t>
            </a:r>
            <a:endParaRPr b="1" lang="en-US" sz="3600" spc="-1" strike="noStrike">
              <a:solidFill>
                <a:srgbClr val="006666"/>
              </a:solidFill>
              <a:latin typeface="Arial"/>
            </a:endParaRPr>
          </a:p>
        </p:txBody>
      </p:sp>
      <p:sp>
        <p:nvSpPr>
          <p:cNvPr id="147"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nstant phrases </a:t>
            </a:r>
            <a:r>
              <a:rPr b="0" lang="en-US" sz="2800" spc="-1" strike="noStrike">
                <a:solidFill>
                  <a:srgbClr val="003366"/>
                </a:solidFill>
                <a:latin typeface="Arial"/>
              </a:rPr>
              <a:t>are those used frequently for greetings, conversational repairs (e.g. “</a:t>
            </a:r>
            <a:r>
              <a:rPr b="0" i="1" lang="en-US" sz="2800" spc="-1" strike="noStrike">
                <a:solidFill>
                  <a:srgbClr val="003366"/>
                </a:solidFill>
                <a:latin typeface="Arial"/>
              </a:rPr>
              <a:t>that’s not what I mean</a:t>
            </a:r>
            <a:r>
              <a:rPr b="0" lang="en-US" sz="2800" spc="-1" strike="noStrike">
                <a:solidFill>
                  <a:srgbClr val="003366"/>
                </a:solidFill>
                <a:latin typeface="Arial"/>
              </a:rPr>
              <a:t>”), or similar actions; these are often encoded as single keystrokes, or near the beginning of a scanning matrix.</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ing of words, sentences or phrases on the basis of their meaning is known as </a:t>
            </a:r>
            <a:r>
              <a:rPr b="0" i="1" lang="en-US" sz="2800" spc="-1" strike="noStrike">
                <a:solidFill>
                  <a:srgbClr val="003366"/>
                </a:solidFill>
                <a:latin typeface="Arial"/>
              </a:rPr>
              <a:t>Semantic Encoding</a:t>
            </a:r>
            <a:r>
              <a:rPr b="0" lang="en-US" sz="2800" spc="-1" strike="noStrike">
                <a:solidFill>
                  <a:srgbClr val="003366"/>
                </a:solidFill>
                <a:latin typeface="Arial"/>
              </a:rPr>
              <a:t> or </a:t>
            </a:r>
            <a:r>
              <a:rPr b="0" i="1" lang="en-US" sz="2800" spc="-1" strike="noStrike">
                <a:solidFill>
                  <a:srgbClr val="003366"/>
                </a:solidFill>
                <a:latin typeface="Arial"/>
              </a:rPr>
              <a:t>Minspea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Retrieval Techniques</a:t>
            </a:r>
            <a:endParaRPr b="1" lang="en-US" sz="3600" spc="-1" strike="noStrike">
              <a:solidFill>
                <a:srgbClr val="006666"/>
              </a:solidFill>
              <a:latin typeface="Arial"/>
            </a:endParaRPr>
          </a:p>
        </p:txBody>
      </p:sp>
      <p:sp>
        <p:nvSpPr>
          <p:cNvPr id="149"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icture of an apple could mean “fo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icture of the sun could mean “mo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a picture of an apple and the sun could mean “What’s for breakfas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instream Technologies</a:t>
            </a:r>
            <a:endParaRPr b="1" lang="en-US" sz="3600" spc="-1" strike="noStrike">
              <a:solidFill>
                <a:srgbClr val="006666"/>
              </a:solidFill>
              <a:latin typeface="Arial"/>
            </a:endParaRPr>
          </a:p>
        </p:txBody>
      </p:sp>
      <p:sp>
        <p:nvSpPr>
          <p:cNvPr id="151"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cause of the asynchronous nature of e-mail, a conversation typically takes place at a slower ra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allows people to communicate without being present in the same physical lo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C users report that they enjoy establishing relationships with people who experience them first as people and second as having a disabil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instream Technologies</a:t>
            </a:r>
            <a:endParaRPr b="1" lang="en-US" sz="3600" spc="-1" strike="noStrike">
              <a:solidFill>
                <a:srgbClr val="006666"/>
              </a:solidFill>
              <a:latin typeface="Arial"/>
            </a:endParaRPr>
          </a:p>
        </p:txBody>
      </p:sp>
      <p:sp>
        <p:nvSpPr>
          <p:cNvPr id="153"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bile phone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phones get more open-source leads to a greater diversity in software tools such as text-to-speech, voice recognition, and downloadable user profil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meras being built into phones as help those CCN use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a:t>
            </a:r>
            <a:endParaRPr b="1" lang="en-US" sz="3600" spc="-1" strike="noStrike">
              <a:solidFill>
                <a:srgbClr val="006666"/>
              </a:solidFill>
              <a:latin typeface="Arial"/>
            </a:endParaRPr>
          </a:p>
        </p:txBody>
      </p:sp>
      <p:sp>
        <p:nvSpPr>
          <p:cNvPr id="155"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an AAC is selected, it is necessary to create an individual vocabulary set for programming into the dev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conversation categories are presented in the following pair of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 (1 of 2)</a:t>
            </a:r>
            <a:endParaRPr b="1" lang="en-US" sz="3600" spc="-1" strike="noStrike">
              <a:solidFill>
                <a:srgbClr val="006666"/>
              </a:solidFill>
              <a:latin typeface="Arial"/>
            </a:endParaRPr>
          </a:p>
        </p:txBody>
      </p:sp>
      <p:graphicFrame>
        <p:nvGraphicFramePr>
          <p:cNvPr id="157" name=""/>
          <p:cNvGraphicFramePr/>
          <p:nvPr/>
        </p:nvGraphicFramePr>
        <p:xfrm>
          <a:off x="766800" y="1967040"/>
          <a:ext cx="7692840" cy="4628880"/>
        </p:xfrm>
        <a:graphic>
          <a:graphicData uri="http://schemas.openxmlformats.org/drawingml/2006/table">
            <a:tbl>
              <a:tblPr/>
              <a:tblGrid>
                <a:gridCol w="3846600"/>
                <a:gridCol w="3846240"/>
              </a:tblGrid>
              <a:tr h="93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Catego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Sample Vocabula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04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Initiating and Interaction</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Hey, I’ve got something to sa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Check this ou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Come talk to me</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May I help you?</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04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Greetings</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Hello, I’m pleased to meet you.</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ere have you been? I’ve been waiting forever.</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at’s happening?</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93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sponse to greetings</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m fine.</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Great, how are you?</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Not so hot, and you?</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7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quests</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d like a_____________ (object, eve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d like to go to__________(place, event)</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 (2 of 2)</a:t>
            </a:r>
            <a:endParaRPr b="1" lang="en-US" sz="3600" spc="-1" strike="noStrike">
              <a:solidFill>
                <a:srgbClr val="006666"/>
              </a:solidFill>
              <a:latin typeface="Arial"/>
            </a:endParaRPr>
          </a:p>
        </p:txBody>
      </p:sp>
      <p:graphicFrame>
        <p:nvGraphicFramePr>
          <p:cNvPr id="159" name=""/>
          <p:cNvGraphicFramePr/>
          <p:nvPr/>
        </p:nvGraphicFramePr>
        <p:xfrm>
          <a:off x="766800" y="1967040"/>
          <a:ext cx="7692840" cy="4628880"/>
        </p:xfrm>
        <a:graphic>
          <a:graphicData uri="http://schemas.openxmlformats.org/drawingml/2006/table">
            <a:tbl>
              <a:tblPr/>
              <a:tblGrid>
                <a:gridCol w="3846600"/>
                <a:gridCol w="38462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Catego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Sample Vocabula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5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Information Exchange</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at time is i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 have a question.</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The concert begins at 8pm.</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06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Commenting</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 agree. / I disagree.</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at a great idea!</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Uh-huh.</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OK.</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9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Wrap-Up/farewell</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ell, gotta go. See you later.</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Bye, nice talking to you</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95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Conversational Repair</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Let’s start over.</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That’s not what I mea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You misunderstood me.</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a:t>
            </a:r>
            <a:endParaRPr b="1" lang="en-US" sz="3600" spc="-1" strike="noStrike">
              <a:solidFill>
                <a:srgbClr val="006666"/>
              </a:solidFill>
              <a:latin typeface="Arial"/>
            </a:endParaRPr>
          </a:p>
        </p:txBody>
      </p:sp>
      <p:sp>
        <p:nvSpPr>
          <p:cNvPr id="161"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cabulary needs to vary by context, communication mode, and individual characteristic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stuff a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aac.unl.edu/vbstud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Physical Skill Development</a:t>
            </a:r>
            <a:endParaRPr b="1" lang="en-US" sz="3600" spc="-1" strike="noStrike">
              <a:solidFill>
                <a:srgbClr val="006666"/>
              </a:solidFill>
              <a:latin typeface="Arial"/>
            </a:endParaRPr>
          </a:p>
        </p:txBody>
      </p:sp>
      <p:sp>
        <p:nvSpPr>
          <p:cNvPr id="163"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AC devices require physical skill to operate them effectivel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takes pract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important to distinguish between the physical skills required to use an AAC device from the communication skills needed to employ 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Time</a:t>
            </a:r>
            <a:endParaRPr b="1" lang="en-US" sz="3600" spc="-1" strike="noStrike">
              <a:solidFill>
                <a:srgbClr val="006666"/>
              </a:solidFill>
              <a:latin typeface="Arial"/>
            </a:endParaRPr>
          </a:p>
        </p:txBody>
      </p:sp>
      <p:pic>
        <p:nvPicPr>
          <p:cNvPr id="110" name="Picture 2" descr="Found0005.gif"/>
          <p:cNvPicPr/>
          <p:nvPr/>
        </p:nvPicPr>
        <p:blipFill>
          <a:blip r:embed="rId1"/>
          <a:stretch/>
        </p:blipFill>
        <p:spPr>
          <a:xfrm>
            <a:off x="1062000" y="2421000"/>
            <a:ext cx="6966000" cy="41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ommunicative Competence</a:t>
            </a:r>
            <a:endParaRPr b="1" lang="en-US" sz="3600" spc="-1" strike="noStrike">
              <a:solidFill>
                <a:srgbClr val="006666"/>
              </a:solidFill>
              <a:latin typeface="Arial"/>
            </a:endParaRPr>
          </a:p>
        </p:txBody>
      </p:sp>
      <p:sp>
        <p:nvSpPr>
          <p:cNvPr id="165"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s on many facto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ext in the HAAT mode affects competence in several way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rtner and his or her skill in listening, the environment of use, and the cultural factors all contribute to or detract from communicative competence.</a:t>
            </a:r>
            <a:endParaRPr b="0" lang="en-US" sz="2800" spc="-1" strike="noStrike">
              <a:solidFill>
                <a:srgbClr val="003366"/>
              </a:solidFill>
              <a:latin typeface="Arial"/>
            </a:endParaRPr>
          </a:p>
        </p:txBody>
      </p:sp>
      <p:grpSp>
        <p:nvGrpSpPr>
          <p:cNvPr id="166" name="Group 4"/>
          <p:cNvGrpSpPr/>
          <p:nvPr/>
        </p:nvGrpSpPr>
        <p:grpSpPr>
          <a:xfrm>
            <a:off x="7241040" y="260280"/>
            <a:ext cx="1846800" cy="1909080"/>
            <a:chOff x="7241040" y="260280"/>
            <a:chExt cx="1846800" cy="1909080"/>
          </a:xfrm>
        </p:grpSpPr>
        <p:sp>
          <p:nvSpPr>
            <p:cNvPr id="167" name="Rectangle 5"/>
            <p:cNvSpPr/>
            <p:nvPr/>
          </p:nvSpPr>
          <p:spPr>
            <a:xfrm rot="11620200">
              <a:off x="7335360" y="988920"/>
              <a:ext cx="1657440" cy="998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Oval 6"/>
            <p:cNvSpPr/>
            <p:nvPr/>
          </p:nvSpPr>
          <p:spPr>
            <a:xfrm>
              <a:off x="7811280" y="260280"/>
              <a:ext cx="899280" cy="1305360"/>
            </a:xfrm>
            <a:prstGeom prst="ellipse">
              <a:avLst/>
            </a:prstGeom>
            <a:solidFill>
              <a:srgbClr val="ff505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Line 7"/>
            <p:cNvSpPr/>
            <p:nvPr/>
          </p:nvSpPr>
          <p:spPr>
            <a:xfrm flipV="1">
              <a:off x="8232480" y="431640"/>
              <a:ext cx="337680" cy="44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8"/>
            <p:cNvSpPr/>
            <p:nvPr/>
          </p:nvSpPr>
          <p:spPr>
            <a:xfrm>
              <a:off x="8232480" y="874800"/>
              <a:ext cx="253080" cy="614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9"/>
            <p:cNvSpPr/>
            <p:nvPr/>
          </p:nvSpPr>
          <p:spPr>
            <a:xfrm>
              <a:off x="7811280" y="836640"/>
              <a:ext cx="420840" cy="37800"/>
            </a:xfrm>
            <a:prstGeom prst="line">
              <a:avLst/>
            </a:prstGeom>
            <a:ln w="572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172" name="WordArt 10"/>
            <p:cNvSpPr txBox="1"/>
            <p:nvPr/>
          </p:nvSpPr>
          <p:spPr>
            <a:xfrm>
              <a:off x="7947000" y="1126080"/>
              <a:ext cx="341640" cy="17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73" name="WordArt 11"/>
            <p:cNvSpPr txBox="1"/>
            <p:nvPr/>
          </p:nvSpPr>
          <p:spPr>
            <a:xfrm>
              <a:off x="8335080" y="857880"/>
              <a:ext cx="371520" cy="17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74" name="WordArt 12"/>
            <p:cNvSpPr txBox="1"/>
            <p:nvPr/>
          </p:nvSpPr>
          <p:spPr>
            <a:xfrm>
              <a:off x="7923240" y="414360"/>
              <a:ext cx="44928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75" name="WordArt 13"/>
            <p:cNvSpPr txBox="1"/>
            <p:nvPr/>
          </p:nvSpPr>
          <p:spPr>
            <a:xfrm rot="476400">
              <a:off x="7970040" y="1818000"/>
              <a:ext cx="341640" cy="17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Example</a:t>
            </a:r>
            <a:endParaRPr b="1" lang="en-US" sz="3600" spc="-1" strike="noStrike">
              <a:solidFill>
                <a:srgbClr val="006666"/>
              </a:solidFill>
              <a:latin typeface="Arial"/>
            </a:endParaRPr>
          </a:p>
        </p:txBody>
      </p:sp>
      <p:pic>
        <p:nvPicPr>
          <p:cNvPr id="177" name="Picture 4" descr="hawking"/>
          <p:cNvPicPr/>
          <p:nvPr/>
        </p:nvPicPr>
        <p:blipFill>
          <a:blip r:embed="rId1"/>
          <a:stretch/>
        </p:blipFill>
        <p:spPr>
          <a:xfrm>
            <a:off x="755640" y="1978200"/>
            <a:ext cx="7340760" cy="487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eck out the OATS site</a:t>
            </a:r>
            <a:endParaRPr b="1" lang="en-US" sz="3600" spc="-1" strike="noStrike">
              <a:solidFill>
                <a:srgbClr val="006666"/>
              </a:solidFill>
              <a:latin typeface="Arial"/>
            </a:endParaRPr>
          </a:p>
        </p:txBody>
      </p:sp>
      <p:sp>
        <p:nvSpPr>
          <p:cNvPr id="179"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www.oatsoft.org/Software/Software/by-category/Repository/Function/AAC</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Picture 13" descr="oats.jpg"/>
          <p:cNvPicPr/>
          <p:nvPr/>
        </p:nvPicPr>
        <p:blipFill>
          <a:blip r:embed="rId2"/>
          <a:stretch/>
        </p:blipFill>
        <p:spPr>
          <a:xfrm>
            <a:off x="1101600" y="4581360"/>
            <a:ext cx="776124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1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AC are “</a:t>
            </a:r>
            <a:r>
              <a:rPr b="0" i="1" lang="en-US" sz="3200" spc="-1" strike="noStrike">
                <a:solidFill>
                  <a:srgbClr val="003366"/>
                </a:solidFill>
                <a:latin typeface="Arial"/>
              </a:rPr>
              <a:t>designed to ameliorate the communication problems of people who have severe speech and language impairments across the age span</a:t>
            </a:r>
            <a:r>
              <a:rPr b="0" lang="en-US" sz="3200" spc="-1" strike="noStrike">
                <a:solidFill>
                  <a:srgbClr val="003366"/>
                </a:solidFill>
                <a:latin typeface="Arial"/>
              </a:rPr>
              <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14"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s important to remember tha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anguage</a:t>
            </a:r>
            <a:r>
              <a:rPr b="0" lang="en-US" sz="3200" spc="-1" strike="noStrike">
                <a:solidFill>
                  <a:srgbClr val="003366"/>
                </a:solidFill>
                <a:latin typeface="Arial"/>
              </a:rPr>
              <a:t> is any conventional system of arbitrary symbols organized according to a set of rules.</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eech</a:t>
            </a:r>
            <a:r>
              <a:rPr b="0" lang="en-US" sz="3200" spc="-1" strike="noStrike">
                <a:solidFill>
                  <a:srgbClr val="003366"/>
                </a:solidFill>
                <a:latin typeface="Arial"/>
              </a:rPr>
              <a:t> is the oral expression of langaug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16"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ysarthria</a:t>
            </a:r>
            <a:r>
              <a:rPr b="0" lang="en-US" sz="3200" spc="-1" strike="noStrike">
                <a:solidFill>
                  <a:srgbClr val="003366"/>
                </a:solidFill>
                <a:latin typeface="Arial"/>
              </a:rPr>
              <a:t> is a disorder of motor speech control resulting from central or peripheral nervous system damage that causes weakness, slowness, and a lack of coordination of the muscles necessary for speech produc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praxia</a:t>
            </a:r>
            <a:r>
              <a:rPr b="0" lang="en-US" sz="3200" spc="-1" strike="noStrike">
                <a:solidFill>
                  <a:srgbClr val="003366"/>
                </a:solidFill>
                <a:latin typeface="Arial"/>
              </a:rPr>
              <a:t> is a disorder affecting the coordination of motor movements involved in producing speech caused by a central nervous system dysfunc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phasia</a:t>
            </a:r>
            <a:r>
              <a:rPr b="0" lang="en-US" sz="3200" spc="-1" strike="noStrike">
                <a:solidFill>
                  <a:srgbClr val="003366"/>
                </a:solidFill>
                <a:latin typeface="Arial"/>
              </a:rPr>
              <a:t> is a language disorder that occurs as a result of a cerebral vascular accident to Traumatic Brain Injury (TBI). It can affect both expression of spoken and written language, e.g. some people can forget names, places, or events. Others may lose the ability to understand spoken langaug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2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ther conditions ameliorated by ACC</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rebral Palsy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is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k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inal Cord Injur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generative Disea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1-21T20:25:29Z</dcterms:modified>
  <cp:revision>201</cp:revision>
  <dc:subject/>
  <dc:title>Introduction to Assistive Technology (AT)</dc:title>
</cp:coreProperties>
</file>