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2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6EAA-E094-4624-84D2-E5E7A57C4B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8E8-646E-4BD7-98DF-B9E77A308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A300F618-F603-4D2C-B760-75583122BC9B}" type="slidenum">
              <a:rPr b="0" lang="en-US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690-215D-4CBE-BD45-BEC46D1F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EBA-6DC0-414B-B919-9559E6D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922-7BD3-417F-9DBE-083DD3C2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948-77C6-42DD-9357-B5E44493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5CDA-38BF-4AD7-9519-D1151822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C88-4F37-4AFE-B786-6A521C84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515-3961-40E6-8C05-86E052EE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9B33-402E-4963-AD20-58856C1F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570F-EDD9-4193-A9E2-03DF2EB4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2DD-7DE1-4CCB-BF92-DF46E9F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9F16-6432-4C56-9A4E-F7E629EA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55B-3B3C-46E3-80BE-3EF6ABD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0F8-7584-4623-A87F-82C0615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E39-1A81-4E54-9604-99E0A8A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46CE-2CE1-4EE9-8704-DA5F4C9B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E315-EA5D-4317-A39F-B9F29464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CD80-B05D-4E94-9F4E-B2DF8414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447-993A-4035-B246-3F2F3F9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7D7-DDCD-4957-BB2C-F20418D4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7ED-96BE-4F13-BC4E-DB1B236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AEF-5ABF-49B8-909F-A895AC0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14F-EE6D-4416-B7B9-D9891A0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73C-D496-4641-B3AE-94515D6A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CF4-EC48-4A72-9BC5-7B23301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4D6B-F8E0-4F23-9B50-B1AED8EE73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6D3-6B8D-44C3-83DA-70DBAA9D08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280" y="1557360"/>
            <a:ext cx="7812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uman/AT Interface</a:t>
            </a:r>
            <a:br>
              <a:rPr sz="60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k and Hussey, Chapter 7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mian Gordon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hardware by which a human operates or controls a device, e.g. keyboard, joysti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 known as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Dev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generate any number of independent inputs, from one to infinity (called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Dom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keyboard may have around 100 keys, each representing a different symbol, whereas a switch may one have one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examples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crete Inpu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considering a volume control typically there are an infinite number of values it can have. The number of positions of a mouse ball, or the positions of a steering wheel are also infin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examples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inuous Inpu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INTERFACES: CHARACTER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patial Characterist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verall physical size, dimensions, shape weigh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umber of available targets contained within the interf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ize of each targ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pacing between targe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 INTERFACES: CHARACTERIST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ivation and Deactivation Characteristic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thod of Activ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he way in which the user sends the sign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ffor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 amount of effort required to send the sign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place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ow far a control interface travels from its original posi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activation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pposite to activ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lexibility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 number of ways the controls can be opera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urability and Maintainability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ability and maintainability of the interf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Method of Activ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494080"/>
          <a:ext cx="8126280" cy="3887280"/>
        </p:xfrm>
        <a:graphic>
          <a:graphicData uri="http://schemas.openxmlformats.org/drawingml/2006/table">
            <a:tbl>
              <a:tblPr/>
              <a:tblGrid>
                <a:gridCol w="2168640"/>
                <a:gridCol w="3485880"/>
                <a:gridCol w="2471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r A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gnal Detect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564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Movement (eye, head, tongue, arms, leg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a. Mechanical control interface, activation by application of for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a. Joystick, keyboar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b. Electromagnetic control interface, light or radio activ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b. Light pointer, light detector, radio transmitt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c. Electrical control interface, detection of electrical signals from surface of bo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c. EMG, EOG, capacitive, Contact switch,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d. Proximity control interface, movement close to device nee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d. Heat-sensitive switch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Respir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inhalation, expiration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Pneumatic control interface, detects respiratory airflow or pressu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Puff and si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Phon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Sound or voice control interface, detects articulated sound or spee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Sound Switch, whistle switch, speech recogni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Eff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mount of effort required to send the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ort varies from zero to a relatively large amou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mechanical interface the force needed can be signific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n electromagnetic interface the effort in minimised, e.g. using a light po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isplac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far a control interface travels from its original position to its activated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unique to mechanical swit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 activated joysticks require some force but no displac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can be useful in terms of giving feedback to the us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What is Assistive Technology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51316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IE" sz="2000" spc="-1" strike="noStrike">
                <a:solidFill>
                  <a:srgbClr val="003366"/>
                </a:solidFill>
                <a:latin typeface="Arial"/>
              </a:rPr>
              <a:t>Any product, instrument, equipment or technical system used by a disabled or elderly person, made specially or existing on the market, aimed to prevent, compensate, relieve or neutralise the deficiency, the inability or the handicap</a:t>
            </a: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ternational ISO-9999 Standar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61000" y="2523960"/>
            <a:ext cx="3770280" cy="3210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20720" y="404640"/>
            <a:ext cx="612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all from a previous lectu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eactiv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site to activ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one third or one half of the force required for activ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umber of ways the controls can be oper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ending on the individual’s disability, they may have differences in strength, range of movement, muscle tone, sensation, or coordi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ces should be designed with this in mind, one person may press a button with their finger, another with their elbow, another with their thumb, another with a head po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Elements of the Interface:</a:t>
            </a:r>
            <a:br>
              <a:rPr sz="3200"/>
            </a:b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urability and Maintaina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bility and maintainability of the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often will the interface be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force will be used activating i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 the user have uncontrolled movem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 a more expensive metal switch be better in the long term than a cheaper plastic on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this be easily clean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 the interface need replacem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ir a loaner available while in repai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2349360"/>
            <a:ext cx="1727280" cy="411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screte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2873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ontinuous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the items available to select fr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can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s, letters and sent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mbols including computer ic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e draw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nthetic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dalities can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, e.g. letters on a keybo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ctile, e.g. Brai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ditory, e.g. spoken choices in auditory sc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ize, modality and type of selection set is chosen by the user’s needs and the desir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ivity outp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g. an individual with good spelling skills might use a standard keyboard (with ~100 keys) whereas an individual with poor language skills or limited physical control may use one of two picture symbol choi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889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ctivity Outpu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r can select using the control interface either b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 Sel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called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Meth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st Wee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384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dividual is able to use the control interface to randomly choose any of the items in the selection s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finger, voice, hand, eye, or some other body mov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any one time any selection item is equally available for se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ng on a keyboard, or even pick a flower from the garden are considered examples of direct se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direct selection requires refined, controlled movements, it may be difficult for individuals with special need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mediate steps are involved in making a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st common approach used i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ans that the selection set is presented on a display and is sequentially scanned by a cursor or a light on the displ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he appropriate item from the selection set is highlighted, the user is required to generate a sig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 the user wishes to generate the letter “K” from the following scanning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125424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2268360" y="3279600"/>
            <a:ext cx="100836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1620200">
            <a:off x="2458800" y="4074840"/>
            <a:ext cx="4248000" cy="18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708280"/>
            <a:ext cx="2305080" cy="2448000"/>
          </a:xfrm>
          <a:prstGeom prst="ellipse">
            <a:avLst/>
          </a:prstGeom>
          <a:solidFill>
            <a:srgbClr val="ff5050">
              <a:alpha val="99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43280" y="3030480"/>
            <a:ext cx="865440" cy="830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3860640"/>
            <a:ext cx="64944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789360"/>
            <a:ext cx="107928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11760" y="4332240"/>
            <a:ext cx="876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06800" y="3828960"/>
            <a:ext cx="9525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51280" y="2997360"/>
            <a:ext cx="1152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sis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476400">
            <a:off x="3971520" y="5628960"/>
            <a:ext cx="876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AT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357720"/>
            <a:ext cx="2160720" cy="10810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ce vs. Expe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3933720"/>
            <a:ext cx="129708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579920"/>
            <a:ext cx="1584360" cy="10810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5084640"/>
            <a:ext cx="16570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3500280"/>
            <a:ext cx="1584360" cy="10810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lf Ca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4005360"/>
            <a:ext cx="12970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1484280"/>
            <a:ext cx="2736720" cy="14400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Outpu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Interfa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32360" y="2420640"/>
            <a:ext cx="7192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5292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6300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86" name=""/>
          <p:cNvSpPr/>
          <p:nvPr/>
        </p:nvSpPr>
        <p:spPr>
          <a:xfrm>
            <a:off x="7308720" y="3279600"/>
            <a:ext cx="100836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31" name=""/>
          <p:cNvSpPr/>
          <p:nvPr/>
        </p:nvSpPr>
        <p:spPr>
          <a:xfrm>
            <a:off x="12589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76" name=""/>
          <p:cNvSpPr/>
          <p:nvPr/>
        </p:nvSpPr>
        <p:spPr>
          <a:xfrm>
            <a:off x="2268360" y="3933720"/>
            <a:ext cx="100836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1" name=""/>
          <p:cNvSpPr/>
          <p:nvPr/>
        </p:nvSpPr>
        <p:spPr>
          <a:xfrm>
            <a:off x="3276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8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1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8221680" y="333360"/>
            <a:ext cx="527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3" name=""/>
          <p:cNvSpPr/>
          <p:nvPr/>
        </p:nvSpPr>
        <p:spPr>
          <a:xfrm>
            <a:off x="7956720" y="1773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8066160" y="234792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itch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8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-0.00278 0.12593 E">
                                      <p:cBhvr>
                                        <p:cTn id="18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39948 -0.3176 E">
                                      <p:cBhvr>
                                        <p:cTn id="22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Group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 a few ways to speed up the process of getting to the letters you need (5 mins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w combine your ideas with everyone else in the class. (10 mins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003640" y="2565360"/>
            <a:ext cx="3456000" cy="2664000"/>
            <a:chOff x="5003640" y="2565360"/>
            <a:chExt cx="3456000" cy="2664000"/>
          </a:xfrm>
        </p:grpSpPr>
        <p:pic>
          <p:nvPicPr>
            <p:cNvPr id="820" name="" descr=""/>
            <p:cNvPicPr/>
            <p:nvPr/>
          </p:nvPicPr>
          <p:blipFill>
            <a:blip r:embed="rId1"/>
            <a:stretch/>
          </p:blipFill>
          <p:spPr>
            <a:xfrm>
              <a:off x="5003640" y="2565360"/>
              <a:ext cx="3384720" cy="26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5003640" y="2565360"/>
              <a:ext cx="3456000" cy="2664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dividual and Group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arliest record of wheelchairs date back to the 6th century, and were found inscribed on a stone slate in Chi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design the wheelchair for the 2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entury, consider the new materials, methods of propulsion, etc. (15 min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 combine your ideas together in pairs. (10 mins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ome up to the board and draw a pictur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56240" y="1916280"/>
            <a:ext cx="340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anning and direct selection require different physical and cognitive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anning requires good visual tracking skills, a high degree of attention, and the ability to seque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positive side it does require very little motor control to make a sele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 of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predi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/decrease scanning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direction of sc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rected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 hybrid approach in which the user can control the direction of scanning, vertical or horizont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s more steps than direct scanning, but less than single-switch scan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71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3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9" name=""/>
          <p:cNvSpPr/>
          <p:nvPr/>
        </p:nvSpPr>
        <p:spPr>
          <a:xfrm>
            <a:off x="125424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9" name=""/>
          <p:cNvSpPr/>
          <p:nvPr/>
        </p:nvSpPr>
        <p:spPr>
          <a:xfrm>
            <a:off x="2268360" y="3279600"/>
            <a:ext cx="100836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9" name=""/>
          <p:cNvSpPr/>
          <p:nvPr/>
        </p:nvSpPr>
        <p:spPr>
          <a:xfrm>
            <a:off x="3276720" y="3279600"/>
            <a:ext cx="1008000" cy="6480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69" name=""/>
          <p:cNvSpPr/>
          <p:nvPr/>
        </p:nvSpPr>
        <p:spPr>
          <a:xfrm>
            <a:off x="3276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388360" y="1557360"/>
            <a:ext cx="216000" cy="431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9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2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6800" y="111600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58920" y="328464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58920" y="393228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58920" y="4581360"/>
            <a:ext cx="7058160" cy="64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58920" y="5229360"/>
            <a:ext cx="7058160" cy="647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25892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6836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274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8292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91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299280" y="3284640"/>
            <a:ext cx="100944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307280" y="3284640"/>
            <a:ext cx="10098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47636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255600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5272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453708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50872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6553080" y="339408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7561440" y="339408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47636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700360" y="4041720"/>
            <a:ext cx="21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5272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550872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6553080" y="4041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56144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147636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627280" y="4689360"/>
            <a:ext cx="432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5272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453708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550872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553080" y="468936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7561440" y="468936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47636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556000" y="5373720"/>
            <a:ext cx="576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5272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53708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550872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553080" y="5373720"/>
            <a:ext cx="5400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@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561440" y="5373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#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3933720"/>
            <a:ext cx="1008000" cy="647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537080" y="4041720"/>
            <a:ext cx="53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596000" y="1125360"/>
            <a:ext cx="1368360" cy="57492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885080" y="836640"/>
            <a:ext cx="719280" cy="10796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67640" y="2349360"/>
            <a:ext cx="1008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777080" y="2492280"/>
            <a:ext cx="777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ystic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4" name=""/>
          <p:cNvSpPr/>
          <p:nvPr/>
        </p:nvSpPr>
        <p:spPr>
          <a:xfrm>
            <a:off x="8172360" y="1628640"/>
            <a:ext cx="14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28000" y="119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59640" y="2205000"/>
            <a:ext cx="196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1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000" autoRev="1" fill="hold"/>
                                        <p:tgtEl>
                                          <p:spTgt spid="1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22639 -0.22315 E">
                                      <p:cBhvr>
                                        <p:cTn id="4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dividual and Group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Josep Mora, designer from Barcelona, adapts this vehicle for people with reduced mobility.   There is a hand break to keep the vehicle standing on its own when stopp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213840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6920" y="3784680"/>
            <a:ext cx="3240360" cy="2516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88000" y="3357720"/>
            <a:ext cx="1913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irec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form of indirect selection is called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ded Acce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is approach the individual uses a distinct sequence of movements to input a code for each item in the selection s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g. Morse Code could be used to represent the letters (and the most common letter are the shortest codes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882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Morse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289320" cy="396108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151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36000" y="43131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rection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36000" y="47973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direct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So in summar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348000" y="2637000"/>
            <a:ext cx="2448000" cy="1439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867280" y="494028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116000" y="5013360"/>
            <a:ext cx="2448000" cy="1440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411280" y="3787920"/>
            <a:ext cx="1152720" cy="122364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580000" y="3787920"/>
            <a:ext cx="1295640" cy="115236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780000" y="5661000"/>
            <a:ext cx="2016000" cy="0"/>
          </a:xfrm>
          <a:prstGeom prst="line">
            <a:avLst/>
          </a:prstGeom>
          <a:ln w="8892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68360" y="4889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ctivity Outpu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364000" y="2349360"/>
            <a:ext cx="1727280" cy="4114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screte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64000" y="2873520"/>
            <a:ext cx="172728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ontinuous Inpu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236000" y="43131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irection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236000" y="4797360"/>
            <a:ext cx="1726920" cy="411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direct Selec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ces should be designed to be accessed by more than one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f we can make them so they work with as many approaches as possible, we are adhering to the principal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iversal Desig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826920" y="1844640"/>
            <a:ext cx="7490160" cy="4942080"/>
          </a:xfrm>
          <a:prstGeom prst="horizontalScroll">
            <a:avLst>
              <a:gd name="adj" fmla="val 12500"/>
            </a:avLst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 Principles of Universal Design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1847520" y="2728800"/>
            <a:ext cx="7116840" cy="3292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table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in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and Intui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ptible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lerance for E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Physical Eff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and Space for Approach and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ttempting to adapt a computer, the key philosophical approach is to begin with the simplest modifications possible and then progress to more complex 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r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parent Ac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used to refer to two fundamental conce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0% of the functions of the computer must be adapt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application software should be equally us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1620200">
            <a:off x="3060720" y="4220640"/>
            <a:ext cx="5472000" cy="187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AT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1052640"/>
            <a:ext cx="3888000" cy="40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13440" y="1382760"/>
            <a:ext cx="103680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3211560"/>
            <a:ext cx="93492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068720" y="3212640"/>
            <a:ext cx="1944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788160" y="2851200"/>
            <a:ext cx="9525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61080" y="3683160"/>
            <a:ext cx="87624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 rot="203400">
            <a:off x="4859280" y="5556240"/>
            <a:ext cx="18003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421000"/>
            <a:ext cx="936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5440" y="1773360"/>
            <a:ext cx="936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1125360"/>
            <a:ext cx="1152720" cy="36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572000" y="1125360"/>
            <a:ext cx="792000" cy="21600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5080" y="2781360"/>
            <a:ext cx="144360" cy="79200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2781360"/>
            <a:ext cx="144720" cy="79200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9440" y="2637000"/>
            <a:ext cx="431640" cy="43164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653080" y="1486080"/>
            <a:ext cx="216000" cy="2872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860720" y="2133720"/>
            <a:ext cx="215640" cy="2872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76720" y="2133720"/>
            <a:ext cx="216000" cy="28728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53080" y="2133720"/>
            <a:ext cx="216000" cy="2872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2708280"/>
            <a:ext cx="432000" cy="237636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511440" y="1125360"/>
            <a:ext cx="1060560" cy="1582920"/>
          </a:xfrm>
          <a:prstGeom prst="line">
            <a:avLst/>
          </a:prstGeom>
          <a:ln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2421000"/>
            <a:ext cx="936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, in other words, all keyboard keys, including modifiers like SHIFT, CTRL, ALT, and all the mouse functions, like POINT, CLICK and DRAG must be available in the adapted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are using Microsoft Word, it should work exactly the same with or without modific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1403280" y="2378160"/>
            <a:ext cx="6708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grpSp>
        <p:nvGrpSpPr>
          <p:cNvPr id="1224" name=""/>
          <p:cNvGrpSpPr/>
          <p:nvPr/>
        </p:nvGrpSpPr>
        <p:grpSpPr>
          <a:xfrm>
            <a:off x="1332000" y="2365200"/>
            <a:ext cx="6727680" cy="4376880"/>
            <a:chOff x="1332000" y="2365200"/>
            <a:chExt cx="6727680" cy="4376880"/>
          </a:xfrm>
        </p:grpSpPr>
        <p:pic>
          <p:nvPicPr>
            <p:cNvPr id="1225" name="" descr=""/>
            <p:cNvPicPr/>
            <p:nvPr/>
          </p:nvPicPr>
          <p:blipFill>
            <a:blip r:embed="rId2"/>
            <a:stretch/>
          </p:blipFill>
          <p:spPr>
            <a:xfrm>
              <a:off x="1332000" y="2365200"/>
              <a:ext cx="6727680" cy="43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2916360" y="3357720"/>
              <a:ext cx="21564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48360" y="2781360"/>
              <a:ext cx="21564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72000" y="4581360"/>
              <a:ext cx="216000" cy="287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00720" y="4581360"/>
              <a:ext cx="216000" cy="287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52720" y="4629240"/>
              <a:ext cx="21564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95440" y="5373720"/>
              <a:ext cx="216000" cy="287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761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2147760" y="2660760"/>
            <a:ext cx="4846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dapting the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r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-screen Keyboa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fers to a keyboard emulation presented on-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single-switch users the on-screen keyboard can be a scanning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 Aids Availabl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rge Button Telephone with digital answer mach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ng Flash Am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mo Mi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ce Dia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p Pa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3" name="Content Placeholder 14" descr="Voice Dialer.jpg"/>
          <p:cNvPicPr/>
          <p:nvPr/>
        </p:nvPicPr>
        <p:blipFill>
          <a:blip r:embed="rId1"/>
          <a:stretch/>
        </p:blipFill>
        <p:spPr>
          <a:xfrm>
            <a:off x="6781680" y="144792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6" descr="Amplicom_ringflash_100_(AMP)_116095.jpg"/>
          <p:cNvPicPr/>
          <p:nvPr/>
        </p:nvPicPr>
        <p:blipFill>
          <a:blip r:embed="rId2"/>
          <a:stretch/>
        </p:blipFill>
        <p:spPr>
          <a:xfrm>
            <a:off x="7061040" y="4648320"/>
            <a:ext cx="2082960" cy="208260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7" descr="Memo_Minder_(9551)_NRS.jpg"/>
          <p:cNvPicPr/>
          <p:nvPr/>
        </p:nvPicPr>
        <p:blipFill>
          <a:blip r:embed="rId3"/>
          <a:stretch/>
        </p:blipFill>
        <p:spPr>
          <a:xfrm>
            <a:off x="4572000" y="2492280"/>
            <a:ext cx="1066680" cy="13334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8" descr="StepPad_(LIB)_227.jpg"/>
          <p:cNvPicPr/>
          <p:nvPr/>
        </p:nvPicPr>
        <p:blipFill>
          <a:blip r:embed="rId4"/>
          <a:stretch/>
        </p:blipFill>
        <p:spPr>
          <a:xfrm>
            <a:off x="5181480" y="4749840"/>
            <a:ext cx="1524240" cy="184788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5" descr="Amplicom_PT_58_with_digital_answer_machine_(AMP)_116089.jpg"/>
          <p:cNvPicPr/>
          <p:nvPr/>
        </p:nvPicPr>
        <p:blipFill>
          <a:blip r:embed="rId5"/>
          <a:stretch/>
        </p:blipFill>
        <p:spPr>
          <a:xfrm>
            <a:off x="5715000" y="320040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ision and Reading Aids Availabl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ktop Top or Screen Magnif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p Automatic Page Tur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P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Reading Softw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 bed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festyle – Large Game C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0" name="Content Placeholder 12" descr="Rubbermaid_OverBed_Table_(PRO)_1205.jpg"/>
          <p:cNvPicPr/>
          <p:nvPr/>
        </p:nvPicPr>
        <p:blipFill>
          <a:blip r:embed="rId1"/>
          <a:stretch/>
        </p:blipFill>
        <p:spPr>
          <a:xfrm>
            <a:off x="5257800" y="4994280"/>
            <a:ext cx="1339920" cy="1674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14" descr="Desk_top_magnifier_(HCA)_10153.jpg"/>
          <p:cNvPicPr/>
          <p:nvPr/>
        </p:nvPicPr>
        <p:blipFill>
          <a:blip r:embed="rId2"/>
          <a:stretch/>
        </p:blipFill>
        <p:spPr>
          <a:xfrm>
            <a:off x="4211640" y="327672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15" descr="Flip_Automatic_Page_Turner_(LIB)_9451.jpg"/>
          <p:cNvPicPr/>
          <p:nvPr/>
        </p:nvPicPr>
        <p:blipFill>
          <a:blip r:embed="rId3"/>
          <a:stretch/>
        </p:blipFill>
        <p:spPr>
          <a:xfrm>
            <a:off x="6629400" y="2971800"/>
            <a:ext cx="2278080" cy="2278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6" descr="Reading Pen.jpg"/>
          <p:cNvPicPr/>
          <p:nvPr/>
        </p:nvPicPr>
        <p:blipFill>
          <a:blip r:embed="rId4"/>
          <a:stretch/>
        </p:blipFill>
        <p:spPr>
          <a:xfrm>
            <a:off x="6934320" y="5257800"/>
            <a:ext cx="1888920" cy="141768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17" descr="Reading_Lecturns_(QED)_9848.jpg"/>
          <p:cNvPicPr/>
          <p:nvPr/>
        </p:nvPicPr>
        <p:blipFill>
          <a:blip r:embed="rId5"/>
          <a:stretch/>
        </p:blipFill>
        <p:spPr>
          <a:xfrm>
            <a:off x="7164360" y="1265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8" descr="imagesCA6PPV9N.jpg"/>
          <p:cNvPicPr/>
          <p:nvPr/>
        </p:nvPicPr>
        <p:blipFill>
          <a:blip r:embed="rId6"/>
          <a:stretch/>
        </p:blipFill>
        <p:spPr>
          <a:xfrm>
            <a:off x="5486400" y="2587680"/>
            <a:ext cx="1238400" cy="10573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9" descr="cards.jpg"/>
          <p:cNvPicPr/>
          <p:nvPr/>
        </p:nvPicPr>
        <p:blipFill>
          <a:blip r:embed="rId7"/>
          <a:stretch/>
        </p:blipFill>
        <p:spPr>
          <a:xfrm>
            <a:off x="3352680" y="58053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earing and Listening Aids Availabl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elephone Amplifi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lashing Door Bel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Under Pillow Vibrating Travel Alarm Cloc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Alarm Cloc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Watch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iquid Level Indicato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Thermomet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ice Output Microwav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9" name="Content Placeholder 15" descr="Flashing%20Doorbell%20(NRS)%201864.jpg"/>
          <p:cNvPicPr/>
          <p:nvPr/>
        </p:nvPicPr>
        <p:blipFill>
          <a:blip r:embed="rId1"/>
          <a:stretch/>
        </p:blipFill>
        <p:spPr>
          <a:xfrm>
            <a:off x="7696080" y="1447920"/>
            <a:ext cx="1059120" cy="13222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6" descr="Under Pillow Vibration Alarm Clock.jpg"/>
          <p:cNvPicPr/>
          <p:nvPr/>
        </p:nvPicPr>
        <p:blipFill>
          <a:blip r:embed="rId2"/>
          <a:stretch/>
        </p:blipFill>
        <p:spPr>
          <a:xfrm>
            <a:off x="5638680" y="4278240"/>
            <a:ext cx="1428840" cy="59076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17" descr="Chrome Talking Watch.jpg"/>
          <p:cNvPicPr/>
          <p:nvPr/>
        </p:nvPicPr>
        <p:blipFill>
          <a:blip r:embed="rId3"/>
          <a:stretch/>
        </p:blipFill>
        <p:spPr>
          <a:xfrm>
            <a:off x="5724360" y="5168880"/>
            <a:ext cx="1000440" cy="14288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8" descr="Liquid Level Indicator.jpg"/>
          <p:cNvPicPr/>
          <p:nvPr/>
        </p:nvPicPr>
        <p:blipFill>
          <a:blip r:embed="rId4"/>
          <a:stretch/>
        </p:blipFill>
        <p:spPr>
          <a:xfrm>
            <a:off x="7543800" y="388620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19" descr="Talking Alarm Clock.jpg"/>
          <p:cNvPicPr/>
          <p:nvPr/>
        </p:nvPicPr>
        <p:blipFill>
          <a:blip r:embed="rId5"/>
          <a:stretch/>
        </p:blipFill>
        <p:spPr>
          <a:xfrm>
            <a:off x="7315200" y="297180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0" descr="Telephone Amplifer.jpg"/>
          <p:cNvPicPr/>
          <p:nvPr/>
        </p:nvPicPr>
        <p:blipFill>
          <a:blip r:embed="rId6"/>
          <a:stretch/>
        </p:blipFill>
        <p:spPr>
          <a:xfrm>
            <a:off x="6048360" y="2432160"/>
            <a:ext cx="971640" cy="14284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1" descr="Voice Output Thermometer.jpg"/>
          <p:cNvPicPr/>
          <p:nvPr/>
        </p:nvPicPr>
        <p:blipFill>
          <a:blip r:embed="rId7"/>
          <a:stretch/>
        </p:blipFill>
        <p:spPr>
          <a:xfrm>
            <a:off x="442764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22" descr="Talking Microwave Oven.jpg"/>
          <p:cNvPicPr/>
          <p:nvPr/>
        </p:nvPicPr>
        <p:blipFill>
          <a:blip r:embed="rId8"/>
          <a:stretch/>
        </p:blipFill>
        <p:spPr>
          <a:xfrm>
            <a:off x="6748560" y="5433840"/>
            <a:ext cx="239544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ting/Positioning/Mobility and Transportation Aids Availabl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8" name="Content Placeholder 10" descr="ramps.jpg"/>
          <p:cNvPicPr/>
          <p:nvPr/>
        </p:nvPicPr>
        <p:blipFill>
          <a:blip r:embed="rId1"/>
          <a:stretch/>
        </p:blipFill>
        <p:spPr>
          <a:xfrm>
            <a:off x="5092560" y="3689280"/>
            <a:ext cx="774720" cy="103500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4" descr="wheelchair.jpg"/>
          <p:cNvPicPr/>
          <p:nvPr/>
        </p:nvPicPr>
        <p:blipFill>
          <a:blip r:embed="rId2"/>
          <a:stretch/>
        </p:blipFill>
        <p:spPr>
          <a:xfrm>
            <a:off x="5940360" y="2611440"/>
            <a:ext cx="1562040" cy="160956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electronic wheelchair.jpg"/>
          <p:cNvPicPr/>
          <p:nvPr/>
        </p:nvPicPr>
        <p:blipFill>
          <a:blip r:embed="rId3"/>
          <a:stretch/>
        </p:blipFill>
        <p:spPr>
          <a:xfrm>
            <a:off x="7642080" y="155736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6" descr="imagesCALYTMYM.jpg"/>
          <p:cNvPicPr/>
          <p:nvPr/>
        </p:nvPicPr>
        <p:blipFill>
          <a:blip r:embed="rId4"/>
          <a:stretch/>
        </p:blipFill>
        <p:spPr>
          <a:xfrm>
            <a:off x="7236000" y="4923000"/>
            <a:ext cx="1819080" cy="181908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7" descr="power wheelchair.jpg"/>
          <p:cNvPicPr/>
          <p:nvPr/>
        </p:nvPicPr>
        <p:blipFill>
          <a:blip r:embed="rId5"/>
          <a:stretch/>
        </p:blipFill>
        <p:spPr>
          <a:xfrm>
            <a:off x="7597800" y="3110040"/>
            <a:ext cx="1295280" cy="168732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elchai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ic Powered Wheelchai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ed Scoo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am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ible Veh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4" name="Picture 8" descr="van.jpg"/>
          <p:cNvPicPr/>
          <p:nvPr/>
        </p:nvPicPr>
        <p:blipFill>
          <a:blip r:embed="rId6"/>
          <a:stretch/>
        </p:blipFill>
        <p:spPr>
          <a:xfrm>
            <a:off x="3924360" y="5157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11" descr="seating.jpg"/>
          <p:cNvPicPr/>
          <p:nvPr/>
        </p:nvPicPr>
        <p:blipFill>
          <a:blip r:embed="rId7"/>
          <a:stretch/>
        </p:blipFill>
        <p:spPr>
          <a:xfrm>
            <a:off x="6012000" y="5162400"/>
            <a:ext cx="1152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/AT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e boundary shared by interacting components in a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in which 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e essence of this interaction is communication or the exchange of information back and forth across the bounda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92468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dividual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 next week can you find out what GIDEIs are? and come up with a few exampl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5097600" y="2565360"/>
            <a:ext cx="3362040" cy="27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IDEIs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lements of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 INTERF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hardware by which a human operates or controls a device, e.g. keyboard, joysti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se are the items available to select fr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METHO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user can select using the control interface either by Direct Selection or Indirect Se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18:16:30Z</dcterms:created>
  <dc:creator>Damian Gordon</dc:creator>
  <dc:description/>
  <dc:language>en-US</dc:language>
  <cp:lastModifiedBy>Dept of Maths</cp:lastModifiedBy>
  <dcterms:modified xsi:type="dcterms:W3CDTF">2010-10-11T11:51:11Z</dcterms:modified>
  <cp:revision>147</cp:revision>
  <dc:subject/>
  <dc:title>Introduction to Assistive Technology (AT)</dc:title>
</cp:coreProperties>
</file>