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12.wmf" ContentType="image/x-wmf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D472-C43A-4CEF-B505-3068C57D17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7D2F-1F22-4283-A7D1-6647D3699D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2906681C-C896-4DC1-B14E-706872561CFC}" type="slidenum">
              <a:rPr b="0" lang="en-US" sz="1200" spc="-1" strike="noStrike">
                <a:solidFill>
                  <a:srgbClr val="0033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E7E-ECA8-4BC2-B11C-00905E95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E934-EDB6-4A4B-B2C9-955D4394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E3A4-AD3B-4350-9164-7B5B0681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9DF7-C4E6-46BF-9C68-014B58D3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6CA5-0CDB-46E8-8F67-458A9CC6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4BDA-F29D-4B2C-94D2-4E9ABDD9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419A-C020-401F-87F4-38B1B97A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B9AB-4A31-48DA-B6DF-73F4DB49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0355-00A8-435E-BD77-EF4C8915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1754-2B48-47DA-B93B-90C45507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BBBC-3E93-49F1-A197-7974ECB6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4B2-A66A-4D1A-9A06-F421F0D4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EB2C-2671-4811-A221-77CEAF01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57F3-40CD-431E-B6A0-D127134C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CF59-30CD-4818-9C44-2E79ADD4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E50F-666D-412A-857E-261F12C4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0C79-6723-402F-981E-74741E70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D00-101B-4C77-81FA-22D671B9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9AE-BA47-41B2-9373-3D447EC4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1BC-5E8E-4542-A4C8-2558013F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653C-0F91-4E71-9036-26E4757E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5A42-C76C-4579-A634-BEEC21C6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345-BA1C-46C1-B1BA-69B8DA0B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5519-4933-44CA-A464-61B3D856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713D-87BF-47AF-98D2-6E5FDB2EFA5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AE09-1B6C-4F25-A8B3-B77C4036B7D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1280" y="1557360"/>
            <a:ext cx="78123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Human/AT Interface</a:t>
            </a:r>
            <a:br>
              <a:rPr sz="60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ok and Hussey, Chapter 7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amian Gordon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2637000"/>
            <a:ext cx="2448000" cy="14396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4940280"/>
            <a:ext cx="2448000" cy="1440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5013360"/>
            <a:ext cx="2448000" cy="1440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411280" y="3787920"/>
            <a:ext cx="1152720" cy="122364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80000" y="3787920"/>
            <a:ext cx="1295640" cy="115236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5661000"/>
            <a:ext cx="2016000" cy="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ROL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hardware by which a human operates or controls a device, e.g. keyboard, joystic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so known as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put Devi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can generate any number of independent inputs, from one to infinity (called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put Domai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ROL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keyboard may have around 100 keys, each representing a different symbol, whereas a switch may one have one sig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are examples of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crete Inpu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ROL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considering a volume control typically there are an infinite number of values it can have. The number of positions of a mouse ball, or the positions of a steering wheel are also infin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are examples of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tinuous Inpu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388280" cy="51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 INTERFACES: CHARACTER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patial Characterist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verall physical size, dimensions, shape weigh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umber of available targets contained within the interfa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ize of each targe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pacing between targe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764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ROL INTERFACES: CHARACTERISTIC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ctivation and Deactivation Characteristic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ethod of Activ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The way in which the user sends the signa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ffort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he amount of effort required to send the signa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isplacement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How far a control interface travels from its original posi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eactivation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Opposite to activ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lexibility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he number of ways the controls can be opera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urability and Maintainability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urability and maintainability of the interfac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Elements of the Interface:</a:t>
            </a:r>
            <a:br>
              <a:rPr sz="3200"/>
            </a:br>
            <a:r>
              <a:rPr b="0" lang="en-IE" sz="3200" spc="-1" strike="noStrike">
                <a:solidFill>
                  <a:srgbClr val="006666"/>
                </a:solidFill>
                <a:latin typeface="Arial"/>
              </a:rPr>
              <a:t>Method of Activ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38080" y="2494080"/>
          <a:ext cx="8126280" cy="3887280"/>
        </p:xfrm>
        <a:graphic>
          <a:graphicData uri="http://schemas.openxmlformats.org/drawingml/2006/table">
            <a:tbl>
              <a:tblPr/>
              <a:tblGrid>
                <a:gridCol w="2168640"/>
                <a:gridCol w="3485880"/>
                <a:gridCol w="2471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ser Ac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gnal Detecte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ampl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5641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 Movement (eye, head, tongue, arms, leg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a. Mechanical control interface, activation by application of forc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a. Joystick, keyboar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b. Electromagnetic control interface, light or radio activ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b. Light pointer, light detector, radio transmitte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c. Electrical control interface, detection of electrical signals from surface of bod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c. EMG, EOG, capacitive, Contact switch,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d. Proximity control interface, movement close to device need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d. Heat-sensitive switche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Respir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inhalation, expiration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Pneumatic control interface, detects respiratory airflow or pressur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Puff and sip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 Phon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 Sound or voice control interface, detects articulated sound or speec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 Sound Switch, whistle switch, speech recogni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Elements of the Interface:</a:t>
            </a:r>
            <a:br>
              <a:rPr sz="3200"/>
            </a:br>
            <a:r>
              <a:rPr b="0" lang="en-IE" sz="3200" spc="-1" strike="noStrike">
                <a:solidFill>
                  <a:srgbClr val="006666"/>
                </a:solidFill>
                <a:latin typeface="Arial"/>
              </a:rPr>
              <a:t>Effor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mount of effort required to send the sig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fort varies from zero to a relatively large amou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a mechanical interface the force needed can be significa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an electromagnetic interface the effort in minimised, e.g. using a light poin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Elements of the Interface:</a:t>
            </a:r>
            <a:br>
              <a:rPr sz="3200"/>
            </a:br>
            <a:r>
              <a:rPr b="0" lang="en-IE" sz="3200" spc="-1" strike="noStrike">
                <a:solidFill>
                  <a:srgbClr val="006666"/>
                </a:solidFill>
                <a:latin typeface="Arial"/>
              </a:rPr>
              <a:t>Displac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far a control interface travels from its original position to its activated posi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 unique to mechanical switch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ce activated joysticks require some force but no displac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can be useful in terms of giving feedback to the us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What is Assistive Technology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513160"/>
            <a:ext cx="377028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IE" sz="2000" spc="-1" strike="noStrike">
                <a:solidFill>
                  <a:srgbClr val="003366"/>
                </a:solidFill>
                <a:latin typeface="Arial"/>
              </a:rPr>
              <a:t>Any product, instrument, equipment or technical system used by a disabled or elderly person, made specially or existing on the market, aimed to prevent, compensate, relieve or neutralise the deficiency, the inability or the handicap</a:t>
            </a: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International ISO-9999 Standar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61000" y="2523960"/>
            <a:ext cx="3770280" cy="3210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620720" y="404640"/>
            <a:ext cx="6120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call from a previous lectu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Elements of the Interface:</a:t>
            </a:r>
            <a:br>
              <a:rPr sz="3200"/>
            </a:br>
            <a:r>
              <a:rPr b="0" lang="en-IE" sz="3200" spc="-1" strike="noStrike">
                <a:solidFill>
                  <a:srgbClr val="006666"/>
                </a:solidFill>
                <a:latin typeface="Arial"/>
              </a:rPr>
              <a:t>Deactiv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posite to activ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cally one third or one half of the force required for activ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Elements of the Interface:</a:t>
            </a:r>
            <a:br>
              <a:rPr sz="3200"/>
            </a:br>
            <a:r>
              <a:rPr b="0" lang="en-IE" sz="3200" spc="-1" strike="noStrike">
                <a:solidFill>
                  <a:srgbClr val="006666"/>
                </a:solidFill>
                <a:latin typeface="Arial"/>
              </a:rPr>
              <a:t>Flexibili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number of ways the controls can be opera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pending on the individual’s disability, they may have differences in strength, range of movement, muscle tone, sensation, or coordin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ices should be designed with this in mind, one person may press a button with their finger, another with their elbow, another with their thumb, another with a head poin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764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Elements of the Interface:</a:t>
            </a:r>
            <a:br>
              <a:rPr sz="3200"/>
            </a:br>
            <a:r>
              <a:rPr b="0" lang="en-IE" sz="3200" spc="-1" strike="noStrike">
                <a:solidFill>
                  <a:srgbClr val="006666"/>
                </a:solidFill>
                <a:latin typeface="Arial"/>
              </a:rPr>
              <a:t>Durability and Maintainabili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rability and maintainability of the interfa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often will the interface be u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much force will be used activating i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ll the user have uncontrolled movement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ll a more expensive metal switch be better in the long term than a cheaper plastic on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this be easily clean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es the interface need replacement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their a loaner available while in repair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8000" y="2637000"/>
            <a:ext cx="2448000" cy="14396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940280"/>
            <a:ext cx="2448000" cy="1440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5013360"/>
            <a:ext cx="2448000" cy="1440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411280" y="3787920"/>
            <a:ext cx="1152720" cy="122364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80000" y="3787920"/>
            <a:ext cx="1295640" cy="115236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0" y="5661000"/>
            <a:ext cx="2016000" cy="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64000" y="2349360"/>
            <a:ext cx="1727280" cy="4114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Discrete Input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64000" y="2873520"/>
            <a:ext cx="1727280" cy="411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Continuous Input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ION 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are the items available to select fr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ION 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can 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s, letters and sente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ymbols including computer ic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ne draw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ynthetic spee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ION 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odalities can 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sual, e.g. letters on a keyboa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ctile, e.g. Brai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ditory, e.g. spoken choices in auditory sc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ION 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ize, modality and type of selection set is chosen by the user’s needs and the desire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ctivity outp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.g. an individual with good spelling skills might use a standard keyboard (with ~100 keys) whereas an individual with poor language skills or limited physical control may use one of two picture symbol choic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2637000"/>
            <a:ext cx="2448000" cy="14396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4940280"/>
            <a:ext cx="2448000" cy="1440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5013360"/>
            <a:ext cx="2448000" cy="1440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411280" y="3787920"/>
            <a:ext cx="1152720" cy="122364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80000" y="3787920"/>
            <a:ext cx="1295640" cy="115236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80000" y="5661000"/>
            <a:ext cx="2016000" cy="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4889520"/>
            <a:ext cx="1727280" cy="411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ctivity Outpu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ION METH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user can select using the control interface either by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rect Sele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direct Sele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are called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lection Metho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st Wee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638496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rec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ndividual is able to use the control interface to randomly choose any of the items in the selection s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a finger, voice, hand, eye, or some other body mov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any one time any selection item is equally available for selec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rec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ng on a keyboard, or even pick a flower from the garden are considered examples of direct selec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 direct selection requires refined, controlled movements, it may be difficult for individuals with special need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direc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mediate steps are involved in making a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ost common approach used in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direc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ans that the selection set is presented on a display and is sequentially scanned by a cursor or a light on the displ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the appropriate item from the selection set is highlighted, the user is required to generate a sig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388280" cy="51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direc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.g. the user wishes to generate the letter “K” from the following scanning arr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1254240" y="3279600"/>
            <a:ext cx="1008000" cy="6480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8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61" name=""/>
          <p:cNvSpPr/>
          <p:nvPr/>
        </p:nvSpPr>
        <p:spPr>
          <a:xfrm>
            <a:off x="2268360" y="3279600"/>
            <a:ext cx="1008360" cy="6480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3279600"/>
            <a:ext cx="1008000" cy="6480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08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11620200">
            <a:off x="2458800" y="4074840"/>
            <a:ext cx="4248000" cy="1873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2708280"/>
            <a:ext cx="2305080" cy="2448000"/>
          </a:xfrm>
          <a:prstGeom prst="ellipse">
            <a:avLst/>
          </a:prstGeom>
          <a:solidFill>
            <a:srgbClr val="ff5050">
              <a:alpha val="99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643280" y="3030480"/>
            <a:ext cx="865440" cy="830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3860640"/>
            <a:ext cx="64944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789360"/>
            <a:ext cx="107928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11760" y="4332240"/>
            <a:ext cx="87624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um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06800" y="3828960"/>
            <a:ext cx="95256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ctiv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51280" y="2997360"/>
            <a:ext cx="115236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ssisti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 rot="476400">
            <a:off x="3971520" y="5628960"/>
            <a:ext cx="87624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t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AT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3357720"/>
            <a:ext cx="2160720" cy="108108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ice vs. Exper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87640" y="3933720"/>
            <a:ext cx="129708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579920"/>
            <a:ext cx="1584360" cy="108108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35280" y="5084640"/>
            <a:ext cx="165708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32720" y="3500280"/>
            <a:ext cx="1584360" cy="108108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elf Car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isur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435640" y="4005360"/>
            <a:ext cx="129708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1484280"/>
            <a:ext cx="2736720" cy="14400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 Outpu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Interfa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32360" y="2420640"/>
            <a:ext cx="71928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51" name=""/>
          <p:cNvSpPr/>
          <p:nvPr/>
        </p:nvSpPr>
        <p:spPr>
          <a:xfrm>
            <a:off x="4284720" y="3279600"/>
            <a:ext cx="1008000" cy="6480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53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96" name=""/>
          <p:cNvSpPr/>
          <p:nvPr/>
        </p:nvSpPr>
        <p:spPr>
          <a:xfrm>
            <a:off x="5292720" y="3279600"/>
            <a:ext cx="1008000" cy="6480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8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41" name=""/>
          <p:cNvSpPr/>
          <p:nvPr/>
        </p:nvSpPr>
        <p:spPr>
          <a:xfrm>
            <a:off x="6300720" y="3279600"/>
            <a:ext cx="1008000" cy="6480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3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86" name=""/>
          <p:cNvSpPr/>
          <p:nvPr/>
        </p:nvSpPr>
        <p:spPr>
          <a:xfrm>
            <a:off x="7308720" y="3279600"/>
            <a:ext cx="1008360" cy="6480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88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31" name=""/>
          <p:cNvSpPr/>
          <p:nvPr/>
        </p:nvSpPr>
        <p:spPr>
          <a:xfrm>
            <a:off x="1258920" y="3933720"/>
            <a:ext cx="1008000" cy="647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33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76" name=""/>
          <p:cNvSpPr/>
          <p:nvPr/>
        </p:nvSpPr>
        <p:spPr>
          <a:xfrm>
            <a:off x="2268360" y="3933720"/>
            <a:ext cx="1008360" cy="647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8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21" name=""/>
          <p:cNvSpPr/>
          <p:nvPr/>
        </p:nvSpPr>
        <p:spPr>
          <a:xfrm>
            <a:off x="3276720" y="3933720"/>
            <a:ext cx="1008000" cy="647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23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66" name=""/>
          <p:cNvSpPr/>
          <p:nvPr/>
        </p:nvSpPr>
        <p:spPr>
          <a:xfrm>
            <a:off x="4284720" y="3933720"/>
            <a:ext cx="1008000" cy="647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68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4284720" y="3933720"/>
            <a:ext cx="1008000" cy="647640"/>
          </a:xfrm>
          <a:prstGeom prst="rect">
            <a:avLst/>
          </a:prstGeom>
          <a:solidFill>
            <a:srgbClr val="ff9900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11" name=""/>
          <p:cNvSpPr/>
          <p:nvPr/>
        </p:nvSpPr>
        <p:spPr>
          <a:xfrm>
            <a:off x="4284720" y="3933720"/>
            <a:ext cx="1008000" cy="647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3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1000" autoRev="1" fill="hold"/>
                                        <p:tgtEl>
                                          <p:spTgt spid="7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000" autoRev="1" fill="hold"/>
                                        <p:tgtEl>
                                          <p:spTgt spid="8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2222E-006 L -0.00278 0.12593 E">
                                      <p:cBhvr>
                                        <p:cTn id="18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0.39948 -0.3176 E">
                                      <p:cBhvr>
                                        <p:cTn id="22" dur="20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761760" y="271440"/>
            <a:ext cx="792468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Group Challen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sider a few ways to speed up the process of getting to the letters you need (5 mins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w combine your ideas with everyone else in the class. (10 mins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003640" y="2565360"/>
            <a:ext cx="3456000" cy="2664000"/>
            <a:chOff x="5003640" y="2565360"/>
            <a:chExt cx="3456000" cy="2664000"/>
          </a:xfrm>
        </p:grpSpPr>
        <p:pic>
          <p:nvPicPr>
            <p:cNvPr id="820" name="" descr=""/>
            <p:cNvPicPr/>
            <p:nvPr/>
          </p:nvPicPr>
          <p:blipFill>
            <a:blip r:embed="rId1"/>
            <a:stretch/>
          </p:blipFill>
          <p:spPr>
            <a:xfrm>
              <a:off x="5003640" y="2565360"/>
              <a:ext cx="3384720" cy="264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5003640" y="2565360"/>
              <a:ext cx="3456000" cy="26640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271440"/>
            <a:ext cx="792468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Individual and Group Challen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arliest record of wheelchairs date back to the 6th century, and were found inscribed on a stone slate in Chin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design the wheelchair for the 21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century, consider the new materials, methods of propulsion, etc. (15 mins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w combine your ideas together in pairs. (10 mins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Come up to the board and draw a pictur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56240" y="1916280"/>
            <a:ext cx="3408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direc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anning and direct selection require different physical and cognitive skil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anning requires good visual tracking skills, a high degree of attention, and the ability to seque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the positive side it does require very little motor control to make a selec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tion of let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predi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e/decrease scanning 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direction of sc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direc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rected 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 a hybrid approach in which the user can control the direction of scanning, vertical or horizonta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quires more steps than direct scanning, but less than single-switch scan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 flipH="1">
            <a:off x="7596000" y="1125360"/>
            <a:ext cx="1368360" cy="57492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885080" y="836640"/>
            <a:ext cx="719280" cy="10796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rect 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71" name=""/>
          <p:cNvSpPr/>
          <p:nvPr/>
        </p:nvSpPr>
        <p:spPr>
          <a:xfrm>
            <a:off x="7667640" y="2349360"/>
            <a:ext cx="1008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7777080" y="249228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ystic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3" name=""/>
          <p:cNvSpPr/>
          <p:nvPr/>
        </p:nvSpPr>
        <p:spPr>
          <a:xfrm>
            <a:off x="8028000" y="119700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172360" y="1628640"/>
            <a:ext cx="14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459640" y="2205000"/>
            <a:ext cx="196920" cy="10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 flipH="1">
            <a:off x="7596000" y="1125360"/>
            <a:ext cx="1368360" cy="57492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885080" y="836640"/>
            <a:ext cx="719280" cy="10796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rect 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9" name=""/>
          <p:cNvSpPr/>
          <p:nvPr/>
        </p:nvSpPr>
        <p:spPr>
          <a:xfrm>
            <a:off x="1254240" y="3279600"/>
            <a:ext cx="1008000" cy="6480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667640" y="2349360"/>
            <a:ext cx="1008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7777080" y="249228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ystic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22" name=""/>
          <p:cNvSpPr/>
          <p:nvPr/>
        </p:nvSpPr>
        <p:spPr>
          <a:xfrm>
            <a:off x="8172360" y="1628640"/>
            <a:ext cx="14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8416800" y="1116000"/>
            <a:ext cx="576360" cy="216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8028000" y="119700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459640" y="2205000"/>
            <a:ext cx="196920" cy="10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 flipH="1">
            <a:off x="7596000" y="1125360"/>
            <a:ext cx="1368360" cy="57492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885080" y="836640"/>
            <a:ext cx="719280" cy="10796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rect 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9" name=""/>
          <p:cNvSpPr/>
          <p:nvPr/>
        </p:nvSpPr>
        <p:spPr>
          <a:xfrm>
            <a:off x="2268360" y="3279600"/>
            <a:ext cx="1008360" cy="6480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67640" y="2349360"/>
            <a:ext cx="1008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7777080" y="249228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ystic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72" name=""/>
          <p:cNvSpPr/>
          <p:nvPr/>
        </p:nvSpPr>
        <p:spPr>
          <a:xfrm>
            <a:off x="8172360" y="1628640"/>
            <a:ext cx="14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8416800" y="1116000"/>
            <a:ext cx="576360" cy="216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028000" y="119700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459640" y="2205000"/>
            <a:ext cx="196920" cy="10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 flipH="1">
            <a:off x="7596000" y="1125360"/>
            <a:ext cx="1368360" cy="57492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885080" y="836640"/>
            <a:ext cx="719280" cy="10796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rect 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19" name=""/>
          <p:cNvSpPr/>
          <p:nvPr/>
        </p:nvSpPr>
        <p:spPr>
          <a:xfrm>
            <a:off x="3276720" y="3279600"/>
            <a:ext cx="1008000" cy="6480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67640" y="2349360"/>
            <a:ext cx="1008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7777080" y="249228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ystic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2" name=""/>
          <p:cNvSpPr/>
          <p:nvPr/>
        </p:nvSpPr>
        <p:spPr>
          <a:xfrm>
            <a:off x="8172360" y="1628640"/>
            <a:ext cx="14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8416800" y="1116000"/>
            <a:ext cx="576360" cy="216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28000" y="119700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459640" y="2205000"/>
            <a:ext cx="196920" cy="10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 flipH="1">
            <a:off x="7596000" y="1125360"/>
            <a:ext cx="1368360" cy="57492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885080" y="836640"/>
            <a:ext cx="719280" cy="10796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rect 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69" name=""/>
          <p:cNvSpPr/>
          <p:nvPr/>
        </p:nvSpPr>
        <p:spPr>
          <a:xfrm>
            <a:off x="3276720" y="3933720"/>
            <a:ext cx="1008000" cy="647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667640" y="2349360"/>
            <a:ext cx="1008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7777080" y="249228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ystic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72" name=""/>
          <p:cNvSpPr/>
          <p:nvPr/>
        </p:nvSpPr>
        <p:spPr>
          <a:xfrm>
            <a:off x="8172360" y="1628640"/>
            <a:ext cx="14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8388360" y="1557360"/>
            <a:ext cx="216000" cy="4316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28000" y="119700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459640" y="2205000"/>
            <a:ext cx="196920" cy="10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 flipH="1">
            <a:off x="7596000" y="1125360"/>
            <a:ext cx="1368360" cy="57492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885080" y="836640"/>
            <a:ext cx="719280" cy="10796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rect 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9" name=""/>
          <p:cNvSpPr/>
          <p:nvPr/>
        </p:nvSpPr>
        <p:spPr>
          <a:xfrm>
            <a:off x="4284720" y="3933720"/>
            <a:ext cx="1008000" cy="647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667640" y="2349360"/>
            <a:ext cx="1008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7777080" y="249228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ystic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22" name=""/>
          <p:cNvSpPr/>
          <p:nvPr/>
        </p:nvSpPr>
        <p:spPr>
          <a:xfrm>
            <a:off x="8172360" y="1628640"/>
            <a:ext cx="14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8416800" y="1116000"/>
            <a:ext cx="576360" cy="216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8028000" y="119700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459640" y="2205000"/>
            <a:ext cx="196920" cy="10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4284720" y="3933720"/>
            <a:ext cx="1008000" cy="647640"/>
          </a:xfrm>
          <a:prstGeom prst="rect">
            <a:avLst/>
          </a:prstGeom>
          <a:solidFill>
            <a:srgbClr val="ff9900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7" name=""/>
          <p:cNvSpPr/>
          <p:nvPr/>
        </p:nvSpPr>
        <p:spPr>
          <a:xfrm>
            <a:off x="4284720" y="3933720"/>
            <a:ext cx="1008000" cy="647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7596000" y="1125360"/>
            <a:ext cx="1368360" cy="57492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885080" y="836640"/>
            <a:ext cx="719280" cy="10796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667640" y="2349360"/>
            <a:ext cx="1008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7777080" y="249228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ystic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74" name=""/>
          <p:cNvSpPr/>
          <p:nvPr/>
        </p:nvSpPr>
        <p:spPr>
          <a:xfrm>
            <a:off x="8172360" y="1628640"/>
            <a:ext cx="14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8028000" y="119700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459640" y="2205000"/>
            <a:ext cx="196920" cy="10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1000" autoRev="1" fill="hold"/>
                                        <p:tgtEl>
                                          <p:spTgt spid="1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1000" autoRev="1" fill="hold"/>
                                        <p:tgtEl>
                                          <p:spTgt spid="1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0.22639 -0.22315 E">
                                      <p:cBhvr>
                                        <p:cTn id="43" dur="20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271440"/>
            <a:ext cx="792468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Individual and Group Challen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Josep Mora, designer from Barcelona, adapts this vehicle for people with reduced mobility.   There is a hand break to keep the vehicle standing on its own when stopp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2138400" cy="2592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26920" y="3784680"/>
            <a:ext cx="3240360" cy="2516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588000" y="3357720"/>
            <a:ext cx="19130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direc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other form of indirect selection is called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ded Acces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this approach the individual uses a distinct sequence of movements to input a code for each item in the selection se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.g. Morse Code could be used to represent the letters (and the most common letter are the shortest codes)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9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388280" cy="51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Morse Co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1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3289320" cy="3961080"/>
          </a:xfrm>
          <a:prstGeom prst="rect">
            <a:avLst/>
          </a:prstGeom>
          <a:ln w="0">
            <a:noFill/>
          </a:ln>
        </p:spPr>
      </p:pic>
      <p:pic>
        <p:nvPicPr>
          <p:cNvPr id="1182" name="" descr=""/>
          <p:cNvPicPr/>
          <p:nvPr/>
        </p:nvPicPr>
        <p:blipFill>
          <a:blip r:embed="rId2"/>
          <a:stretch/>
        </p:blipFill>
        <p:spPr>
          <a:xfrm>
            <a:off x="5435640" y="3213000"/>
            <a:ext cx="31510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348000" y="2637000"/>
            <a:ext cx="2448000" cy="14396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867280" y="4940280"/>
            <a:ext cx="2448000" cy="1440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116000" y="5013360"/>
            <a:ext cx="2448000" cy="1440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2411280" y="3787920"/>
            <a:ext cx="1152720" cy="122364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580000" y="3787920"/>
            <a:ext cx="1295640" cy="115236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780000" y="5661000"/>
            <a:ext cx="2016000" cy="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236000" y="4313160"/>
            <a:ext cx="1726920" cy="411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Direction Select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236000" y="4797360"/>
            <a:ext cx="1726920" cy="411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Indirect Select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3366"/>
                </a:solidFill>
                <a:latin typeface="Arial"/>
              </a:rPr>
              <a:t>So in summar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348000" y="2637000"/>
            <a:ext cx="2448000" cy="14396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867280" y="4940280"/>
            <a:ext cx="2448000" cy="1440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116000" y="5013360"/>
            <a:ext cx="2448000" cy="1440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2411280" y="3787920"/>
            <a:ext cx="1152720" cy="122364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580000" y="3787920"/>
            <a:ext cx="1295640" cy="115236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780000" y="5661000"/>
            <a:ext cx="2016000" cy="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68360" y="4889520"/>
            <a:ext cx="1727280" cy="411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ctivity Outpu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364000" y="2349360"/>
            <a:ext cx="1727280" cy="4114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Discrete Input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64000" y="2873520"/>
            <a:ext cx="1727280" cy="411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Continuous Input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236000" y="4313160"/>
            <a:ext cx="1726920" cy="411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Direction Select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236000" y="4797360"/>
            <a:ext cx="1726920" cy="411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Indirect Select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ices should be designed to be accessed by more than one meth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 if we can make them so they work with as many approaches as possible, we are adhering to the principal of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niversal Desig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826920" y="1844640"/>
            <a:ext cx="7490160" cy="4942080"/>
          </a:xfrm>
          <a:prstGeom prst="horizontalScroll">
            <a:avLst>
              <a:gd name="adj" fmla="val 12500"/>
            </a:avLst>
          </a:prstGeom>
          <a:solidFill>
            <a:srgbClr val="cc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ven Principles of Universal Design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/>
          </p:nvPr>
        </p:nvSpPr>
        <p:spPr>
          <a:xfrm>
            <a:off x="1847520" y="2728800"/>
            <a:ext cx="7116840" cy="3292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table 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ility in 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and Intui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ptible Infor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lerance for Err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Physical Eff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and Space for Approach and 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dapting the Compu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attempting to adapt a computer, the key philosophical approach is to begin with the simplest modifications possible and then progress to more complex o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2" name="" descr=""/>
          <p:cNvPicPr/>
          <p:nvPr/>
        </p:nvPicPr>
        <p:blipFill>
          <a:blip r:embed="rId1"/>
          <a:stretch/>
        </p:blipFill>
        <p:spPr>
          <a:xfrm>
            <a:off x="7164360" y="11592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dapting the Compu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term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ransparent Acce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used to refer to two fundamental concep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00% of the functions of the computer must be adapte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application software should be equally us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1"/>
          <a:stretch/>
        </p:blipFill>
        <p:spPr>
          <a:xfrm>
            <a:off x="7164360" y="11592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rot="11620200">
            <a:off x="3060720" y="4220640"/>
            <a:ext cx="5472000" cy="1873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AT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8720" y="1052640"/>
            <a:ext cx="3888000" cy="4032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013440" y="1382760"/>
            <a:ext cx="1036800" cy="18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3211560"/>
            <a:ext cx="93492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068720" y="3212640"/>
            <a:ext cx="194472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788160" y="2851200"/>
            <a:ext cx="95256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ctiv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861080" y="3683160"/>
            <a:ext cx="87624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um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 rot="203400">
            <a:off x="4859280" y="5556240"/>
            <a:ext cx="180036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t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5292720" y="2421000"/>
            <a:ext cx="93672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05440" y="1773360"/>
            <a:ext cx="93672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1125360"/>
            <a:ext cx="1152720" cy="36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vironmenta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572000" y="1125360"/>
            <a:ext cx="792000" cy="216000"/>
          </a:xfrm>
          <a:prstGeom prst="line">
            <a:avLst/>
          </a:prstGeom>
          <a:ln w="57240">
            <a:solidFill>
              <a:srgbClr val="33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5080" y="2781360"/>
            <a:ext cx="144360" cy="79200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03640" y="2781360"/>
            <a:ext cx="144720" cy="792000"/>
          </a:xfrm>
          <a:prstGeom prst="line">
            <a:avLst/>
          </a:prstGeom>
          <a:ln w="57240">
            <a:solidFill>
              <a:srgbClr val="33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29440" y="2637000"/>
            <a:ext cx="431640" cy="43164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653080" y="1486080"/>
            <a:ext cx="216000" cy="28728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860720" y="2133720"/>
            <a:ext cx="215640" cy="28728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076720" y="2133720"/>
            <a:ext cx="216000" cy="287280"/>
          </a:xfrm>
          <a:prstGeom prst="line">
            <a:avLst/>
          </a:prstGeom>
          <a:ln w="57240">
            <a:solidFill>
              <a:srgbClr val="33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53080" y="2133720"/>
            <a:ext cx="216000" cy="28728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2708280"/>
            <a:ext cx="432000" cy="2376360"/>
          </a:xfrm>
          <a:prstGeom prst="line">
            <a:avLst/>
          </a:prstGeom>
          <a:ln w="57240">
            <a:solidFill>
              <a:srgbClr val="33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511440" y="1125360"/>
            <a:ext cx="1060560" cy="1582920"/>
          </a:xfrm>
          <a:prstGeom prst="line">
            <a:avLst/>
          </a:prstGeom>
          <a:ln w="57240">
            <a:solidFill>
              <a:srgbClr val="33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84720" y="2421000"/>
            <a:ext cx="93672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dapting the Compu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, in other words, all keyboard keys, including modifiers like SHIFT, CTRL, ALT, and all the mouse functions, like POINT, CLICK and DRAG must be available in the adapted syst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are using Microsoft Word, it should work exactly the same with or without modifica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1"/>
          <a:stretch/>
        </p:blipFill>
        <p:spPr>
          <a:xfrm>
            <a:off x="7164360" y="11592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dapting the Compu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1"/>
          <a:stretch/>
        </p:blipFill>
        <p:spPr>
          <a:xfrm>
            <a:off x="7164360" y="11592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1221" name="" descr=""/>
          <p:cNvPicPr/>
          <p:nvPr/>
        </p:nvPicPr>
        <p:blipFill>
          <a:blip r:embed="rId2"/>
          <a:stretch/>
        </p:blipFill>
        <p:spPr>
          <a:xfrm>
            <a:off x="1403280" y="2378160"/>
            <a:ext cx="670896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dapting the Compu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3" name="" descr=""/>
          <p:cNvPicPr/>
          <p:nvPr/>
        </p:nvPicPr>
        <p:blipFill>
          <a:blip r:embed="rId1"/>
          <a:stretch/>
        </p:blipFill>
        <p:spPr>
          <a:xfrm>
            <a:off x="7164360" y="115920"/>
            <a:ext cx="1795320" cy="1833480"/>
          </a:xfrm>
          <a:prstGeom prst="rect">
            <a:avLst/>
          </a:prstGeom>
          <a:ln w="0">
            <a:noFill/>
          </a:ln>
        </p:spPr>
      </p:pic>
      <p:grpSp>
        <p:nvGrpSpPr>
          <p:cNvPr id="1224" name=""/>
          <p:cNvGrpSpPr/>
          <p:nvPr/>
        </p:nvGrpSpPr>
        <p:grpSpPr>
          <a:xfrm>
            <a:off x="1332000" y="2365200"/>
            <a:ext cx="6727680" cy="4376880"/>
            <a:chOff x="1332000" y="2365200"/>
            <a:chExt cx="6727680" cy="4376880"/>
          </a:xfrm>
        </p:grpSpPr>
        <p:pic>
          <p:nvPicPr>
            <p:cNvPr id="1225" name="" descr=""/>
            <p:cNvPicPr/>
            <p:nvPr/>
          </p:nvPicPr>
          <p:blipFill>
            <a:blip r:embed="rId2"/>
            <a:stretch/>
          </p:blipFill>
          <p:spPr>
            <a:xfrm>
              <a:off x="1332000" y="2365200"/>
              <a:ext cx="6727680" cy="437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6" name=""/>
            <p:cNvSpPr/>
            <p:nvPr/>
          </p:nvSpPr>
          <p:spPr>
            <a:xfrm>
              <a:off x="2916360" y="3357720"/>
              <a:ext cx="215640" cy="287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148360" y="2781360"/>
              <a:ext cx="215640" cy="287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72000" y="4581360"/>
              <a:ext cx="216000" cy="2876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300720" y="4581360"/>
              <a:ext cx="216000" cy="2876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052720" y="4629240"/>
              <a:ext cx="215640" cy="287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495440" y="5373720"/>
              <a:ext cx="216000" cy="287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dapting the Compu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1"/>
          <a:stretch/>
        </p:blipFill>
        <p:spPr>
          <a:xfrm>
            <a:off x="7164360" y="11592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1234" name="" descr=""/>
          <p:cNvPicPr/>
          <p:nvPr/>
        </p:nvPicPr>
        <p:blipFill>
          <a:blip r:embed="rId2"/>
          <a:stretch/>
        </p:blipFill>
        <p:spPr>
          <a:xfrm>
            <a:off x="1692360" y="2349360"/>
            <a:ext cx="57610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dapting the Compu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6" name="" descr=""/>
          <p:cNvPicPr/>
          <p:nvPr/>
        </p:nvPicPr>
        <p:blipFill>
          <a:blip r:embed="rId1"/>
          <a:stretch/>
        </p:blipFill>
        <p:spPr>
          <a:xfrm>
            <a:off x="7164360" y="11592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1237" name="" descr=""/>
          <p:cNvPicPr/>
          <p:nvPr/>
        </p:nvPicPr>
        <p:blipFill>
          <a:blip r:embed="rId2"/>
          <a:stretch/>
        </p:blipFill>
        <p:spPr>
          <a:xfrm>
            <a:off x="2147760" y="2660760"/>
            <a:ext cx="4846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dapting the Compu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term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n-screen Keyboar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fers to a keyboard emulation presented on-scre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single-switch users the on-screen keyboard can be a scanning arr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0" name="" descr=""/>
          <p:cNvPicPr/>
          <p:nvPr/>
        </p:nvPicPr>
        <p:blipFill>
          <a:blip r:embed="rId1"/>
          <a:stretch/>
        </p:blipFill>
        <p:spPr>
          <a:xfrm>
            <a:off x="7164360" y="11592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unication Aids Available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rge Button Telephone with digital answer mach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ing Flash Am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mo Min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ice Dia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ep Pa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3" name="Content Placeholder 14" descr="Voice Dialer.jpg"/>
          <p:cNvPicPr/>
          <p:nvPr/>
        </p:nvPicPr>
        <p:blipFill>
          <a:blip r:embed="rId1"/>
          <a:stretch/>
        </p:blipFill>
        <p:spPr>
          <a:xfrm>
            <a:off x="6781680" y="1447920"/>
            <a:ext cx="2032200" cy="152388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16" descr="Amplicom_ringflash_100_(AMP)_116095.jpg"/>
          <p:cNvPicPr/>
          <p:nvPr/>
        </p:nvPicPr>
        <p:blipFill>
          <a:blip r:embed="rId2"/>
          <a:stretch/>
        </p:blipFill>
        <p:spPr>
          <a:xfrm>
            <a:off x="7061040" y="4648320"/>
            <a:ext cx="2082960" cy="2082600"/>
          </a:xfrm>
          <a:prstGeom prst="rect">
            <a:avLst/>
          </a:prstGeom>
          <a:ln w="0">
            <a:noFill/>
          </a:ln>
        </p:spPr>
      </p:pic>
      <p:pic>
        <p:nvPicPr>
          <p:cNvPr id="1245" name="Picture 17" descr="Memo_Minder_(9551)_NRS.jpg"/>
          <p:cNvPicPr/>
          <p:nvPr/>
        </p:nvPicPr>
        <p:blipFill>
          <a:blip r:embed="rId3"/>
          <a:stretch/>
        </p:blipFill>
        <p:spPr>
          <a:xfrm>
            <a:off x="4572000" y="2492280"/>
            <a:ext cx="1066680" cy="133344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18" descr="StepPad_(LIB)_227.jpg"/>
          <p:cNvPicPr/>
          <p:nvPr/>
        </p:nvPicPr>
        <p:blipFill>
          <a:blip r:embed="rId4"/>
          <a:stretch/>
        </p:blipFill>
        <p:spPr>
          <a:xfrm>
            <a:off x="5181480" y="4749840"/>
            <a:ext cx="1524240" cy="184788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15" descr="Amplicom_PT_58_with_digital_answer_machine_(AMP)_116089.jpg"/>
          <p:cNvPicPr/>
          <p:nvPr/>
        </p:nvPicPr>
        <p:blipFill>
          <a:blip r:embed="rId5"/>
          <a:stretch/>
        </p:blipFill>
        <p:spPr>
          <a:xfrm>
            <a:off x="5715000" y="3200400"/>
            <a:ext cx="2235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ision and Reading Aids Available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ktop Top or Screen Magnifi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ip Automatic Page Turn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ding P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 Reading Softw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ver bed 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festyle – Large Game C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0" name="Content Placeholder 12" descr="Rubbermaid_OverBed_Table_(PRO)_1205.jpg"/>
          <p:cNvPicPr/>
          <p:nvPr/>
        </p:nvPicPr>
        <p:blipFill>
          <a:blip r:embed="rId1"/>
          <a:stretch/>
        </p:blipFill>
        <p:spPr>
          <a:xfrm>
            <a:off x="5257800" y="4994280"/>
            <a:ext cx="1339920" cy="167472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14" descr="Desk_top_magnifier_(HCA)_10153.jpg"/>
          <p:cNvPicPr/>
          <p:nvPr/>
        </p:nvPicPr>
        <p:blipFill>
          <a:blip r:embed="rId2"/>
          <a:stretch/>
        </p:blipFill>
        <p:spPr>
          <a:xfrm>
            <a:off x="4211640" y="327672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1252" name="Picture 15" descr="Flip_Automatic_Page_Turner_(LIB)_9451.jpg"/>
          <p:cNvPicPr/>
          <p:nvPr/>
        </p:nvPicPr>
        <p:blipFill>
          <a:blip r:embed="rId3"/>
          <a:stretch/>
        </p:blipFill>
        <p:spPr>
          <a:xfrm>
            <a:off x="6629400" y="2971800"/>
            <a:ext cx="2278080" cy="227808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16" descr="Reading Pen.jpg"/>
          <p:cNvPicPr/>
          <p:nvPr/>
        </p:nvPicPr>
        <p:blipFill>
          <a:blip r:embed="rId4"/>
          <a:stretch/>
        </p:blipFill>
        <p:spPr>
          <a:xfrm>
            <a:off x="6934320" y="5257800"/>
            <a:ext cx="1888920" cy="141768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17" descr="Reading_Lecturns_(QED)_9848.jpg"/>
          <p:cNvPicPr/>
          <p:nvPr/>
        </p:nvPicPr>
        <p:blipFill>
          <a:blip r:embed="rId5"/>
          <a:stretch/>
        </p:blipFill>
        <p:spPr>
          <a:xfrm>
            <a:off x="7164360" y="1265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18" descr="imagesCA6PPV9N.jpg"/>
          <p:cNvPicPr/>
          <p:nvPr/>
        </p:nvPicPr>
        <p:blipFill>
          <a:blip r:embed="rId6"/>
          <a:stretch/>
        </p:blipFill>
        <p:spPr>
          <a:xfrm>
            <a:off x="5486400" y="2587680"/>
            <a:ext cx="1238400" cy="105732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19" descr="cards.jpg"/>
          <p:cNvPicPr/>
          <p:nvPr/>
        </p:nvPicPr>
        <p:blipFill>
          <a:blip r:embed="rId7"/>
          <a:stretch/>
        </p:blipFill>
        <p:spPr>
          <a:xfrm>
            <a:off x="3352680" y="580536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earing and Listening Aids Available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elephone Amplifi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lashing Door Bell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Under Pillow Vibrating Travel Alarm Clock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Voice Output Alarm Clock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Voice Output Watch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Liquid Level Indicato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Voice Output Thermomet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Voice Output Microwav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9" name="Content Placeholder 15" descr="Flashing%20Doorbell%20(NRS)%201864.jpg"/>
          <p:cNvPicPr/>
          <p:nvPr/>
        </p:nvPicPr>
        <p:blipFill>
          <a:blip r:embed="rId1"/>
          <a:stretch/>
        </p:blipFill>
        <p:spPr>
          <a:xfrm>
            <a:off x="7696080" y="1447920"/>
            <a:ext cx="1059120" cy="1322280"/>
          </a:xfrm>
          <a:prstGeom prst="rect">
            <a:avLst/>
          </a:prstGeom>
          <a:ln w="0">
            <a:noFill/>
          </a:ln>
        </p:spPr>
      </p:pic>
      <p:pic>
        <p:nvPicPr>
          <p:cNvPr id="1260" name="Picture 16" descr="Under Pillow Vibration Alarm Clock.jpg"/>
          <p:cNvPicPr/>
          <p:nvPr/>
        </p:nvPicPr>
        <p:blipFill>
          <a:blip r:embed="rId2"/>
          <a:stretch/>
        </p:blipFill>
        <p:spPr>
          <a:xfrm>
            <a:off x="5638680" y="4278240"/>
            <a:ext cx="1428840" cy="590760"/>
          </a:xfrm>
          <a:prstGeom prst="rect">
            <a:avLst/>
          </a:prstGeom>
          <a:ln w="0">
            <a:noFill/>
          </a:ln>
        </p:spPr>
      </p:pic>
      <p:pic>
        <p:nvPicPr>
          <p:cNvPr id="1261" name="Picture 17" descr="Chrome Talking Watch.jpg"/>
          <p:cNvPicPr/>
          <p:nvPr/>
        </p:nvPicPr>
        <p:blipFill>
          <a:blip r:embed="rId3"/>
          <a:stretch/>
        </p:blipFill>
        <p:spPr>
          <a:xfrm>
            <a:off x="5724360" y="5168880"/>
            <a:ext cx="1000440" cy="142884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18" descr="Liquid Level Indicator.jpg"/>
          <p:cNvPicPr/>
          <p:nvPr/>
        </p:nvPicPr>
        <p:blipFill>
          <a:blip r:embed="rId4"/>
          <a:stretch/>
        </p:blipFill>
        <p:spPr>
          <a:xfrm>
            <a:off x="7543800" y="3886200"/>
            <a:ext cx="1380960" cy="1428840"/>
          </a:xfrm>
          <a:prstGeom prst="rect">
            <a:avLst/>
          </a:prstGeom>
          <a:ln w="0">
            <a:noFill/>
          </a:ln>
        </p:spPr>
      </p:pic>
      <p:pic>
        <p:nvPicPr>
          <p:cNvPr id="1263" name="Picture 19" descr="Talking Alarm Clock.jpg"/>
          <p:cNvPicPr/>
          <p:nvPr/>
        </p:nvPicPr>
        <p:blipFill>
          <a:blip r:embed="rId5"/>
          <a:stretch/>
        </p:blipFill>
        <p:spPr>
          <a:xfrm>
            <a:off x="7315200" y="297180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20" descr="Telephone Amplifer.jpg"/>
          <p:cNvPicPr/>
          <p:nvPr/>
        </p:nvPicPr>
        <p:blipFill>
          <a:blip r:embed="rId6"/>
          <a:stretch/>
        </p:blipFill>
        <p:spPr>
          <a:xfrm>
            <a:off x="6048360" y="2432160"/>
            <a:ext cx="971640" cy="142848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21" descr="Voice Output Thermometer.jpg"/>
          <p:cNvPicPr/>
          <p:nvPr/>
        </p:nvPicPr>
        <p:blipFill>
          <a:blip r:embed="rId7"/>
          <a:stretch/>
        </p:blipFill>
        <p:spPr>
          <a:xfrm>
            <a:off x="442764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266" name="Picture 22" descr="Talking Microwave Oven.jpg"/>
          <p:cNvPicPr/>
          <p:nvPr/>
        </p:nvPicPr>
        <p:blipFill>
          <a:blip r:embed="rId8"/>
          <a:stretch/>
        </p:blipFill>
        <p:spPr>
          <a:xfrm>
            <a:off x="6748560" y="5433840"/>
            <a:ext cx="239544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ating/Positioning/Mobility and Transportation Aids Available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8" name="Content Placeholder 10" descr="ramps.jpg"/>
          <p:cNvPicPr/>
          <p:nvPr/>
        </p:nvPicPr>
        <p:blipFill>
          <a:blip r:embed="rId1"/>
          <a:stretch/>
        </p:blipFill>
        <p:spPr>
          <a:xfrm>
            <a:off x="5092560" y="3689280"/>
            <a:ext cx="774720" cy="103500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4" descr="wheelchair.jpg"/>
          <p:cNvPicPr/>
          <p:nvPr/>
        </p:nvPicPr>
        <p:blipFill>
          <a:blip r:embed="rId2"/>
          <a:stretch/>
        </p:blipFill>
        <p:spPr>
          <a:xfrm>
            <a:off x="5940360" y="2611440"/>
            <a:ext cx="1562040" cy="1609560"/>
          </a:xfrm>
          <a:prstGeom prst="rect">
            <a:avLst/>
          </a:prstGeom>
          <a:ln w="0">
            <a:noFill/>
          </a:ln>
        </p:spPr>
      </p:pic>
      <p:pic>
        <p:nvPicPr>
          <p:cNvPr id="1270" name="Picture 5" descr="electronic wheelchair.jpg"/>
          <p:cNvPicPr/>
          <p:nvPr/>
        </p:nvPicPr>
        <p:blipFill>
          <a:blip r:embed="rId3"/>
          <a:stretch/>
        </p:blipFill>
        <p:spPr>
          <a:xfrm>
            <a:off x="7642080" y="1557360"/>
            <a:ext cx="1251000" cy="1295280"/>
          </a:xfrm>
          <a:prstGeom prst="rect">
            <a:avLst/>
          </a:prstGeom>
          <a:ln w="0">
            <a:noFill/>
          </a:ln>
        </p:spPr>
      </p:pic>
      <p:pic>
        <p:nvPicPr>
          <p:cNvPr id="1271" name="Picture 6" descr="imagesCALYTMYM.jpg"/>
          <p:cNvPicPr/>
          <p:nvPr/>
        </p:nvPicPr>
        <p:blipFill>
          <a:blip r:embed="rId4"/>
          <a:stretch/>
        </p:blipFill>
        <p:spPr>
          <a:xfrm>
            <a:off x="7236000" y="4923000"/>
            <a:ext cx="1819080" cy="181908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7" descr="power wheelchair.jpg"/>
          <p:cNvPicPr/>
          <p:nvPr/>
        </p:nvPicPr>
        <p:blipFill>
          <a:blip r:embed="rId5"/>
          <a:stretch/>
        </p:blipFill>
        <p:spPr>
          <a:xfrm>
            <a:off x="7597800" y="3110040"/>
            <a:ext cx="1295280" cy="168732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elchai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ic Powered Wheelchai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wered Scoo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ic Ram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cessible Vehic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4" name="Picture 8" descr="van.jpg"/>
          <p:cNvPicPr/>
          <p:nvPr/>
        </p:nvPicPr>
        <p:blipFill>
          <a:blip r:embed="rId6"/>
          <a:stretch/>
        </p:blipFill>
        <p:spPr>
          <a:xfrm>
            <a:off x="3924360" y="51577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1275" name="Picture 11" descr="seating.jpg"/>
          <p:cNvPicPr/>
          <p:nvPr/>
        </p:nvPicPr>
        <p:blipFill>
          <a:blip r:embed="rId7"/>
          <a:stretch/>
        </p:blipFill>
        <p:spPr>
          <a:xfrm>
            <a:off x="6012000" y="5162400"/>
            <a:ext cx="115236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uman/AT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he boundary shared by interacting components in a syste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” in which “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he essence of this interaction is communication or the exchange of information back and forth across the boundar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761760" y="271440"/>
            <a:ext cx="792468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Individual Challen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r next week can you find out what GIDEIs are? and come up with a few example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5097600" y="2565360"/>
            <a:ext cx="3362040" cy="27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IDEIs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TROL INTERFA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The hardware by which a human operates or controls a device, e.g. keyboard, joystic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LECTION S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These are the items available to select fr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LECTION METHO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The user can select using the control interface either by Direct Selection or Indirect Selec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6T18:16:30Z</dcterms:created>
  <dc:creator>Damian Gordon</dc:creator>
  <dc:description/>
  <dc:language>en-US</dc:language>
  <cp:lastModifiedBy>Dept of Maths</cp:lastModifiedBy>
  <dcterms:modified xsi:type="dcterms:W3CDTF">2010-10-11T11:51:11Z</dcterms:modified>
  <cp:revision>147</cp:revision>
  <dc:subject/>
  <dc:title>Introduction to Assistive Technology (AT)</dc:title>
</cp:coreProperties>
</file>