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7812-D84A-455F-88F6-CB5820222FB1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4BAB-083A-45FB-A595-A65DFA93CB14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5F17-9441-469E-86EA-E4F3685EA164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60CB-81C1-4DAB-A7E0-4E9E8A1FF105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8D52-97CC-4E62-90D2-A77C9185A14E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A74F-50A7-4575-8766-1FA37633D41E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36CA-6AFF-4718-970E-B8BE0D6FC084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C74F-DD0A-459C-972E-DC6873EFCEDB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3617-0A46-4FA0-AFB7-9205CA826EF1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F010-96FE-4AE4-9AE4-3B9D8E79E548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459F-37B5-4AD3-A38B-EA495F6DF2C2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9FC8-13B9-4B68-B3A6-6DC9A4E9556B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F318-C4BB-4FD6-8A65-E39FA7BB0188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D4F7-95C3-4242-B478-F940CF6A1CDD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1FB5-8E9F-4958-8DE0-978CD49E56AB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160-2EA6-4323-8C53-93BFA21A6371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491A-8CB1-463A-B675-A449C2AF9A78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45FC-06BC-4194-89F1-1C186A1B17F7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E133-6741-4F92-A8FD-CA90C995C2CB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DAF7-A3DA-4D32-9097-BE456C197A82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5AEF-7F52-42D9-9C41-0D76AF078313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960B-A1F4-44E8-A00B-8A63A239D69E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EA29-7E2D-4762-9E40-B84F190DFFEA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80B1-854F-40DB-B66A-9D1CA8EED1D2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095E-C769-4C44-AF61-6E9E92424178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5E29-A451-4D01-AC8A-20DB61F4E35A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C6C0-07C6-4714-9776-0CE4EEF345E2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B6D0-7248-4DD6-8A2C-DD0A80D4CCAC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8197-4113-47CE-8701-8AA8C33C04A1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607D-F0F7-49D6-9C1A-1A528C965398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3395-6C04-4B20-8B73-C92DF45594DA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D191-5B1F-495C-84EE-67E20EF1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B046C-C3C2-46D5-ABD6-56440712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4F8D-72ED-4777-8DD0-BD5FD88D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E97C-801C-457D-B00E-733CDB6A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E4F7-6075-4D78-AA6B-C1097992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B561-55A5-4CA6-B44A-548781DC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B9BA-7DD0-4FF9-990F-A9A05006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CCA4-476E-4442-984B-0541CD1C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DE50-078D-465C-9AAB-8BD19DFF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9EF2-A56C-4867-BBE8-D32B970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5F61-3A3B-4380-AFF4-534678AE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A52D-8CBD-4058-B0FB-769F83E0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261D-30B0-489F-95AB-6A8B2399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5B38-197F-4389-A201-B121003A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F54A-9987-4BD6-A0F9-128F4802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1D3D-BB7B-438C-B183-45512C97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F5AD-3B30-47EC-B6AF-F3978237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F847-0EA1-478D-BFD1-906B0E30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1F54-507D-49DC-9519-94966BD3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0703-E879-4D10-90B1-B800EA2A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6FB1-5525-4EBE-91F8-C44C445A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BB68-66D6-433D-823D-E2A6A3E6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D306-04E4-427F-B968-3F35C3C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4916-8EB5-478C-B608-CA842D24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6B27-0624-4FAF-BEB6-1E71E5A537E5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6B39-53BA-470C-8C8A-249547D0A994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5000" spc="-1" strike="noStrike">
                <a:solidFill>
                  <a:srgbClr val="ffffff"/>
                </a:solidFill>
                <a:latin typeface="Arial"/>
              </a:rPr>
              <a:t>Learning Styles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1676520"/>
            <a:ext cx="24382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arning Styles Mod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666880" cy="2016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124080" y="1600200"/>
            <a:ext cx="28958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25909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191120"/>
            <a:ext cx="25909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4191120"/>
            <a:ext cx="28958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4191120"/>
            <a:ext cx="2819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600200"/>
            <a:ext cx="2819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2666880" cy="1935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2438280" cy="1919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400800" y="4343400"/>
            <a:ext cx="2286000" cy="2200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172200" y="1905120"/>
            <a:ext cx="2590920" cy="18619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685800" y="2057400"/>
            <a:ext cx="2133720" cy="1785960"/>
            <a:chOff x="685800" y="2057400"/>
            <a:chExt cx="2133720" cy="1785960"/>
          </a:xfrm>
        </p:grpSpPr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1265760" y="2544480"/>
              <a:ext cx="954360" cy="9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85800" y="2057400"/>
              <a:ext cx="2133720" cy="1785960"/>
            </a:xfrm>
            <a:custGeom>
              <a:avLst/>
              <a:gdLst>
                <a:gd name="textAreaLeft" fmla="*/ 533520 w 2133720"/>
                <a:gd name="textAreaRight" fmla="*/ 1600560 w 2133720"/>
                <a:gd name="textAreaTop" fmla="*/ 446400 h 1785960"/>
                <a:gd name="textAreaBottom" fmla="*/ 1339560 h 178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471680" y="2097720"/>
              <a:ext cx="74520" cy="10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I</a:t>
              </a:r>
              <a:endPara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1958400" y="2097720"/>
              <a:ext cx="74880" cy="10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704160" y="2747520"/>
              <a:ext cx="71640" cy="81000"/>
            </a:xfrm>
            <a:prstGeom prst="rect">
              <a:avLst/>
            </a:prstGeom>
          </p:spPr>
          <p:txBody>
            <a:bodyPr wrap="none" lIns="90000" rIns="90000" tIns="34200" bIns="34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704160" y="3072240"/>
              <a:ext cx="55800" cy="10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452960" y="3701160"/>
              <a:ext cx="74880" cy="10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F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958400" y="3701160"/>
              <a:ext cx="74880" cy="10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T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744640" y="2747520"/>
              <a:ext cx="55800" cy="81000"/>
            </a:xfrm>
            <a:prstGeom prst="rect">
              <a:avLst/>
            </a:prstGeom>
          </p:spPr>
          <p:txBody>
            <a:bodyPr wrap="none" lIns="90000" rIns="90000" tIns="34200" bIns="34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P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2725920" y="3072240"/>
              <a:ext cx="55800" cy="81000"/>
            </a:xfrm>
            <a:prstGeom prst="rect">
              <a:avLst/>
            </a:prstGeom>
          </p:spPr>
          <p:txBody>
            <a:bodyPr wrap="none" lIns="90000" rIns="90000" tIns="34200" bIns="34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J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1240" y="1676520"/>
            <a:ext cx="183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Meyers-Briggs Type Indic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D3EE-EFB6-4CDB-9556-DEE35AB7DB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ffffff"/>
                </a:solidFill>
                <a:latin typeface="Arial"/>
              </a:rPr>
              <a:t>History of Learning Styles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Carl Ju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l Gustav Jung (1875 – 1961) was a Swiss psychiatrist, an influential thinker and the founder of analytical psychology (also known as Jungian psycholog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o processes that are important in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w we take i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t we do with the information once it is in our br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e called the first PERCEPTION and the second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72160" y="1447920"/>
            <a:ext cx="19130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8968-5CD1-42A3-806A-5FFFAB90FA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Carl Jung: Percep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o types of perce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ose who can only process on sense at a time, i.e. they can look but can’t 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d those can taken in all senses simultaneously and bring all the sense data together to make a holistic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e called the first type of person a SENSOR and the second an INTU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52D4-7EB3-479C-B665-0565D77C51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Carl Jung: Judg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o types of jud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ose who can make decisions based on their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d those make decisions based on thei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e called the first type of person a FEELER and the second an TH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1A15-C96E-43EE-A61B-0335BFB44F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57800" y="3206880"/>
            <a:ext cx="3135240" cy="3073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28800" y="3816360"/>
            <a:ext cx="3352680" cy="990720"/>
          </a:xfrm>
          <a:custGeom>
            <a:avLst/>
            <a:gdLst>
              <a:gd name="textAreaLeft" fmla="*/ 523800 w 3352680"/>
              <a:gd name="textAreaRight" fmla="*/ 2933640 w 3352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3359160"/>
            <a:ext cx="2590560" cy="1523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4044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880" y="3130560"/>
            <a:ext cx="2514600" cy="2819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0" y="229248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1800" y="229248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86" idx="1"/>
            <a:endCxn id="190" idx="1"/>
          </p:cNvCxnSpPr>
          <p:nvPr/>
        </p:nvCxnSpPr>
        <p:spPr>
          <a:xfrm flipV="1" rot="16200000">
            <a:off x="4947120" y="2587680"/>
            <a:ext cx="1000800" cy="990000"/>
          </a:xfrm>
          <a:prstGeom prst="curvedConnector5">
            <a:avLst>
              <a:gd name="adj1" fmla="val 46635"/>
              <a:gd name="adj2" fmla="val 61549"/>
              <a:gd name="adj3" fmla="val 46635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6" idx="7"/>
            <a:endCxn id="189" idx="3"/>
          </p:cNvCxnSpPr>
          <p:nvPr/>
        </p:nvCxnSpPr>
        <p:spPr>
          <a:xfrm flipH="1" flipV="1" rot="5400000">
            <a:off x="7517160" y="2838960"/>
            <a:ext cx="1000800" cy="488160"/>
          </a:xfrm>
          <a:prstGeom prst="curvedConnector5">
            <a:avLst>
              <a:gd name="adj1" fmla="val 46635"/>
              <a:gd name="adj2" fmla="val 73431"/>
              <a:gd name="adj3" fmla="val 46635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2514600" y="4044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206388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4600" y="58737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t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3" idx="0"/>
          </p:cNvCxnSpPr>
          <p:nvPr/>
        </p:nvCxnSpPr>
        <p:spPr>
          <a:xfrm flipV="1" rot="16200000">
            <a:off x="2673720" y="3198960"/>
            <a:ext cx="1296000" cy="396000"/>
          </a:xfrm>
          <a:prstGeom prst="curvedConnector5">
            <a:avLst>
              <a:gd name="adj1" fmla="val 49986"/>
              <a:gd name="adj2" fmla="val 49954"/>
              <a:gd name="adj3" fmla="val 4998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/>
          <p:nvPr/>
        </p:nvCxnSpPr>
        <p:spPr>
          <a:xfrm flipH="1" rot="16200000">
            <a:off x="3275640" y="4806720"/>
            <a:ext cx="114372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arl Jung’s Model of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1409-A6F3-44B9-8A4A-B835141FEB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ers-Briggs Type Indicator (MBTI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measure psychological preferences in how people perceive the world and make deci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preferences were based on Carl Jung’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developers of the personality inventory were Katharine Cook Briggs and her daughter, Isabel Briggs My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an creating the indicator during World War II, believing that a knowledge of personality preferences would help women who were entering the industrial workforce for the first time identify the sort of war-time jobs where they would be "most comfortable and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F232-76C5-4D2E-8AAA-7B6B3DCBEB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1295280" y="1371600"/>
            <a:ext cx="6629400" cy="5334120"/>
            <a:chOff x="1295280" y="1371600"/>
            <a:chExt cx="6629400" cy="533412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3097800" y="2826000"/>
              <a:ext cx="2965680" cy="27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295280" y="1371600"/>
              <a:ext cx="6629400" cy="5334120"/>
            </a:xfrm>
            <a:custGeom>
              <a:avLst/>
              <a:gdLst>
                <a:gd name="textAreaLeft" fmla="*/ 1657440 w 6629400"/>
                <a:gd name="textAreaRight" fmla="*/ 4972320 w 6629400"/>
                <a:gd name="textAreaTop" fmla="*/ 1333440 h 5334120"/>
                <a:gd name="textAreaBottom" fmla="*/ 400068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3737520" y="1492560"/>
              <a:ext cx="232200" cy="30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I</a:t>
              </a:r>
              <a:endPara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249520" y="1492560"/>
              <a:ext cx="232560" cy="30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1353240" y="3432240"/>
              <a:ext cx="222840" cy="24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1353240" y="4402080"/>
              <a:ext cx="174240" cy="30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3679200" y="6281280"/>
              <a:ext cx="232560" cy="30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F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5249520" y="6281280"/>
              <a:ext cx="232560" cy="30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T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7691760" y="3432240"/>
              <a:ext cx="174240" cy="24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P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7633800" y="4402080"/>
              <a:ext cx="174240" cy="24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e6"/>
                  </a:solidFill>
                  <a:latin typeface="Times New Roman TUR"/>
                </a:rPr>
                <a:t>J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  <a:ea typeface="Times New Roman TUR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ers-Briggs Type Indicato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C3E7-4A8E-4E70-BECF-BAC9C0671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152280"/>
            <a:ext cx="990360" cy="6553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6553440"/>
              <a:gd name="textAreaBottom" fmla="*/ 6505200 h 6553440"/>
            </a:gdLst>
            <a:ahLst/>
            <a:rect l="textAreaLeft" t="textAreaTop" r="textAreaRight" b="textAreaBottom"/>
            <a:pathLst>
              <a:path w="21600" h="142888">
                <a:moveTo>
                  <a:pt x="3600" y="0"/>
                </a:moveTo>
                <a:arcTo wR="3600" hR="3600" stAng="16200000" swAng="-5400000"/>
                <a:lnTo>
                  <a:pt x="0" y="139288"/>
                </a:lnTo>
                <a:arcTo wR="3600" hR="3600" stAng="10800000" swAng="-5400000"/>
                <a:lnTo>
                  <a:pt x="18000" y="1428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85800" y="838080"/>
            <a:ext cx="609480" cy="1219320"/>
            <a:chOff x="685800" y="838080"/>
            <a:chExt cx="609480" cy="1219320"/>
          </a:xfrm>
        </p:grpSpPr>
        <p:sp>
          <p:nvSpPr>
            <p:cNvPr id="215" name=""/>
            <p:cNvSpPr/>
            <p:nvPr/>
          </p:nvSpPr>
          <p:spPr>
            <a:xfrm>
              <a:off x="685800" y="838080"/>
              <a:ext cx="60948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8080" y="990360"/>
              <a:ext cx="30492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52388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85800" y="2286000"/>
            <a:ext cx="609480" cy="1219320"/>
            <a:chOff x="685800" y="2286000"/>
            <a:chExt cx="609480" cy="1219320"/>
          </a:xfrm>
        </p:grpSpPr>
        <p:sp>
          <p:nvSpPr>
            <p:cNvPr id="219" name=""/>
            <p:cNvSpPr/>
            <p:nvPr/>
          </p:nvSpPr>
          <p:spPr>
            <a:xfrm>
              <a:off x="685800" y="2286000"/>
              <a:ext cx="60948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2438280"/>
              <a:ext cx="30492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080" y="297180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85800" y="3657600"/>
            <a:ext cx="609480" cy="1219320"/>
            <a:chOff x="685800" y="3657600"/>
            <a:chExt cx="609480" cy="1219320"/>
          </a:xfrm>
        </p:grpSpPr>
        <p:sp>
          <p:nvSpPr>
            <p:cNvPr id="223" name=""/>
            <p:cNvSpPr/>
            <p:nvPr/>
          </p:nvSpPr>
          <p:spPr>
            <a:xfrm>
              <a:off x="685800" y="3657600"/>
              <a:ext cx="60948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8080" y="3809880"/>
              <a:ext cx="30492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8080" y="434340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5800" y="5257800"/>
            <a:ext cx="609480" cy="1219320"/>
            <a:chOff x="685800" y="5257800"/>
            <a:chExt cx="609480" cy="1219320"/>
          </a:xfrm>
        </p:grpSpPr>
        <p:sp>
          <p:nvSpPr>
            <p:cNvPr id="227" name=""/>
            <p:cNvSpPr/>
            <p:nvPr/>
          </p:nvSpPr>
          <p:spPr>
            <a:xfrm>
              <a:off x="685800" y="5257800"/>
              <a:ext cx="60948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5410080"/>
              <a:ext cx="30492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080" y="594360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33520" y="533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228600"/>
            <a:ext cx="7621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BTI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cxnSp>
        <p:nvCxnSpPr>
          <p:cNvPr id="232" name=""/>
          <p:cNvCxnSpPr>
            <a:stCxn id="216" idx="6"/>
            <a:endCxn id="233" idx="1"/>
          </p:cNvCxnSpPr>
          <p:nvPr/>
        </p:nvCxnSpPr>
        <p:spPr>
          <a:xfrm flipV="1">
            <a:off x="1142640" y="532800"/>
            <a:ext cx="3353400" cy="648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7" idx="6"/>
            <a:endCxn id="235" idx="1"/>
          </p:cNvCxnSpPr>
          <p:nvPr/>
        </p:nvCxnSpPr>
        <p:spPr>
          <a:xfrm flipV="1">
            <a:off x="1142640" y="1294560"/>
            <a:ext cx="3353400" cy="420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4495680" y="2286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9907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19051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5680" y="26668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35812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43434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5257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60199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60020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I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06668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2514600"/>
            <a:ext cx="139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3048120"/>
            <a:ext cx="135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cxnSp>
        <p:nvCxnSpPr>
          <p:cNvPr id="246" name=""/>
          <p:cNvCxnSpPr>
            <a:stCxn id="220" idx="6"/>
            <a:endCxn id="236" idx="1"/>
          </p:cNvCxnSpPr>
          <p:nvPr/>
        </p:nvCxnSpPr>
        <p:spPr>
          <a:xfrm flipV="1">
            <a:off x="1142640" y="2208960"/>
            <a:ext cx="3353400" cy="420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21" idx="6"/>
            <a:endCxn id="237" idx="1"/>
          </p:cNvCxnSpPr>
          <p:nvPr/>
        </p:nvCxnSpPr>
        <p:spPr>
          <a:xfrm flipV="1">
            <a:off x="1142640" y="2971080"/>
            <a:ext cx="3353400" cy="191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24" idx="6"/>
            <a:endCxn id="238" idx="1"/>
          </p:cNvCxnSpPr>
          <p:nvPr/>
        </p:nvCxnSpPr>
        <p:spPr>
          <a:xfrm flipV="1">
            <a:off x="1142640" y="3885840"/>
            <a:ext cx="3353400" cy="1152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25" idx="6"/>
            <a:endCxn id="239" idx="1"/>
          </p:cNvCxnSpPr>
          <p:nvPr/>
        </p:nvCxnSpPr>
        <p:spPr>
          <a:xfrm>
            <a:off x="1142640" y="4533840"/>
            <a:ext cx="3353400" cy="1152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28" idx="6"/>
            <a:endCxn id="240" idx="1"/>
          </p:cNvCxnSpPr>
          <p:nvPr/>
        </p:nvCxnSpPr>
        <p:spPr>
          <a:xfrm flipV="1">
            <a:off x="1142640" y="5562360"/>
            <a:ext cx="3353400" cy="388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29" idx="6"/>
            <a:endCxn id="241" idx="1"/>
          </p:cNvCxnSpPr>
          <p:nvPr/>
        </p:nvCxnSpPr>
        <p:spPr>
          <a:xfrm>
            <a:off x="1142640" y="6133680"/>
            <a:ext cx="3353400" cy="191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 txBox="1"/>
          <p:nvPr/>
        </p:nvSpPr>
        <p:spPr>
          <a:xfrm>
            <a:off x="914400" y="3886200"/>
            <a:ext cx="162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F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4419720"/>
            <a:ext cx="171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T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5486400"/>
            <a:ext cx="162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P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6019920"/>
            <a:ext cx="1522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J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1066680"/>
            <a:ext cx="1676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Introver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8320" y="304920"/>
            <a:ext cx="1676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Extraver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1981080"/>
            <a:ext cx="1676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Intui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0" y="274320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Sens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0" y="365760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Feel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0" y="44197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Think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Perceptiv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0" y="609588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Judg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066F-0F5A-41E3-8CF8-A3A83222AC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920" y="1981080"/>
            <a:ext cx="990360" cy="274320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743200"/>
              <a:gd name="textAreaBottom" fmla="*/ 2694960 h 2743200"/>
            </a:gdLst>
            <a:ahLst/>
            <a:rect l="textAreaLeft" t="textAreaTop" r="textAreaRight" b="textAreaBottom"/>
            <a:pathLst>
              <a:path w="21600" h="59816">
                <a:moveTo>
                  <a:pt x="3600" y="0"/>
                </a:moveTo>
                <a:arcTo wR="3600" hR="3600" stAng="16200000" swAng="-5400000"/>
                <a:lnTo>
                  <a:pt x="0" y="56216"/>
                </a:lnTo>
                <a:arcTo wR="3600" hR="3600" stAng="10800000" swAng="-5400000"/>
                <a:lnTo>
                  <a:pt x="18000" y="5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7200" y="2666880"/>
            <a:ext cx="609480" cy="1219320"/>
            <a:chOff x="457200" y="2666880"/>
            <a:chExt cx="609480" cy="1219320"/>
          </a:xfrm>
        </p:grpSpPr>
        <p:sp>
          <p:nvSpPr>
            <p:cNvPr id="266" name=""/>
            <p:cNvSpPr/>
            <p:nvPr/>
          </p:nvSpPr>
          <p:spPr>
            <a:xfrm>
              <a:off x="457200" y="2666880"/>
              <a:ext cx="60948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9480" y="2819160"/>
              <a:ext cx="30492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480" y="335268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049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0880" y="2057400"/>
            <a:ext cx="7621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BTI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cxnSp>
        <p:nvCxnSpPr>
          <p:cNvPr id="271" name=""/>
          <p:cNvCxnSpPr>
            <a:stCxn id="267" idx="6"/>
            <a:endCxn id="272" idx="1"/>
          </p:cNvCxnSpPr>
          <p:nvPr/>
        </p:nvCxnSpPr>
        <p:spPr>
          <a:xfrm flipV="1">
            <a:off x="914040" y="1142640"/>
            <a:ext cx="2439000" cy="18676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8" idx="6"/>
            <a:endCxn id="274" idx="1"/>
          </p:cNvCxnSpPr>
          <p:nvPr/>
        </p:nvCxnSpPr>
        <p:spPr>
          <a:xfrm>
            <a:off x="914040" y="3543120"/>
            <a:ext cx="2439000" cy="2019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3352680" y="8380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257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342900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I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289548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429000" y="5334120"/>
            <a:ext cx="1676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Introver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429000" y="914400"/>
            <a:ext cx="1676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Extraver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380880"/>
            <a:ext cx="274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60199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1523880"/>
            <a:ext cx="1295280" cy="6098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3809880"/>
            <a:ext cx="274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19920" y="533520"/>
            <a:ext cx="27432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nts to talk through their ideas in order to clarify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ARNS BY TEACHING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3962520"/>
            <a:ext cx="27432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hers information from numerous sources. Likes to reflect and clarify before spe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CERNED WITH THEIR OWN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CC3C-C35E-4C96-AC58-A50B4EDBA0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onsistent pattern of behaviour within a range of individual variability (Cornet, 1983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tudent's consistent way of responding to and using stimuli in a learning environment (Claxton &amp; Ralston, 1978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individuals process information and prefer to learn (Garity, 198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y individuals organise information and experiences (Laschinger &amp; Boss, 1984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person's characteristic style of acquiring and using information (Haynsake, 1981) a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expression of psychological differentiation within characteristic modes of information processing (Witkin &amp; Goodenough, 1971, 198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FC14-60D9-4CCF-9AF1-E7B69DC7C2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04920" y="1981080"/>
            <a:ext cx="990360" cy="274320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743200"/>
              <a:gd name="textAreaBottom" fmla="*/ 2694960 h 2743200"/>
            </a:gdLst>
            <a:ahLst/>
            <a:rect l="textAreaLeft" t="textAreaTop" r="textAreaRight" b="textAreaBottom"/>
            <a:pathLst>
              <a:path w="21600" h="59816">
                <a:moveTo>
                  <a:pt x="3600" y="0"/>
                </a:moveTo>
                <a:arcTo wR="3600" hR="3600" stAng="16200000" swAng="-5400000"/>
                <a:lnTo>
                  <a:pt x="0" y="56216"/>
                </a:lnTo>
                <a:arcTo wR="3600" hR="3600" stAng="10800000" swAng="-5400000"/>
                <a:lnTo>
                  <a:pt x="18000" y="5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57200" y="2666880"/>
            <a:ext cx="609480" cy="1219320"/>
            <a:chOff x="457200" y="2666880"/>
            <a:chExt cx="609480" cy="1219320"/>
          </a:xfrm>
        </p:grpSpPr>
        <p:sp>
          <p:nvSpPr>
            <p:cNvPr id="287" name=""/>
            <p:cNvSpPr/>
            <p:nvPr/>
          </p:nvSpPr>
          <p:spPr>
            <a:xfrm>
              <a:off x="457200" y="2666880"/>
              <a:ext cx="60948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480" y="2819160"/>
              <a:ext cx="30492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480" y="335268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049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0880" y="2057400"/>
            <a:ext cx="7621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BTI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cxnSp>
        <p:nvCxnSpPr>
          <p:cNvPr id="292" name=""/>
          <p:cNvCxnSpPr>
            <a:stCxn id="288" idx="6"/>
            <a:endCxn id="293" idx="1"/>
          </p:cNvCxnSpPr>
          <p:nvPr/>
        </p:nvCxnSpPr>
        <p:spPr>
          <a:xfrm flipV="1">
            <a:off x="914040" y="1142640"/>
            <a:ext cx="2439000" cy="18676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9" idx="6"/>
            <a:endCxn id="295" idx="1"/>
          </p:cNvCxnSpPr>
          <p:nvPr/>
        </p:nvCxnSpPr>
        <p:spPr>
          <a:xfrm>
            <a:off x="914040" y="3543120"/>
            <a:ext cx="2439000" cy="2019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3352680" y="8380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5257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19920" y="380880"/>
            <a:ext cx="274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48320" y="60199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1523880"/>
            <a:ext cx="1295280" cy="6098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3809880"/>
            <a:ext cx="274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2895480"/>
            <a:ext cx="139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429000"/>
            <a:ext cx="135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505320" y="914400"/>
            <a:ext cx="1676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Intui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42900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Sens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380880"/>
            <a:ext cx="27432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ested in the patterns and relationships between the facts, discovery learning,  they try to develop new original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KE SIMULATIONS OR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9920" y="3962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19920" y="3809880"/>
            <a:ext cx="28954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cus on facts and details. Like structured lectures, guidelines and objectives. Tend to apply standard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CERNED WITH WHAT MUST BE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09DF-387A-4280-A20E-FF93E7A231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1981080"/>
            <a:ext cx="990360" cy="274320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743200"/>
              <a:gd name="textAreaBottom" fmla="*/ 2694960 h 2743200"/>
            </a:gdLst>
            <a:ahLst/>
            <a:rect l="textAreaLeft" t="textAreaTop" r="textAreaRight" b="textAreaBottom"/>
            <a:pathLst>
              <a:path w="21600" h="59816">
                <a:moveTo>
                  <a:pt x="3600" y="0"/>
                </a:moveTo>
                <a:arcTo wR="3600" hR="3600" stAng="16200000" swAng="-5400000"/>
                <a:lnTo>
                  <a:pt x="0" y="56216"/>
                </a:lnTo>
                <a:arcTo wR="3600" hR="3600" stAng="10800000" swAng="-5400000"/>
                <a:lnTo>
                  <a:pt x="18000" y="5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57200" y="2666880"/>
            <a:ext cx="609480" cy="1219320"/>
            <a:chOff x="457200" y="2666880"/>
            <a:chExt cx="609480" cy="1219320"/>
          </a:xfrm>
        </p:grpSpPr>
        <p:sp>
          <p:nvSpPr>
            <p:cNvPr id="309" name=""/>
            <p:cNvSpPr/>
            <p:nvPr/>
          </p:nvSpPr>
          <p:spPr>
            <a:xfrm>
              <a:off x="457200" y="2666880"/>
              <a:ext cx="60948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2819160"/>
              <a:ext cx="30492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335268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049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0880" y="2057400"/>
            <a:ext cx="7621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BTI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cxnSp>
        <p:nvCxnSpPr>
          <p:cNvPr id="314" name=""/>
          <p:cNvCxnSpPr>
            <a:stCxn id="310" idx="6"/>
            <a:endCxn id="315" idx="1"/>
          </p:cNvCxnSpPr>
          <p:nvPr/>
        </p:nvCxnSpPr>
        <p:spPr>
          <a:xfrm flipV="1">
            <a:off x="914040" y="1142640"/>
            <a:ext cx="2439000" cy="18676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11" idx="6"/>
            <a:endCxn id="317" idx="1"/>
          </p:cNvCxnSpPr>
          <p:nvPr/>
        </p:nvCxnSpPr>
        <p:spPr>
          <a:xfrm>
            <a:off x="914040" y="3543120"/>
            <a:ext cx="2439000" cy="2019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3352680" y="8380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257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380880"/>
            <a:ext cx="274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48320" y="60199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8320" y="1523880"/>
            <a:ext cx="1295280" cy="6098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3809880"/>
            <a:ext cx="274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429000" y="91440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Feel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42900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Think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2895480"/>
            <a:ext cx="162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F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800" y="3429000"/>
            <a:ext cx="171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T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26" name=""/>
          <p:cNvSpPr/>
          <p:nvPr/>
        </p:nvSpPr>
        <p:spPr>
          <a:xfrm>
            <a:off x="6019920" y="380880"/>
            <a:ext cx="27432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jective in their decision making and consider how their decisions affect others, like small group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PEN-ENDED CONSTRUCTIVISTIC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9920" y="3962520"/>
            <a:ext cx="27432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ply on analysis, logic and existing principles. Like tests to measure pro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SE CASE STUDI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DAB1-FBCE-4661-A849-1BB0D3F1DB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04920" y="1981080"/>
            <a:ext cx="990360" cy="274320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743200"/>
              <a:gd name="textAreaBottom" fmla="*/ 2694960 h 2743200"/>
            </a:gdLst>
            <a:ahLst/>
            <a:rect l="textAreaLeft" t="textAreaTop" r="textAreaRight" b="textAreaBottom"/>
            <a:pathLst>
              <a:path w="21600" h="59816">
                <a:moveTo>
                  <a:pt x="3600" y="0"/>
                </a:moveTo>
                <a:arcTo wR="3600" hR="3600" stAng="16200000" swAng="-5400000"/>
                <a:lnTo>
                  <a:pt x="0" y="56216"/>
                </a:lnTo>
                <a:arcTo wR="3600" hR="3600" stAng="10800000" swAng="-5400000"/>
                <a:lnTo>
                  <a:pt x="18000" y="5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" y="2666880"/>
            <a:ext cx="609480" cy="1219320"/>
            <a:chOff x="457200" y="2666880"/>
            <a:chExt cx="609480" cy="1219320"/>
          </a:xfrm>
        </p:grpSpPr>
        <p:sp>
          <p:nvSpPr>
            <p:cNvPr id="330" name=""/>
            <p:cNvSpPr/>
            <p:nvPr/>
          </p:nvSpPr>
          <p:spPr>
            <a:xfrm>
              <a:off x="457200" y="2666880"/>
              <a:ext cx="60948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2819160"/>
              <a:ext cx="30492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335268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49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2057400"/>
            <a:ext cx="7621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BTI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cxnSp>
        <p:nvCxnSpPr>
          <p:cNvPr id="335" name=""/>
          <p:cNvCxnSpPr>
            <a:stCxn id="331" idx="6"/>
            <a:endCxn id="336" idx="1"/>
          </p:cNvCxnSpPr>
          <p:nvPr/>
        </p:nvCxnSpPr>
        <p:spPr>
          <a:xfrm flipV="1">
            <a:off x="914040" y="1142640"/>
            <a:ext cx="2439000" cy="18676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2" idx="6"/>
            <a:endCxn id="338" idx="1"/>
          </p:cNvCxnSpPr>
          <p:nvPr/>
        </p:nvCxnSpPr>
        <p:spPr>
          <a:xfrm>
            <a:off x="914040" y="3543120"/>
            <a:ext cx="2439000" cy="2019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3352680" y="8380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5257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380880"/>
            <a:ext cx="274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60199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1523880"/>
            <a:ext cx="1295280" cy="6098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9920" y="3809880"/>
            <a:ext cx="274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429000" y="91440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Perceptiv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42900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Judg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2895480"/>
            <a:ext cx="162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P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3429000"/>
            <a:ext cx="1522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Times New Roman TUR"/>
              </a:rPr>
              <a:t>J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Times New Roman TUR"/>
              <a:ea typeface="Times New Roman TUR"/>
            </a:endParaRPr>
          </a:p>
        </p:txBody>
      </p:sp>
      <p:sp>
        <p:nvSpPr>
          <p:cNvPr id="347" name=""/>
          <p:cNvSpPr/>
          <p:nvPr/>
        </p:nvSpPr>
        <p:spPr>
          <a:xfrm>
            <a:off x="6019920" y="533520"/>
            <a:ext cx="27432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fer flexibility and adaptability, often postpone doing work until the very last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EK INFORMATION UNTIL THE DEADLINE (AND OFTEN BEYO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3962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3962520"/>
            <a:ext cx="27432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fer structure and organisation, appreciate any resources that can help them plan the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ADLINES ARE SAC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9EF6-DB23-4483-B0FE-3BCDA8704A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027240" y="549360"/>
            <a:ext cx="3129120" cy="59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5AE3-0E59-43D6-A57C-2EEC4B1215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ther Learning Styles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66840" y="1844640"/>
            <a:ext cx="2404800" cy="2016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62320" y="4343400"/>
            <a:ext cx="2185920" cy="2133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957400" y="1600200"/>
            <a:ext cx="28958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0520" y="1600200"/>
            <a:ext cx="25909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90520" y="4191120"/>
            <a:ext cx="25909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57400" y="4191120"/>
            <a:ext cx="28958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29200" y="4191120"/>
            <a:ext cx="2819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29200" y="1600200"/>
            <a:ext cx="2819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3033720" y="1828800"/>
            <a:ext cx="2666880" cy="193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366840" y="4419720"/>
            <a:ext cx="2438280" cy="19191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6084720" y="4324320"/>
            <a:ext cx="2519640" cy="22003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6"/>
          <a:stretch/>
        </p:blipFill>
        <p:spPr>
          <a:xfrm>
            <a:off x="6005520" y="1905120"/>
            <a:ext cx="2590920" cy="18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5A50-7DB0-479C-AA0B-4D73189F18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eirsey Temperament Sor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2286000"/>
            <a:ext cx="2971800" cy="33526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33920" y="1676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Guard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Idea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Artis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Ratio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3439-60B0-4243-B531-C53B7CB255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eirsey Temperament Sor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ardia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re sensible, down-to-earth people who are the backbone of institutions and the true stabilisers of socie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alis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lieve that friendly co-operation is the best way for people to achieve their goals. They dream of removing the walls of conflict and selfishness that divid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ever their field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iona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et out to comprehend the natural world in all its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sa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re most at home in the external world of solid objects that can be made and manipulated, and of real-life events that can be experienced in the here and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1218960" cy="909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1218960" cy="909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1295280" cy="9669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304920" y="2895480"/>
            <a:ext cx="1266840" cy="9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D3C1-62E4-4881-AA4E-E52F8C5E22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Relationship between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Keirsey Temperament Sorter and MBT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806560" y="1773360"/>
            <a:ext cx="35658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B828-D9C3-4B22-8935-030B2037EE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Kolb’s Learning Style Invent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447920" y="1676520"/>
          <a:ext cx="5902200" cy="45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59022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89ED-24AE-45D8-9E7F-F597218FB5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Kolb’s Learning Style Invent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oris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Like case studies, theory readings, and thinking alone. Their strengths lie in their ability to create theoretical mod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agmatis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eer feedback; activities that apply skills; self-directed autonomous learner. The pragmatist's greatest strength is in the practical application of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tivist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ike practising the skill, problem solving, small group discussions, peer feedback; trainer should be a model of a professional, leaving the learner to determine her own criteria for relevance of materi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lecto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ike lectures with plenty of reflection time; trainer should provide expert interpretation - taskmaster/guide; judge performance by external criteria. Their strengths lie in an imaginative 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28600" y="5415120"/>
            <a:ext cx="1219320" cy="9093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1218960" cy="909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228600" y="2666880"/>
            <a:ext cx="1295280" cy="9669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228600" y="3932280"/>
            <a:ext cx="1266840" cy="9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BE9A-786C-4D65-A7F2-5FB1F12BA3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079440" y="1936440"/>
            <a:ext cx="580464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ga-IE" sz="4600" spc="-1" strike="noStrike">
                <a:solidFill>
                  <a:srgbClr val="ffffff"/>
                </a:solidFill>
                <a:latin typeface="Arial"/>
              </a:rPr>
              <a:t>bit</a:t>
            </a:r>
            <a:r>
              <a:rPr b="1" lang="en-IE" sz="4600" spc="-1" strike="noStrike">
                <a:solidFill>
                  <a:srgbClr val="ffffff"/>
                </a:solidFill>
                <a:latin typeface="Arial"/>
              </a:rPr>
              <a:t> like </a:t>
            </a:r>
            <a:br>
              <a:rPr sz="4600"/>
            </a:br>
            <a:r>
              <a:rPr b="1" lang="en-IE" sz="4600" spc="-1" strike="noStrike">
                <a:solidFill>
                  <a:srgbClr val="ffffff"/>
                </a:solidFill>
                <a:latin typeface="Arial"/>
              </a:rPr>
              <a:t>Harry Potter’s </a:t>
            </a:r>
            <a:br>
              <a:rPr sz="4600"/>
            </a:br>
            <a:r>
              <a:rPr b="1" lang="en-IE" sz="4600" spc="-1" strike="noStrike">
                <a:solidFill>
                  <a:srgbClr val="ffffff"/>
                </a:solidFill>
                <a:latin typeface="Arial"/>
              </a:rPr>
              <a:t>Sorting Hat</a:t>
            </a:r>
            <a:r>
              <a:rPr b="1" lang="ga-IE" sz="4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ermann Brain Domin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600200" y="1752480"/>
          <a:ext cx="586728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586728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6A6F-B64B-42E4-A2E4-2C551341DC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win’s Learning Cyc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209680" y="1676520"/>
          <a:ext cx="5105520" cy="48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76520"/>
                    <a:ext cx="510552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A385-B474-4CE9-82E7-316A5D4CE9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ney-Mumford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835280" y="1413000"/>
          <a:ext cx="5616360" cy="49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61636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C2A5-F369-4D7C-B62E-0347B226CE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62120" y="1676520"/>
            <a:ext cx="7467480" cy="48006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egorc Learning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95680" y="28954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40384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581280"/>
            <a:ext cx="1523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3505320"/>
            <a:ext cx="1523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5334120"/>
            <a:ext cx="1523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33920" y="1905120"/>
            <a:ext cx="1523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88000" y="5486400"/>
            <a:ext cx="12538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00"/>
                </a:solidFill>
                <a:latin typeface="Times New Roman"/>
              </a:rPr>
              <a:t>Concr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00"/>
                </a:solidFill>
                <a:latin typeface="Times New Roman"/>
              </a:rPr>
              <a:t>Sequential</a:t>
            </a:r>
            <a:r>
              <a:rPr b="1" lang="en-GB" sz="1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45760" y="3733920"/>
            <a:ext cx="10753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11320" y="2054160"/>
            <a:ext cx="12096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52480" y="3581280"/>
            <a:ext cx="16002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Random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91CD-C0E7-4C9A-8F4B-AC53BDD46D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600" spc="-1" strike="noStrike">
                <a:solidFill>
                  <a:srgbClr val="ffffff"/>
                </a:solidFill>
                <a:latin typeface="Arial"/>
              </a:rPr>
              <a:t>Try </a:t>
            </a:r>
            <a:r>
              <a:rPr b="1" lang="ga-IE" sz="4600" spc="-1" strike="noStrike">
                <a:solidFill>
                  <a:srgbClr val="ffffff"/>
                </a:solidFill>
                <a:latin typeface="Arial"/>
              </a:rPr>
              <a:t>out </a:t>
            </a:r>
            <a:r>
              <a:rPr b="1" lang="en-IE" sz="4600" spc="-1" strike="noStrike">
                <a:solidFill>
                  <a:srgbClr val="ffffff"/>
                </a:solidFill>
                <a:latin typeface="Arial"/>
              </a:rPr>
              <a:t>the Gregorc Inventory</a:t>
            </a:r>
            <a:r>
              <a:rPr b="1" lang="ga-IE" sz="4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2067-5704-4BDB-8986-2287F1C718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343400" y="2057400"/>
            <a:ext cx="431640" cy="576360"/>
          </a:xfrm>
          <a:prstGeom prst="upArrow">
            <a:avLst>
              <a:gd name="adj1" fmla="val 50000"/>
              <a:gd name="adj2" fmla="val 33382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81000"/>
            <a:ext cx="4425840" cy="19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"You might belong in Gryffind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Where dwell the brave at hea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ga-IE" sz="1800" spc="-1" strike="noStrike">
                <a:solidFill>
                  <a:srgbClr val="000000"/>
                </a:solidFill>
                <a:latin typeface="Times New Roman"/>
              </a:rPr>
              <a:t>eir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daring, nerve, and chival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Set Gryffindors apa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888840" cy="1066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56000" y="2060640"/>
            <a:ext cx="432000" cy="576360"/>
          </a:xfrm>
          <a:prstGeom prst="upArrow">
            <a:avLst>
              <a:gd name="adj1" fmla="val 50000"/>
              <a:gd name="adj2" fmla="val 33354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5562720" cy="417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73DA-6D7F-42AA-8CD1-8CB03AFED6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rot="5400000">
            <a:off x="5558400" y="3128040"/>
            <a:ext cx="431640" cy="576360"/>
          </a:xfrm>
          <a:prstGeom prst="upArrow">
            <a:avLst>
              <a:gd name="adj1" fmla="val 50000"/>
              <a:gd name="adj2" fmla="val 33382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580720" y="3141000"/>
            <a:ext cx="432000" cy="576000"/>
          </a:xfrm>
          <a:prstGeom prst="upArrow">
            <a:avLst>
              <a:gd name="adj1" fmla="val 50000"/>
              <a:gd name="adj2" fmla="val 33333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844640"/>
            <a:ext cx="2835360" cy="30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"Here in wise old Ravenclaw, 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If you've a ready mind, 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hose of wit and learning, 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Will always find their kind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64360" y="1916280"/>
            <a:ext cx="949320" cy="122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5445360" cy="408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BFFC-4926-429C-B38E-2576B89363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10800000">
            <a:off x="4716360" y="4005360"/>
            <a:ext cx="432000" cy="576000"/>
          </a:xfrm>
          <a:prstGeom prst="upArrow">
            <a:avLst>
              <a:gd name="adj1" fmla="val 50000"/>
              <a:gd name="adj2" fmla="val 33333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33720" y="141120"/>
            <a:ext cx="5410080" cy="4057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95640" y="4653000"/>
            <a:ext cx="5472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"Here you are in Slytherin,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Where you'll make your real friends, 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hose cunning folk use any means 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o achieve their end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68360" y="5013360"/>
            <a:ext cx="1249560" cy="149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AD80-70FC-419D-BB7B-CFBDB928DE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16200000">
            <a:off x="3491640" y="2924640"/>
            <a:ext cx="431640" cy="576000"/>
          </a:xfrm>
          <a:prstGeom prst="upArrow">
            <a:avLst>
              <a:gd name="adj1" fmla="val 50000"/>
              <a:gd name="adj2" fmla="val 33361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06720" y="1349280"/>
            <a:ext cx="5202360" cy="3902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1484280"/>
            <a:ext cx="320364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"You belong in Hufflepuff,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Where they are just and loyal,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hose patient Hufflepuffs are true 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nd unafraid to toi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271520" y="1557360"/>
            <a:ext cx="1139760" cy="136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15E8-7C8C-49DA-8B25-89C9D3DE31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71800" y="5562720"/>
            <a:ext cx="3581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"Here you are in Slytherin,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Where you'll make your real friends,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Those cunning folk use any means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To achieve their ends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152280"/>
            <a:ext cx="3276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"You might belong in Gryffind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Where dwell the brave at hea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There daring, nerve, and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Set Gryffindors apa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2514600"/>
            <a:ext cx="1981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"Here in wise old Ravenclaw,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If you've a ready mind,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Those of wit and learning,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Will always find their kind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438280"/>
            <a:ext cx="23623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"You belong in Hufflepuff,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Where they are just and loyal,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Those patient Hufflepuffs are true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And unafraid to toil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888840" cy="1066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82548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543800" y="2590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124080" y="5638680"/>
            <a:ext cx="889200" cy="1067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438360" y="2327400"/>
            <a:ext cx="2718000" cy="2038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140360" y="1197000"/>
            <a:ext cx="1296720" cy="1152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6191640" y="2456640"/>
            <a:ext cx="1297080" cy="1368360"/>
          </a:xfrm>
          <a:prstGeom prst="upArrow">
            <a:avLst>
              <a:gd name="adj1" fmla="val 50000"/>
              <a:gd name="adj2" fmla="val 26374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4140360" y="4365360"/>
            <a:ext cx="1296720" cy="1368360"/>
          </a:xfrm>
          <a:prstGeom prst="upArrow">
            <a:avLst>
              <a:gd name="adj1" fmla="val 50000"/>
              <a:gd name="adj2" fmla="val 26381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159640" y="2456280"/>
            <a:ext cx="1297080" cy="1368360"/>
          </a:xfrm>
          <a:prstGeom prst="upArrow">
            <a:avLst>
              <a:gd name="adj1" fmla="val 50000"/>
              <a:gd name="adj2" fmla="val 26374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1627-0A53-41DC-BDE1-C66E5341D1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5:18:54Z</dcterms:created>
  <dc:creator>CM</dc:creator>
  <dc:description/>
  <dc:language>en-US</dc:language>
  <cp:lastModifiedBy>CM</cp:lastModifiedBy>
  <dcterms:modified xsi:type="dcterms:W3CDTF">2009-11-04T14:42:19Z</dcterms:modified>
  <cp:revision>592</cp:revision>
  <dc:subject/>
  <dc:title>Slide 1</dc:title>
</cp:coreProperties>
</file>