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5360-AB4D-4458-87FC-E134196C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8D84-04A8-45EA-8566-443D8CF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016C-298A-4ABD-9DF3-2B0B1A0A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AB7E-644E-4C10-AEBB-389037B3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693C-7343-491B-B398-EC2E6F4D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F04E-3256-487D-A90B-A02115E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31AC-29CC-4C0B-958B-C85C3E6C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4113-8F8A-4B88-BB2E-DD1E775F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F0DC-F751-47FB-AEB5-246432BC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D79D-038B-444D-96F5-3AF9B4B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6F7C-3343-411F-AB93-19CBFF1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9535-9379-4E09-9690-5341E3B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6951-3B53-45F5-AB05-DEBDD0A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87C9-C34F-4F00-A5EB-B389E56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D93-DE24-42EE-BB10-E3C8B409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596E-CE4D-46F8-9F8B-9E346DAC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45AC-63A4-4BBD-8597-274C2B50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5E44-B314-4289-B0DD-0874A527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75F1-D89D-4A68-BD45-74FB1A7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92A9-6ECF-473D-A678-C9A8E3C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D938-0A9D-4A68-8959-D469687E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7286-05E6-4AE7-ADED-98FFA53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3245-13AD-419E-AA76-FF40DAA1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0B0C-DF66-4B0A-A5E5-D5E2CCD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311B-1E7C-485E-A548-909022D4F51B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0A9-B781-4C1A-96CB-B36A4B90F26C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000" spc="-1" strike="noStrike">
                <a:solidFill>
                  <a:srgbClr val="ffffff"/>
                </a:solidFill>
                <a:latin typeface="Arial"/>
              </a:rPr>
              <a:t>Learning Theories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400" spc="-1" strike="noStrike">
                <a:solidFill>
                  <a:srgbClr val="000000"/>
                </a:solidFill>
                <a:latin typeface="Arial"/>
              </a:rPr>
              <a:t>Behaviourism, cognitivism, social constructivis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Zone of Proximal Development (ZP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4648320" cy="344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810240" cy="2667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91120" y="22860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3800" y="1600200"/>
            <a:ext cx="80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"What a child can do with assistance today, she will be able to do by herself tomorrow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(Vygotsky, p. 81, 1978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735C-9CEE-4845-9957-E81676D390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Zone of Proximal Development (ZPD) - defin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ithin this definition, all three themes of Vygotsky’s writings are appa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ocial aspect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consisting of someone with expertise providing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 social connections in conjunction with various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ultural mediator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like symbols or even technology, allow f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ternalization of these processes to be applied in the future by th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learners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4E25-373E-48AE-B73D-39CE465F3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Social Development in Edu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Many schools have traditionally held a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transmissionist 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 instructionist model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in which a teacher or lecturer ‘transmits’ information to stud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n contrast, Vygotsky’s theory promotes learning contexts in which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students play an active role in learning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Roles of the teacher and student are therefore shifted, as a teacher should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collaborate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with his or her students in order to help facilitate meaning construction in students. Learning becomes a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reciprocal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experience for the students and teac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constructivist classroom the teacher must function not as the "knower of all things", but 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acilita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learning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onstructivism is a highly progressive model of education because it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transfers control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of learning from the teacher to the learn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No longer an instructor, the term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“coach”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may be a better application in educational setting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he learner constructs and validates his/her own set of knowledge with the prodding and instructions of his/her coach. Knowledge is negotiated and achieved through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collaborative work 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(Mishra, 200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8600" y="6613560"/>
            <a:ext cx="445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design.test.olt.ubc.ca/Vygotsky%27s_Zone_of_Proximal_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29400" y="4297320"/>
            <a:ext cx="2055960" cy="202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537240" y="1676520"/>
            <a:ext cx="1947960" cy="208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05720" y="167652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705720" y="1752480"/>
            <a:ext cx="16761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2B6D-FDD2-469C-AEC8-F90D32DAEB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Constructivist Learning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nstructivist Learning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mphasizes learning in context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eaningfu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high-level thinking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activities to develop cognitive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nstructivists are interested in having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learners identify and pursue their own learn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Problem solving, reasoning, critical thinking and reflection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constitute the goals of constructivist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81296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CF3E-E68B-401E-811D-D5D07BD364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Constructivist Assumptions about Lear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Constructivism is a view in which knowledge is believed to be constructed rather than acquired. It is not one theory but a multitude of approach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active learner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is a successful learner.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Learning by doing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enables learners to achieve deep levels of understan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Knowledge is constructed by learners as they attempt to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make sense of their experiences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earners are actively seeking meaning because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learning with understanding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is desired, as opposed to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rote learning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any constructivist theorists agree that there is a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social component to learning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, as learners test their own understandings against those of others, such as those of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teachers or more advanced peers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. Therefore, the social structure of a learning environment is impor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79BB-8EE3-4043-B9E4-653B12827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Constructivist Conditions for Learning - 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Process not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the process of learning, rather than the products of learning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. This can be accomplished by embedding learning in complex, realistic and relevant environments.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Minimal hand-ho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Simplifying tasks for learners will prevent them from learning how to solve the complex problems they will solve in real life by providing for 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social negotiation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as an essential part of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Academic / soc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Higher mental processes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develop through social interaction. Students develop and defend individual perspectives while recognizing those of others and teachers support multiple perspectives and the use of multiple modes of re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Mulit-sensory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Viewing the same content through 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different sensory modes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(such as visual, auditory, or tactile) enables different aspects of it to be seen and encourages ownership in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Self-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Students are actively involved in determining what 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their own learning needs are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and how those needs can be satisfied, rather than being 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passive recipients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of instruction that has been designed for them. Teachers share in the learning process rather than controll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3FA5-17AC-4E0D-B710-263C2F36B7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000" spc="-1" strike="noStrike">
                <a:solidFill>
                  <a:srgbClr val="ffffff"/>
                </a:solidFill>
                <a:latin typeface="Arial"/>
              </a:rPr>
              <a:t>Recap on Learning Theories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400" spc="-1" strike="noStrike">
                <a:solidFill>
                  <a:srgbClr val="000000"/>
                </a:solidFill>
                <a:latin typeface="Arial"/>
              </a:rPr>
              <a:t>Behaviourism, cognativism, social constructiv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09480" y="1371600"/>
          <a:ext cx="7848720" cy="457200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1962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ur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ativ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es learning occu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box – observable behaviour mai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, comput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meaning created by each learner (pers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factors influence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e of reward, punishment, stim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schema, previous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ement, participation, social, cult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ole of memor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is the hard-wiring of repeated experiences -  where reward and punishment are most influ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, storage, retrie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knowledge remixed to current con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es transfer occu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us, re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icating knowledge constructs of “knower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learning best explained by this theor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-based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ing, clear objectives, problem sol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, vague (“ill defined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52280" y="615636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Siemens' (2006) response to Verhagen, 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ivisim: Learning theory or pastime for the self-amused?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design.test.olt.ubc.ca/Situating_Connectiv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tmer, P. &amp; Newby, T. (1993) 'Behaviorism, cognitivism, constructivism: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ring critical fea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n instructional design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e',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ment Quarterly, 6(4): 50-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307C-B369-477C-9AF3-91534346B7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ehaviou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timulus-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gnativ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ind is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knowledge is constructed in a soci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flipH="1">
            <a:off x="4114440" y="1447920"/>
            <a:ext cx="1654200" cy="1676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23048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205740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B86D-C388-4A4F-9EE7-CD1B8D2D64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000" spc="-1" strike="noStrike">
                <a:solidFill>
                  <a:srgbClr val="ffffff"/>
                </a:solidFill>
                <a:latin typeface="Arial"/>
              </a:rPr>
              <a:t>Constructivism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4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Constructivis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onstructivism is a theory on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how people le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t holds that learning is an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active, constructiv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ism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i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rriculum should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er-cent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ather than teacher-cente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ers arrive in the educational setting wi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 knowl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they can use as a building block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ring new knowl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ers construct meaning and understanding based on prior knowledge. </a:t>
            </a:r>
            <a:r>
              <a:rPr b="0" lang="ga-IE" sz="900" spc="-1" strike="noStrike">
                <a:solidFill>
                  <a:srgbClr val="000000"/>
                </a:solidFill>
                <a:latin typeface="Arial"/>
              </a:rPr>
              <a:t>(http://design.test.olt.ubc.ca/Cognitive-Construc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he learner is an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information constructor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. People actively construct or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create their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own subjective representations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of objective reality. New information is linked to to prior knowled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he learner is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not a blank slate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tabula rasa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) but brings past experiences and cultural factors to a sit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5400" y="6537240"/>
            <a:ext cx="31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www.learning-theories.com/constructivism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21520" y="901800"/>
            <a:ext cx="2313000" cy="11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0EC9-1DB5-43D1-8797-E849AB2DF8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Some of the guiding principles of constructivism in edu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earning is a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earch for meaning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 Therefore, learning must start with the issues around which students are actively trying to construct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eaning requires understanding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whole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as well as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part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 And parts must be understood in the context of wholes. Therefore, the learning process focuses on primary concepts, not isolated fa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 purpose of learning is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for an individual to construct his or her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own meaning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not just memorize the “right” answers and regurgitate someone else’s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93160" y="6248520"/>
            <a:ext cx="421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www.funderstanding.com/content/constructivis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Jacqueline and Martin Brooks, </a:t>
            </a:r>
            <a:r>
              <a:rPr b="0" i="1" lang="ga-IE" sz="1000" spc="-1" strike="noStrike">
                <a:solidFill>
                  <a:srgbClr val="000000"/>
                </a:solidFill>
                <a:latin typeface="Arial"/>
              </a:rPr>
              <a:t>The Case for Constructivist Classrooms</a:t>
            </a: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D6BD-A33C-41CE-9F59-B73D1E96C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51240" y="990720"/>
            <a:ext cx="430992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2286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arts must be understood in the context of whol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1AC8-8A48-44D8-93A4-DF8DF3E54A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Originators and important contributor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Originators and important contribu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Vygotsky, Piaget, Dewey, Vico, Rorty, Bru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Lev Semyonovich Vygot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(1896–1934) a Russian-Belarusian psychologist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a social constructivism view of learning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of proximal development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”). Work was largely unkown to the West until it was published in 196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Jean Pia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96–1980) a Swiss psychologist and philosopher, well known for his pedagogical studies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143352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14367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D59F-905C-4DD0-A4E7-A0023A30BE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000" spc="-1" strike="noStrike">
                <a:solidFill>
                  <a:srgbClr val="000000"/>
                </a:solidFill>
                <a:latin typeface="Arial"/>
              </a:rPr>
              <a:t>Vygotsky &amp; social constructivis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ygotsky believed that learning is a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ocial proces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hence his theory is referred to as “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ocial constructiv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ygotsky’s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ocial development theory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is one of the foundations for constructiv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e believed that language, particularly self-talk and inner speech, plays a major role in lear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jor applications of Vygotsky's theory to education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Zone of Proxim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caff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Guided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e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9720" y="6459480"/>
            <a:ext cx="41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www.learning-theories.com/vygotskys-social-learning-theory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289548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46B8-1629-48F0-A2F9-5A5E033C2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Vygotsky’s foc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ygotsky focused on th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nnections between people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and the sociocultural context in which they act and interact in shared experiences (Crawford,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ccording to Vygotsky, humans use tools that develop from a culture, such as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peech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to mediate their social environments. Initially children develop these tools to serve solely as social functions, ways to communicate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ygotsky believed that the internalization of these tools led to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higher thinking skill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9720" y="6459480"/>
            <a:ext cx="41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www.learning-theories.com/vygotskys-social-learning-theory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A9EC-E75B-408F-A3AF-404FA5B221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d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400" spc="-1" strike="noStrike">
                <a:solidFill>
                  <a:srgbClr val="000000"/>
                </a:solidFill>
                <a:latin typeface="Arial"/>
              </a:rPr>
              <a:t>Social Development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Vygotsky’s social development theory asserts three major the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Social interaction plays a fundamental role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in cognitive develop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Vygotsky felt social learning </a:t>
            </a:r>
            <a:r>
              <a:rPr b="0" lang="ga-IE" sz="1400" spc="-1" strike="noStrike" u="sng">
                <a:solidFill>
                  <a:srgbClr val="000000"/>
                </a:solidFill>
                <a:uFillTx/>
                <a:latin typeface="Arial"/>
              </a:rPr>
              <a:t>precedes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Every function in the child’s cultural development appears twice: first, on the social level, and later, on the individual level; first, between people (interpsychological) and then inside the child (intrapsychological).”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(Vygotsky, 197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The More Knowledgeable Other (MKO)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he MKO refers to anyone who has a better understanding or a higher ability level than the learner, with respect to a particular task, process, or concept. The MKO is normally thought of as being a teacher, coach, or older adult, but the MKO could also be peers, a younger person, or even compu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The Zone of Proximal Development (ZPD)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he ZPD is the distance between a student’s ability to perform a task under adult guidance and/or with peer collaboration and the student’s ability solving the problem independently. According to Vygotsky, learning occurred in this z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59720" y="6459480"/>
            <a:ext cx="41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http://www.learning-theories.com/vygotskys-social-learning-theory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4EB4-F765-41FB-92E4-5D35D896C1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5:18:54Z</dcterms:created>
  <dc:creator>CM</dc:creator>
  <dc:description/>
  <dc:language>en-US</dc:language>
  <cp:lastModifiedBy>CM</cp:lastModifiedBy>
  <dcterms:modified xsi:type="dcterms:W3CDTF">2009-11-04T14:45:24Z</dcterms:modified>
  <cp:revision>447</cp:revision>
  <dc:subject/>
  <dc:title>Slide 1</dc:title>
</cp:coreProperties>
</file>