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6.png" ContentType="image/png"/>
  <Override PartName="/ppt/media/image10.png" ContentType="image/png"/>
  <Override PartName="/ppt/media/image27.jpeg" ContentType="image/jpeg"/>
  <Override PartName="/ppt/media/image5.png" ContentType="image/png"/>
  <Override PartName="/ppt/media/image4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4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25.png" ContentType="image/png"/>
  <Override PartName="/ppt/media/image2.png" ContentType="image/png"/>
  <Override PartName="/ppt/media/image26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6ECA8-F93A-47A6-95E2-47F692826F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teration is more of a “what” than a “why” or “how”. It’s a skimming over of a wide are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1AE6-19F7-48A3-B09D-0E4F7C8FB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4538-31F5-4C1B-9114-06904AAC7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A953-9B30-4B6C-BCB8-0AA052A8C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716D-0910-43C4-A2A0-91C1D1989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E002-FE77-48C6-9A76-802435A21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525D-2E2C-4507-8BAB-FAE175278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F113-563E-4B52-957D-FFE3189C7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3C27-84D3-4B23-BA10-BF87E0201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FC55-B553-4BF8-8566-EAAFA6ED8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0AD0-ED6D-445A-B43D-59C928679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3658-CF3E-45A4-A4D2-0E70A314A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FDD3-B5CB-4F52-AB0D-54D7502FA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11374-D3A6-4D41-8C54-C084C9CD88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jpe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image" Target="../media/image27.jpeg"/><Relationship Id="rId1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346200" y="2082600"/>
            <a:ext cx="659916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Arial"/>
              </a:rPr>
              <a:t>Vizualisation</a:t>
            </a:r>
            <a:br>
              <a:rPr sz="5600"/>
            </a:b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159920" cy="61452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52240" y="558360"/>
            <a:ext cx="905508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Automatic Layout of Networks and Diagrams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- Circular Layou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1492200" y="1787400"/>
            <a:ext cx="6381720" cy="51674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2887560" y="7246800"/>
            <a:ext cx="4349880" cy="1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ttp://www.yworks.com/en/products_yfiles_practicalinfo_gallery.htm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159920" cy="6145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52240" y="558720"/>
            <a:ext cx="90550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arge Graphs – 350 node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286000" y="1270080"/>
            <a:ext cx="5514840" cy="59594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887560" y="7313760"/>
            <a:ext cx="4349880" cy="1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ttp://www.yworks.com/en/products_yfiles_practicalinfo_gallery.htm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159920" cy="6145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692360" y="1143000"/>
            <a:ext cx="6775200" cy="60958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52600" y="791280"/>
            <a:ext cx="905508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arge Graphs – 10,000 node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7313760"/>
            <a:ext cx="4349880" cy="1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ttp://www.yworks.com/en/products_yfiles_practicalinfo_gallery.htm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346200" y="2082600"/>
            <a:ext cx="659916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Arial"/>
              </a:rPr>
              <a:t>7. Mapping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159920" cy="61452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52240" y="558360"/>
            <a:ext cx="905508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sualisation &amp; Mapp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552240" y="2082600"/>
            <a:ext cx="9055080" cy="48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Visuals long been used in academia and teaching for their associative and visual qualities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ps…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 things easy to find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hart paths to get plac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how us where things are and how to get from one place to the nex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ink things togeth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veal how things are connected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159920" cy="61452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52240" y="558360"/>
            <a:ext cx="905508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Mind Map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552240" y="2250720"/>
            <a:ext cx="9055080" cy="421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One of most well known and simple ways of connecting ideas together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ony Buzan - 1970'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Realisation the mind responds extremely well to colors, images, key words and associations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Diagram of connected items - 'free association'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159920" cy="61452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52240" y="558360"/>
            <a:ext cx="905508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Mind Map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862280" y="1905120"/>
            <a:ext cx="6013440" cy="51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159920" cy="6145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846000" y="930240"/>
            <a:ext cx="8467920" cy="599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159920" cy="6145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52240" y="558360"/>
            <a:ext cx="905508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oncept Map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552240" y="2250720"/>
            <a:ext cx="9055080" cy="421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ore complex and powerful form of mind mapping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 collection of nodes, connected by lines that define their relationship to one anoth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ts out a network of things/ideas/items that are related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 tree and branch like structure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ioneered by Joseph Novak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159920" cy="6145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52240" y="558360"/>
            <a:ext cx="905508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ept Ma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382320" y="1879560"/>
            <a:ext cx="9055080" cy="52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vak interested in understanding how humans learned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ased on David Ausubel’s theori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sbel’s work based on Jean Piaget's work on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nstructivis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important single factor influencing learning is what the learner already know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knowledge consciously and deliberately added onto the ol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raphically representing a person's knowledge of a concept, can better understand how it was accumulated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sult = simple but powerful map of concepts, or “concept map”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159920" cy="6145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52240" y="558360"/>
            <a:ext cx="905508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52240" y="2250720"/>
            <a:ext cx="9055080" cy="421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How the brain takes in information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pistemology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Visualisation – Historic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Visualisation – Modern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Visualisation – Data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Visualisation – Technical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Visualisation – Mapping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xcercise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159920" cy="61452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52240" y="558360"/>
            <a:ext cx="905508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oncept Map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07960" y="1682640"/>
            <a:ext cx="8551800" cy="55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159920" cy="61452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52240" y="558360"/>
            <a:ext cx="905508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Knowledge Mapping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552240" y="2250720"/>
            <a:ext cx="9055080" cy="421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uman knowledge is built by linking things togeth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uter storage and retrieval is based on linking things togeth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ps link things togeth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perate on same principle: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linking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159920" cy="6145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52240" y="558360"/>
            <a:ext cx="905508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Topic Map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819440" y="2200320"/>
            <a:ext cx="6648120" cy="44355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890640" y="1913040"/>
            <a:ext cx="85471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pic Maps combine all the preceding concept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exes, hyperlinking, visualization mapping, findability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159920" cy="61452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52240" y="558360"/>
            <a:ext cx="905508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Topic Map structure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2168640" y="2116080"/>
            <a:ext cx="5959440" cy="48801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6730920" y="7072200"/>
            <a:ext cx="135252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arshol, 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159920" cy="6145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52240" y="558360"/>
            <a:ext cx="905508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Hyperlinking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552240" y="2251080"/>
            <a:ext cx="9055080" cy="45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echnology-assisted mapp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mputer equivalent of “associationism"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"an associative index" - Dr. Vannevar Bush (1945)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ject Xanadu - Ted Nelson "hypertext" (1963) www.xanadu.net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hyperlinks overcome the constraints of time, space, geography, retrieval, etc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346200" y="2082600"/>
            <a:ext cx="659916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Arial"/>
              </a:rPr>
              <a:t>8. Excercises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159920" cy="6145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52240" y="558360"/>
            <a:ext cx="905508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Excercise #1 - DI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552240" y="2250720"/>
            <a:ext cx="9055080" cy="421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reate a Mind Map of D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2540160" y="3301920"/>
            <a:ext cx="4562280" cy="34196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7450200" y="1353960"/>
            <a:ext cx="2128680" cy="21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159920" cy="6145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5502240" y="3809880"/>
            <a:ext cx="1779480" cy="12924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4910040" y="5322960"/>
            <a:ext cx="2637000" cy="19908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507960" y="5418000"/>
            <a:ext cx="2625840" cy="179100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52240" y="558360"/>
            <a:ext cx="905508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Excercise #2 – Transportation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552240" y="2166840"/>
            <a:ext cx="9055080" cy="157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reate a Mind Map of Dublin City transport problems, mapping possible solution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5"/>
          <a:stretch/>
        </p:blipFill>
        <p:spPr>
          <a:xfrm>
            <a:off x="2793960" y="3851280"/>
            <a:ext cx="2540160" cy="1906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6"/>
          <a:stretch/>
        </p:blipFill>
        <p:spPr>
          <a:xfrm>
            <a:off x="3386160" y="6010200"/>
            <a:ext cx="1281240" cy="11556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7704000" y="5842080"/>
            <a:ext cx="2117880" cy="14191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8"/>
          <a:stretch/>
        </p:blipFill>
        <p:spPr>
          <a:xfrm>
            <a:off x="422280" y="4064040"/>
            <a:ext cx="1865160" cy="12492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9"/>
          <a:stretch/>
        </p:blipFill>
        <p:spPr>
          <a:xfrm>
            <a:off x="7704000" y="3894120"/>
            <a:ext cx="2117880" cy="15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346200" y="2082600"/>
            <a:ext cx="659916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Arial"/>
              </a:rPr>
              <a:t>6. Visualisations – Technical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159920" cy="6145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52240" y="558720"/>
            <a:ext cx="905508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UML Diagramming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031840" y="1778040"/>
            <a:ext cx="6012000" cy="52704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887560" y="7246800"/>
            <a:ext cx="4349880" cy="1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ttp://www.yworks.com/en/products_yfiles_practicalinfo_gallery.htm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159920" cy="6145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540160" y="1692360"/>
            <a:ext cx="5038560" cy="51670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552600" y="834120"/>
            <a:ext cx="905508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UML Diagramming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87560" y="7246800"/>
            <a:ext cx="4349880" cy="1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ttp://www.yworks.com/en/products_yfiles_practicalinfo_gallery.htm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159920" cy="6145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2708280" y="1438200"/>
            <a:ext cx="4764240" cy="55692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52600" y="834120"/>
            <a:ext cx="905508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UML Diagramming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87560" y="7246800"/>
            <a:ext cx="4349880" cy="1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ttp://www.yworks.com/en/products_yfiles_practicalinfo_gallery.htm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159920" cy="6145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52240" y="558360"/>
            <a:ext cx="905508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Automatic Layout of Networks and Diagrams </a:t>
            </a:r>
            <a:br>
              <a:rPr sz="3100"/>
            </a:b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- Hierarchical Layout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5672160" y="1608120"/>
            <a:ext cx="3451320" cy="50925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2887560" y="7246800"/>
            <a:ext cx="4349880" cy="1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ttp://www.yworks.com/en/products_yfiles_practicalinfo_gallery.htm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676440" y="2286000"/>
            <a:ext cx="421308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159920" cy="61452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52240" y="558360"/>
            <a:ext cx="905508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Automatic Layout of Networks and Diagrams </a:t>
            </a:r>
            <a:br>
              <a:rPr sz="3100"/>
            </a:b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- Organic Layout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1523880" y="1755720"/>
            <a:ext cx="6615360" cy="53578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2887560" y="7246800"/>
            <a:ext cx="4349880" cy="1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ttp://www.yworks.com/en/products_yfiles_practicalinfo_gallery.htm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159920" cy="6145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52240" y="558360"/>
            <a:ext cx="905508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Automatic Layout of Networks and Diagrams </a:t>
            </a:r>
            <a:br>
              <a:rPr sz="3100"/>
            </a:b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- Tree-like Layout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2878200" y="1692360"/>
            <a:ext cx="4435560" cy="52084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2887560" y="7246800"/>
            <a:ext cx="4349880" cy="1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ttp://www.yworks.com/en/products_yfiles_practicalinfo_gallery.htm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