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8E340-FA73-4A47-B589-03968C948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826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865F7-C8DC-40B9-BF10-C256F61B0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9620E-5D49-44B9-AF38-C2C97CB80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69754-57E8-4696-AC7B-A1641E718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9B633-21B7-45D6-85A7-D0A81B14D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BA1C4-1C05-423D-86F8-01E7BCF4C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1AC05-941C-4F36-9FFA-219A346D5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645F8-0163-4476-B7AB-23E3C99AE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63660-A303-4FF4-9C58-D3353FC3B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F7DC6-BBB4-4FBB-B3F6-53CDC6B03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FE131-8A9F-4382-B8ED-7D2CF884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01EF6-08BB-47A3-9471-2288D208B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21605-4533-4842-8AA3-D45F5A09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93640-99A8-4588-9C29-8C22DE0C8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26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19D8F-D56B-403C-92CD-1C299FDDD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48547-C01E-41FA-A429-FB288906B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5A306-D3A9-42F5-9AA1-D521DEFE7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3DFB6-06E9-42F8-9B70-F8A47E72C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C3B02-68BE-481C-B8C8-62EFA659B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5F0DF-63E1-463E-9D11-42992156D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3B363-A06B-406E-AC53-6F3D47709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7936D-9488-4FE2-AC88-11F8CBB8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34BBE-E85C-49A6-87FE-17891405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C2540-2239-4E0A-A9F8-3B21491FF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a-I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a-IE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3C87A-22DA-48E2-905D-2D1B1886633C}" type="slidenum">
              <a:rPr b="0" lang="ga-IE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24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spcBef>
                <a:spcPts val="24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>
              <a:spcBef>
                <a:spcPts val="24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>
              <a:spcBef>
                <a:spcPts val="24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63480" indent="-173520">
              <a:spcBef>
                <a:spcPts val="24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63480" indent="-173520">
              <a:spcBef>
                <a:spcPts val="24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a-I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a-IE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6F923-A516-462D-B1D9-AD5E21483924}" type="slidenum">
              <a:rPr b="0" lang="ga-IE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omp.dit.ie/dgordon/courses/communications/index.html" TargetMode="External"/><Relationship Id="rId2" Type="http://schemas.openxmlformats.org/officeDocument/2006/relationships/hyperlink" Target="http://modulecatalogue.hosting.heanet.ie/catalogue/modules/BUSN1110/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600" spc="-1" strike="noStrike">
                <a:solidFill>
                  <a:srgbClr val="000000"/>
                </a:solidFill>
                <a:latin typeface="Arial"/>
              </a:rPr>
              <a:t>Module Homepage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-360" y="3504960"/>
            <a:ext cx="8991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www.comp.dit.ie/dgordon/courses/communications/index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modulecatalogue.hosting.heanet.ie/catalogue/modules/BUSN1110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000" spc="-1" strike="noStrike" u="sng">
                <a:solidFill>
                  <a:srgbClr val="000000"/>
                </a:solidFill>
                <a:uFillTx/>
                <a:latin typeface="Arial"/>
              </a:rPr>
              <a:t>Contact m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000" spc="-1" strike="noStrike">
                <a:solidFill>
                  <a:srgbClr val="000000"/>
                </a:solidFill>
                <a:latin typeface="Arial"/>
              </a:rPr>
              <a:t>Colman McMah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000" spc="-1" strike="noStrike">
                <a:solidFill>
                  <a:srgbClr val="000000"/>
                </a:solidFill>
                <a:latin typeface="Arial"/>
              </a:rPr>
              <a:t>cajmcmahon@gmail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990720" y="1895400"/>
            <a:ext cx="699120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lass Not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sig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ue 09 December,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1 </a:t>
            </a:r>
            <a:r>
              <a:rPr b="0" lang="ga-IE" sz="3200" spc="-1" strike="noStrike">
                <a:solidFill>
                  <a:srgbClr val="000000"/>
                </a:solidFill>
                <a:latin typeface="Arial"/>
              </a:rPr>
              <a:t>Decemb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4 &amp; 16 December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signment Pres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nd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andom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oday’s ses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ternship Program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21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rk Deegan and Paul Doyle, DIT School Of Comp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21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www.comp.dit.ie/internship/InfoStudents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4T09:26:20Z</dcterms:created>
  <dc:creator>vijays</dc:creator>
  <dc:description/>
  <dc:language>en-US</dc:language>
  <cp:lastModifiedBy>CM</cp:lastModifiedBy>
  <dcterms:modified xsi:type="dcterms:W3CDTF">2009-12-14T12:28:39Z</dcterms:modified>
  <cp:revision>1493</cp:revision>
  <dc:subject/>
  <dc:title>  Communication Skills   </dc:title>
</cp:coreProperties>
</file>