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C9EDE-A514-4E45-A799-A6A5C34DB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826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019CA-FB79-43D9-A31B-A374832F5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13B6A-5D56-40E3-8043-D0BD9634E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25FC4-F2C9-47EF-9A0B-B4C96B6CB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F5071-1A40-4AC0-AFD2-F1DD3703D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39059-37D5-49D2-8E1B-25554AEFB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D6CE0-24D7-4AEC-A102-DF36E6B02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2D8B2-6CCB-4752-B837-4C50ECDC9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F586E-5025-4187-B938-D16B758AA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CCFC1-8AAE-495B-980E-D307AC035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10839-DC79-40E5-A39D-8018DF36A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F9509-F7CC-42F3-9E47-C64F6612E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9275A-A16A-4BFF-8B24-F9D234D8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FDC37-7FF9-489A-A21F-6E99D7A7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826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11ABD-F548-4A40-9B4C-4DB0172B0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47234-B679-4620-8A88-32DD8D60C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82185-B976-45A6-803B-68FF3E96D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2B4C2-B5E5-4451-8B5B-4675A933B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8BB02-01D2-4B3E-B1C6-4A83D1A25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D8EC8-79C5-4AE9-8672-5E0225DAB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7C76D-E6C4-4BDD-BE2C-F027279A9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DBEFE-DAD7-4040-9A6E-A29C53B7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8C0F8-DA6B-4478-AEB5-D76C8E0B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C6E6D-C5DE-4257-9D1B-776F5469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a-I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a-IE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8D5B6-4787-4818-A1DF-4BF3AAB23AC8}" type="slidenum">
              <a:rPr b="0" lang="ga-IE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24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spcBef>
                <a:spcPts val="24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>
              <a:spcBef>
                <a:spcPts val="24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>
              <a:spcBef>
                <a:spcPts val="24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63480" indent="-173520">
              <a:spcBef>
                <a:spcPts val="24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63480" indent="-173520">
              <a:spcBef>
                <a:spcPts val="24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a-I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a-IE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27A36-CED9-4971-ABE8-455D8E06D2E0}" type="slidenum">
              <a:rPr b="0" lang="ga-IE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18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15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15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omp.dit.ie/dgordon/courses/communications/index.html" TargetMode="External"/><Relationship Id="rId2" Type="http://schemas.openxmlformats.org/officeDocument/2006/relationships/hyperlink" Target="http://modulecatalogue.hosting.heanet.ie/catalogue/modules/BUSN1110/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600" spc="-1" strike="noStrike">
                <a:solidFill>
                  <a:srgbClr val="000000"/>
                </a:solidFill>
                <a:latin typeface="Arial"/>
              </a:rPr>
              <a:t>Module Homepage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360" y="3504960"/>
            <a:ext cx="8991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www.comp.dit.ie/dgordon/courses/communications/index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modulecatalogue.hosting.heanet.ie/catalogue/modules/BUSN1110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000" spc="-1" strike="noStrike" u="sng">
                <a:solidFill>
                  <a:srgbClr val="000000"/>
                </a:solidFill>
                <a:uFillTx/>
                <a:latin typeface="Arial"/>
              </a:rPr>
              <a:t>Contact m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000" spc="-1" strike="noStrike">
                <a:solidFill>
                  <a:srgbClr val="000000"/>
                </a:solidFill>
                <a:latin typeface="Arial"/>
              </a:rPr>
              <a:t>Colman McMah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000" spc="-1" strike="noStrike">
                <a:solidFill>
                  <a:srgbClr val="000000"/>
                </a:solidFill>
                <a:latin typeface="Arial"/>
              </a:rPr>
              <a:t>cajmcmahon@gmail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990720" y="1895400"/>
            <a:ext cx="699120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eam Troublemakers</a:t>
            </a:r>
            <a:br>
              <a:rPr sz="18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verly-Sensitive Team Memb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people can take constructive critic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people resent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critic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lightest criticism causes defensiv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ults in over-cautiousness and hesitation (which stifles productiv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ader must help them overcome their fea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sure them of their competency and jud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ccasional errors are normal (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“to err is human”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sist on prompt action and dec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eam Troublemakers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Temper, Temper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workers scream at co-workers and superi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y calm down quickly but upsets everyone (reduces productiv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ader must deal with temper tantru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person calms down, have heart-to-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int out such behaviour is unaccep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another outburst occurs, sent person out of 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ke clear that next outburst will result in disciplinary 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ggest counselling (or a meeting with H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eam Troublemakers</a:t>
            </a:r>
            <a:br>
              <a:rPr sz="18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formation Hoard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people hold on to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lieve “know-how” makes them indispens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ke to look good to b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ults in stalled projects, errors, lack of trust, breakdown in team eth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ader mu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t up a system for information disse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lain and require all team members to adhere to poli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force policy firmly for sake of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eam Troublemakers</a:t>
            </a:r>
            <a:br>
              <a:rPr sz="18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Naysay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ome people oppose everyt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lways some “good” reason for why things can’t be d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ery detrimental to team optimi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ason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0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al or perceived past mis-trea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0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ong-term personality fac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eam leader mus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0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ddress past wrongs or clear up misconce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0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ggest professional help (outside scope of team lea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0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et them to express objections open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0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cknowledge their arg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0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ersuade them to work with you to eliminate the problems they fores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0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e part of the solution rather than an additional probl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eam Troublemakers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Know-It-Al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it’s not their idea, it isn’t going to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 have excellent background in the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aders shou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sist member prove their point – provide documentation (proof) to back-up stat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ve person do research based on their reservations and report on find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eam Troublemakers</a:t>
            </a:r>
            <a:br>
              <a:rPr sz="18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Prima Donn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people think certain tasks are beneath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eam situation, people should be prepared to share challenging and rout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aders shou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tate routine tasks among all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 own share of “drudge”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make work more enticing (let them get creative), e.g. work from home, tie in with more exciting assig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eam Troublemakers</a:t>
            </a:r>
            <a:br>
              <a:rPr sz="18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Peacoc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people love to strut and br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e occaisionlly but not over and 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ader shou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ive them deserved attention (eliminate their public display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ake time to lis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n’t challenge in front of others (unless egreg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 their talents (and eg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eam Troublemakers</a:t>
            </a:r>
            <a:br>
              <a:rPr sz="18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Obnoxious Colleag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 people feel the need to be nasty, sarcastic, condescending, cruel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hat’s the stupidest idea I’ve ever heard!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am leader shoul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k them to repeat comments – expose foolish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peat comment then ask,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“Did I hear you right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k for solutions, e.g.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“How would you deal with it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isagreements Between Team Memb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am members must be willing to work out their differences to ensure harmo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am members shou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en without interrupting each 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use before responding (gives you chance to thin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pond calmly (angry tone blocks your message). Anger generates anger, exacerbating dis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ck up your arguments (go off and get evidence if you have 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 willing to compromise – both may be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you can’t settle, bring it to team l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When Team Members </a:t>
            </a:r>
            <a:r>
              <a:rPr b="1" lang="en-GB" sz="3000" spc="-1" strike="noStrike" u="sng">
                <a:solidFill>
                  <a:srgbClr val="000000"/>
                </a:solidFill>
                <a:uFillTx/>
                <a:latin typeface="Arial"/>
              </a:rPr>
              <a:t>Hate</a:t>
            </a: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 Each Other (1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ep-seated, personal antago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situations are not addressed it will affec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 of antagonis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rale of entire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am leader must step in and resol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lass Not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ig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ue 09 December,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9 December, 2009 - Internship programme l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rk Deegan and Paul Doyle, DIT School Of Comp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A 3-011 @ 11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ttendance mand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11 Decemb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ectu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make-up session next wee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4 &amp; 16 December,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ignment Pres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d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ndom se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When Team Members </a:t>
            </a:r>
            <a:r>
              <a:rPr b="1" lang="en-GB" sz="3000" spc="-1" strike="noStrike" u="sng">
                <a:solidFill>
                  <a:srgbClr val="000000"/>
                </a:solidFill>
                <a:uFillTx/>
                <a:latin typeface="Arial"/>
              </a:rPr>
              <a:t>Hate</a:t>
            </a: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 Each Other (2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d out why they dislike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ually, bitter past conflict &amp; stab in 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possible transfer one or both to different depar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transfer not possible, attempt to get them to make pe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not successful – lay down the law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this team is to succeed… Past is past… I’m demanding you work together professionally to meet our goals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necessary, follow up with disciplinary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reventing Grievanc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ery time (and energy)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ive regular updates and feedback (+/-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courage team members to participate in all aspects of planning and project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eep open mind about team member’s id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ly make promises you know you can ke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 alert to minor irritations before they become serious dissatisf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solve problems as soon as possible after hearing about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n’t please everybody - so don’t bother try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re are times to say “no” to team 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on’t be afraid to do 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ff"/>
                </a:solidFill>
                <a:latin typeface="Arial"/>
              </a:rPr>
              <a:t>8. Conflict – Termination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8. Identify the Probl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blems are going to happen no matter what you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iling members – failing te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ppens slowly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ok for early indic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An ounce of prevention is worth a pound of cur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8. Members Signal Probl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21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rop in produ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21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cline in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21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crease in absence and lat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21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ange from positive to negative atti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8. Team Signals Probl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21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mbers put personal agenda ahead of team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1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mbers pressured to go along with decisions they do not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1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 members start “coasting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1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 members start nit-picking every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1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 members fail to meet dead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1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stant bick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8. Formal Action – Progressive Discipli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2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x-step procedure to try and get employees back on tra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800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informal warning or repri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800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formal disciplinary int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800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written w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800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b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800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sp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800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r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470560" y="4957920"/>
            <a:ext cx="3368520" cy="1190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o protect your company from potential legal problems, check any written correspondence with HR/legal before giving to team memb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8. Effective Repriman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preparing to reprimand someone, to ensure the reprimand is conducted in the most effective manner, study the following guideli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me the reprimand as soon as possible after the off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ver reprimand when you are ang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mphasise the what, not the who (don’t make it person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gin by stating the problem then ask a questions (don’t begin by saying,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“You’re always late!!!”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en (ask questions and elicit inform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n’t let interview descend into a confro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courage the team member to make suggestions for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 constructive critic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ver use sarca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d your reprimand on a positive n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8. Termination – The Last Resor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1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mbers should never be surprised when fired after progressive discip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y were told at every step what the next step would 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rminating employees must be done sensitively and with full awareness of legal issues (beyond scope of this lectu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ually an upsetting procedure for all pa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uidelin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view all documents so you are fully aware of all reasons and im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view past problems you have had and how you have dealt with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view any personal problems you are aware the member h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view any problems you have had in firing other employ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 company’s policy manual or discuss company rules with 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8. Termination – The Int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ax before the meeting. If you have done your job correctly you have given the person every chance to improve… no need to feel guil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 it diplomat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 not use as an opportunity to tell the person off – it is a business decision not pers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 a private office or conference r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person becomes belligerent or breaks down you can walk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fired employees expect it and don’t cause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ever, if they argue, keep cool and do not get into an arg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ood idea to have another person in meeting (witn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R or union represent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eeps meeting on tr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uture lawsuits and claims based on false stat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600" spc="-1" strike="noStrike">
                <a:solidFill>
                  <a:srgbClr val="000000"/>
                </a:solidFill>
                <a:latin typeface="Arial"/>
              </a:rPr>
              <a:t>Today’s lecture..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5400" spc="-1" strike="noStrike">
                <a:solidFill>
                  <a:srgbClr val="000000"/>
                </a:solidFill>
                <a:latin typeface="Arial"/>
              </a:rPr>
              <a:t>Team Building</a:t>
            </a: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 (2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38280" y="2862360"/>
            <a:ext cx="3915000" cy="36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600" spc="-1" strike="noStrike">
                <a:solidFill>
                  <a:srgbClr val="000000"/>
                </a:solidFill>
                <a:latin typeface="Arial"/>
              </a:rPr>
              <a:t>Today’s lecture..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5400" spc="-1" strike="noStrike">
                <a:solidFill>
                  <a:srgbClr val="000000"/>
                </a:solidFill>
                <a:latin typeface="Arial"/>
              </a:rPr>
              <a:t>Team Building</a:t>
            </a: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 (2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438280" y="2862360"/>
            <a:ext cx="3915000" cy="36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Recap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2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mbers who don’t carry their w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am troublema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reating a collaborative atmosp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n team members can’t get a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aling with and preventing griev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r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lass Not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ig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ue 09 December,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9 December, 2009 - Internship programme l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rk Deegan and Paul Doyle, DIT School Of Comp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A 3-011 @ 11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ttendance mand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11 Decemb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ectu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make-up session next wee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4 &amp; 16 December,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ignment Pres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d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ndom se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eam Building (2) - Conflic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mbers who don’t carry their w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am troublema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reating a collaborative atmosp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n team members can’t get a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aling with and preventing griev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r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ff"/>
                </a:solidFill>
                <a:latin typeface="Arial"/>
              </a:rPr>
              <a:t>6. Conflict - </a:t>
            </a:r>
            <a:r>
              <a:rPr b="1" lang="ga-IE" sz="4200" spc="-1" strike="noStrike">
                <a:solidFill>
                  <a:srgbClr val="ffffff"/>
                </a:solidFill>
                <a:latin typeface="Arial"/>
              </a:rPr>
              <a:t>Overcoming Team Discord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10. Overcoming Team Discor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134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mbers Who Don’t Carry Their W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t the Team Leader Fix 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t Team Members Handle 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34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am Troublema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eople with Low Self-Este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verly Sensitive Team Memb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eam Members Who Can’t Keep Their C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Information Hoar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Naysay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Know-It-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Prima Don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Peac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Obnoxious Colleag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bers Who Don’t Carry Their Weigh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2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et the Team Leader Fix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800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son may not have necessary basic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800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not be using skills in right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800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w-level of personal expectations (minim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15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formance management to raise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15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a plan and time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800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sonal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bers Who Don’t Carry Their Weigh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2440" indent="-622440">
              <a:lnSpc>
                <a:spcPct val="8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et Team Members Handle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35240" indent="-533520">
              <a:lnSpc>
                <a:spcPct val="8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courage positive peer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352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2440" indent="-622440">
              <a:lnSpc>
                <a:spcPct val="8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view team expectations – ensure understa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2440" indent="-622440">
              <a:lnSpc>
                <a:spcPct val="8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duct an exercise in team bui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352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. “What do you expect from your teammates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352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. “What can they expect from you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2440" indent="-622440">
              <a:lnSpc>
                <a:spcPct val="8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courage team members to assist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2440" indent="-622440">
              <a:lnSpc>
                <a:spcPct val="8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ject Reviews – team &amp; individual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eam Troublemakers</a:t>
            </a:r>
            <a:br>
              <a:rPr sz="18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eople With Low Self-Este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re likely to complain about their failures rather than their suc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rely express contradictory opin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ver volunteer to lead discu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ly take charge of project when forced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ader must help build up self-este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us on member’s suc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ositive reinforcement for every achiev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aise progress – be specific; use examp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e positive to good id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tinuous reminders that they are respected and you have confi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ake sure member can handle assign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ovide training and coaching to ensure su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4T09:26:20Z</dcterms:created>
  <dc:creator>vijays</dc:creator>
  <dc:description/>
  <dc:language>en-US</dc:language>
  <cp:lastModifiedBy>CM</cp:lastModifiedBy>
  <dcterms:modified xsi:type="dcterms:W3CDTF">2009-12-14T12:31:56Z</dcterms:modified>
  <cp:revision>1559</cp:revision>
  <dc:subject/>
  <dc:title>  Communication Skills   </dc:title>
</cp:coreProperties>
</file>