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7C18D-9453-4690-8E32-30C780C4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A0882-909F-410A-959A-F868A60B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32AB1-D94B-47F1-928F-33117E21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AACCB-24A5-45E6-A9F5-428301B1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2FD4-EA08-4997-BD26-5DE12F78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B93F-74FD-4693-9948-1AFAEFD5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619B-9736-458D-B6D5-5B83E3A6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1406-1056-430D-982B-2D44F6CF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0053-83B7-4873-B236-C15AD89A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CA8C-5401-45A3-B22D-F0997B31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21D4-FA0B-4AE3-9C3B-763F63BA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6564D-6749-477C-BAA7-09DB748C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EFFF-8CB6-450C-8E17-E28FE2D3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182E-019F-4AAB-B7FF-6E17EF30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A6FB-FBAD-4422-90EF-9D02C2EF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D044-9DF5-45C3-B7AB-1ABBB955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401B-2A84-4791-8562-E8CFD63B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E0E9-C270-4CA4-B87E-DCB6B1F6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25534-4477-45E1-B878-8D2017F5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31AC6-4A0E-475D-AEC0-FA348880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22222-746C-4B74-AC12-BAFA8F23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B72DE-65E6-4B44-8D2B-E2350037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8D123-B6FE-418F-A7E1-63990B00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58772-C39A-4E49-B0F3-316E38D2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0436-EF96-4F4D-8994-CF5C9CD2D183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24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24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24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24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FD28-5E5D-4254-B1DF-E0E66E5781B7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15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5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mp.dit.ie/dgordon/courses/communications/index.html" TargetMode="External"/><Relationship Id="rId2" Type="http://schemas.openxmlformats.org/officeDocument/2006/relationships/hyperlink" Target="http://modulecatalogue.hosting.heanet.ie/catalogue/modules/BUSN1110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mp.dit.ie/internship/InfoStudents.ht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600" spc="-1" strike="noStrike">
                <a:solidFill>
                  <a:srgbClr val="000000"/>
                </a:solidFill>
                <a:latin typeface="Arial"/>
              </a:rPr>
              <a:t>Module Homepag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350496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comp.dit.ie/dgordon/courses/communication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modulecatalogue.hosting.heanet.ie/catalogue/modules/BUSN1110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 u="sng">
                <a:solidFill>
                  <a:srgbClr val="000000"/>
                </a:solidFill>
                <a:uFillTx/>
                <a:latin typeface="Arial"/>
              </a:rPr>
              <a:t>Contact 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olman McMa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ajmcmahon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90720" y="1895400"/>
            <a:ext cx="699120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ga-IE" sz="36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i="1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? TEAMS ? </a:t>
            </a:r>
            <a:r>
              <a:rPr b="1" i="1" lang="ga-IE" sz="3600" spc="-1" strike="noStrike">
                <a:solidFill>
                  <a:srgbClr val="00cc00"/>
                </a:solidFill>
                <a:latin typeface="Arial"/>
              </a:rPr>
              <a:t>YES</a:t>
            </a: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23920" y="18288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en need a fresh approach to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en breakdown in communication in group/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Project needs diversified staff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Culture of organisation is becoming more particip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Senior managers are committed to the creation and implemenation of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0520" y="18288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f department has heavy turnover (trust, stability n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f company is small but uses many outside contractors or 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en work is routine and unlikely t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en group/company/ department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Can’t force reluctant managers to accept 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roduction to Team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ypes of Te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orking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Teams that make or do things, e.g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ftware dev, manufacturing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 Purpose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al with certain situations, e.g. cost cutting, new product introduction, regulat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functional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wn from several discip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f-directed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ared leadership (rot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ment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make management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roduction to Teams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am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t’s not the strongest species that survives, nor the most intelligent, but rather the one that is most adaptable to chan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les Dar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ment used be top-down (military-sty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s vs.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ms - Yes or No? (depe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s of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2. Barriers To Succes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2. The Barriers to Team Su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adequate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ers without leadership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or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m members have poor at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m members don’t get a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ons breakd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wards and recognition programs that don’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rriers to Success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.1 Inadequate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 of deciding goals takes time energy and effort – must be tho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know exactly what you want to ach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clear, specific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am goals must be in line with larger organisational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e the “as-is”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 deep - don’t delude, know the ugly tr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’t fly by the seat of your pants – use all available data &amp;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-org the org chart (let it f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rriers to Success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.2 Leaders without leadership sk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lame it on the bos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ten tr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leader doesn’t lead, the team can’t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der must prov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ong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t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e steps to keep team moving on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rriers to Success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.3 Poor Trai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 &amp; organisation cannot succeed unless adequate training is given and absorb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training objective is to perfec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team member must be able to perform their function excell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ond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team member must be trained to work together as a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rriers to Success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.4 Team members have poor attitu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team members have poor attitudes about team process, team leader and often their team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’s not my jo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mal job descriptions… “other duties as assign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doing work you don’t enjoy, helping slower members catch up, putting aside pet projects – whatever needs to be done to accomplish the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ck of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ust is everyth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teammates don’t pull their weigh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am leader must ensure fairness and balanc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m not paid to make decis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storically true – responsibility and pay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Mark Deegan - Internship Program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Wednesday, Dec 9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@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1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Mark Deegan, Lecturer DIT, School of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ul Doyle, 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Lecturer DIT, School of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Internship Program in DT2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comp.dit.ie/internship/InfoStudent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All students must at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rriers to Success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.5 Team members don’t get alo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ence of team success is a close, comfortable, coordinated, collaborative team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licting Agen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eting ideas about achieving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alousies and Rival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not be eliminated but good leaders can keep it from interf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ality Confl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ll is other people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Jean-Paul Sartre (existentialist philosop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ing Poor Perfo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ical incompetence, lack of motivat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am leader has to identify the cause and correct it – not always 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rriers to Success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.6 Communications breakdow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l too common reason for failure is a breakdown in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did he say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ou thought your instructions were clear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t the minute you leave the room team members ask each other for clar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ybe you spoke indistinc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ybe you used unfamiliar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ybe your body language or tone sent a different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ybe the team member wasn’t listening proper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ybe they didn’t take you seriously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am leaders and team members have to be alert to how they come acr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t feedback from colleag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k for critiques on your presentation skills at meeting or team discu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hearse planned presentations (mirror, videotape, family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rriers to Success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.6 Communications breakdow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eader Who Doesn’t 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eam leaders make it a point to listen to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 ears and mind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’t miss learning opportunities 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ues of impending d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etings That Wast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need for many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get out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was poorly planned or not planned at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rriers to Success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.7 Poor Reward &amp; Recognition Prog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vidual Accomplis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s that reward individuals have been phased out in favour of team re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y not a good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 Achie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tive new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ll being experiment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rriers to Success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cap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s - deciding goals takes time energy and effort; must be tho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ers must have necessary leadership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or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m members have poor at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m members don’t get a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ons breakd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ward and recognition programs that don’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3. Setting up Team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3. Setting Up Tea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coming Resistance to Tea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m goal-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ing th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ing job descriptions meaning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lements of team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 Up Teams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vercoming Resistance to Te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e as any “change management”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p Management Scepticism &amp; Iner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ddle Managers’ F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tory &amp;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ar they won’t b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 Members’ F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s of individual prest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umped in with unproductive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 Up Teams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etting the Team’s Goals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nents of a Good Team Go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ong &amp; short-te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rpos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ct &amp; clear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whom will finished product be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ance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will we know if we were successf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 Up Teams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etting the Team’s Goals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aborative Goal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heads better tha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wnership of goals – chances of success 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onal growth an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r sense of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inforces team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parent responsibility and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e 09 December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 December, 2009 - Internship programme l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Deegan and Paul Doyle, DIT School Of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A 3-011 @ 11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tendance mand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11 Decemb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ec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make-up session next we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 &amp; 16 December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ment 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d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ndom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 Up Teams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etting the Team’s Goals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tting Support for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ng team members into planning process ear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 major point of the overal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k each person to discuss how he/she will fit into the overal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 each person chance to comment  on each stag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int out the differing opinions are encouraged and how this leads to consensus on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 Up Teams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etting the Team’s Goals (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Realistic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r and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ai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 Up Teams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etting the Team’s Goals (5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ct goals should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scription of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the project is important for the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project fits with overall company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s: budget, equipment, spac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member’s role in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 Up Teams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fine the Way Work Is D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ce the teams are form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ground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decisions will be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c work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issues, concerns emergencies will be hand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n’t be afraid to challenge the status q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we’ve always done it this way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the team define the job, i.e.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k “process” instead of “tas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 Up Teams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our</a:t>
            </a: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 C’s of Team Suc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olleag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Members of successful teams work as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colleagues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. Each respects the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intelligence and capabilities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 of other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ollab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Once team members are melded into a team of colleagues, they are prepared to collaborate in working toward the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achievement of the team’s goals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n a well coordinated team, members can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anticipate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 every action teammates will take and be prepared for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o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The team leader is the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team coach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, who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guides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 the team in setting goals,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trains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 the team in the skills needed to achieve those goals, works with the team to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coordinate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 the members’ actions, and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motivates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 the team to work </a:t>
            </a:r>
            <a:r>
              <a:rPr b="0" lang="ga-IE" sz="1800" spc="-1" strike="noStrike" u="sng">
                <a:solidFill>
                  <a:srgbClr val="000000"/>
                </a:solidFill>
                <a:uFillTx/>
                <a:latin typeface="Arial"/>
              </a:rPr>
              <a:t>creatively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 towards its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coming Resistance to Te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the Team'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nents of a good team go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laborative goal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ting support for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realistic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should be included in project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he way the work should b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C's of team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4. Who's Going to Do The Work?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4. Who's Going to Do The Work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gn th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read the Work Equit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m Leader’s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m vs. Leader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am Leader’s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 Steps to help team reach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egation 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ssign the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m leaders coordinate the process and works with the team to achieve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must this project be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must it be comple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else is on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es this project fit in with the company’s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an we do to make this assignment a suc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pread the Work Equitab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 team environment, best to give members some control over their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ourages people to take charge resulting in more interest, commitment and enjoyment =&gt; more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team members with training and knowledge to master thei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team members to set goals and develop personal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ourage collaboration with other team members to 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lcome suggestions and ideas – maintain a climate of creativity and innovation. Promot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nstructive dis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et on a regular basis to discuss perceptions of their roles and thei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cide unpleasant assignments as a team -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“we’re all in this togeth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n’t always give “best” tasks to “best” people – long term goal is to build up skills of entir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Today’s lecture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5400" spc="-1" strike="noStrike">
                <a:solidFill>
                  <a:srgbClr val="000000"/>
                </a:solidFill>
                <a:latin typeface="Arial"/>
              </a:rPr>
              <a:t>Team Building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38280" y="2862360"/>
            <a:ext cx="3915000" cy="36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eam Leader’s Ro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ide Who Does 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personality (best sui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exceptional characteristics (tal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opportunity (staff develop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participation (in decision mak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leadership (motivation, answer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expectations (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eam vs. Leader Plan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am Planning w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acceptance of plan is necessary for effectiv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members of team have specialised knowledge of the subject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ve ideas need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dequate time for a collaborative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8320" y="274320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ader Planning w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 involves routine or simple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 must be develop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eam are likely to a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is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152388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metimes best if planning done by team leader; other times best if done by entire tea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Team Leader’s Ro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ive Directions, Not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ests –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“Would you please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ions –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“It would be great if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l the idea – excite 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6 Steps to help team reach consens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ourage all team members to participate 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all team members understand and agree on what the challenge really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icit positive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non-binding poll to break deadlock and nudge people towar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m up areas of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disagreement at end of planning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range follow up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“executive decision” – explain reasons to team and deal with any ob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legation Dynamics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You can’t do it all by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think you can do it better than anyon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don’t want to give up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’re worried it won’t get don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Delegating to the right team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know your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 up your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Get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’t ask, “Do you understand the task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 ask, “What are you going to do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legation Dynamic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Understanding is not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ructions must actually be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realistic when setting dead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 Control Points: your safegu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s along the way (agreed in adv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 Give team members the tools and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ipment, budget and space to get on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legation Dynamics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 B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lp, advise and support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o their 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Delegation: A Team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 project in its entirety to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uss how should be broken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termine who’ll do 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t members decide among themselves (unless gets stic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erybody aware of what everyone else is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 a chart listing each phase of project, person responsible, deadlin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mmar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ign th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read the Work Equita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 Leader’s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 vs. Leader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eam Leader’s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 Steps to help team reach cons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leg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5. What Makes A Leader?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ome are born great, some achieve greatness, and some have greatness thrust upon the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iam Shakespe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eam Building – General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tea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tea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set up tea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run tea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m leade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5. What Makes A Leader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akes a Lea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Qualities of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ining for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Team Member Is a Potential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ai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Kind of Leader A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eam Leader as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lping Team Members Take Charge of Their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am leadership</a:t>
            </a:r>
            <a:br>
              <a:rPr sz="16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Makes a Lead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 Qualities of Outstanding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tanding leaders have enthusiastic fol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tanding leaders take a constructively discontented view of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tanding leaders consider themselves a work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tanding leaders demonstrate a good understanding of huma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tanding leaders expect more from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am leadership</a:t>
            </a:r>
            <a:br>
              <a:rPr sz="16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Makes a Lead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 Qualities of Outstanding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tanding leaders rely on some fixed, unwavering set of convictions or beliefs that serve as their guiding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tanding leaders have both a “tough hide” and an ability to laugh a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ly outstanding leaders are not deterred by disappointment, failure or re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eat leaders are positive thin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tanding leaders put the focus on getting thing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am leadership</a:t>
            </a:r>
            <a:br>
              <a:rPr sz="1600"/>
            </a:br>
            <a:br>
              <a:rPr sz="14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Makes a Lead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raining for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ditionally corporate ladder, MBA, military colleges, civil service exam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Team Member Is a Potential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m development has supplanted special management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tent leadership talent exists in mos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team member should experience a leadership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am leadership</a:t>
            </a:r>
            <a:br>
              <a:rPr sz="16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Makes a Lead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Trai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rmine what you want to teach (and what team members want to lea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 the logistics (times, locatio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who will do the training (solo, grou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he bes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train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 implementation (opportunity to apply it on the jo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am leadership</a:t>
            </a:r>
            <a:br>
              <a:rPr sz="16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Makes a Lead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Kind of Leader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) Hard-boiled supervis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crack the whip. Rarely gives praise. Screams as employees in front of whole depar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work gets done but team is nearly broken in the process. Higher absenteeism, turnover, lower productivity and mo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) Easygoing lea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proud of fact that he was most popular team leader. Didn’t want to jeopardise his popularity, so he hesitated to enforce rules or correct minor errors in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: mediocre work, behind schedule, shoddy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l leader is between two extr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am leadership</a:t>
            </a:r>
            <a:br>
              <a:rPr sz="16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Makes a Lead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deal”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al leader is between two extr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is grounded on understanding human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al team leader praises but does not throw praise around ligh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imands where called for (privately &amp; calm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cts and demands high standards in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aches them to improve thei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at leaders are not wishy-washy, easy going character nor are they tyr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neither ignored nor feared by team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have earned the confidence and respect of their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am leadership</a:t>
            </a:r>
            <a:br>
              <a:rPr sz="16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Team Leader As a C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sibly the most demanding part of leader’s job is moulding the individual 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to do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helping team members develop their talents to optimum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lp them learn what they don’t know and perfect what they do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am leadership</a:t>
            </a:r>
            <a:br>
              <a:rPr sz="16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Team Leader As a C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lp Team Members Take Charge of Their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ourage team members master their job/prof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 for excellence (stretch peo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the team member to participate (empow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ourage cre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losing Thoughts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makes a great team leade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on’t bos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ure team members know the company/team’s vision and mission – keep them focused on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an expert communic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gnise that communication is a two-way street. Convey instructions and concepts to team members but be open to ideas and sugg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skills and capabilities of team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ke time to identify each team members strengths and weaknesses. Work with each to improve his or her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performance stand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team members to set performance standards that are clear, attainable and measurable. Establish a system to let team members know how they are do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ivate &amp; inspi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gnition, praise and re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Team Build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– Part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 to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The Barriers to Team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Setting Up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Who's Going to Do Th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m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What makes a great team member?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am Member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makes a great team membe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cipate fully in team discussions. Listen actively. Contribute. Ask good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ivate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new things. Don’t be afraid to take risks (remember the turtle… if wants to move ahead, it’s got to stick its neck ou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 beyond your team – study the culture of your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ensitive to other points of view – stand up for what you believe but don’t be stub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a team player – support your team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am Member</a:t>
            </a:r>
            <a:br>
              <a:rPr sz="16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makes a great team membe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 your team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 up your own self-confidence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lato 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now thysel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 to deal with conflict productively and professionally – don’t hold a gru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n other jobs within the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 tabs your progress – periodically review your personal &amp; team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lebrate successes (large and small – your own and other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Today’s lecture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5400" spc="-1" strike="noStrike">
                <a:solidFill>
                  <a:srgbClr val="000000"/>
                </a:solidFill>
                <a:latin typeface="Arial"/>
              </a:rPr>
              <a:t>Team Building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438280" y="2862360"/>
            <a:ext cx="391500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1. Introduction to Team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roduction to Team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Used to be to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down (man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ymore - now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Team members do not just carry out 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Team essence = common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he whole is greater then the sum of its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Functions dov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e.g. surgical team, firefighters, film crew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Groups vs. Tea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Leader dominates and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Goals set by orga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Leader conducts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Leader assigns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Emphasis on individual perform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Workers compete against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Communication flows down fro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nformation is often by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ecisions made by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Leader is a facilitator and c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Goals set by team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Meetings are participative discu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Team plans work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Emphasis on team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Team members work as cooperativ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Communication flows upwards and downward (to &amp; from lea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nformation is 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ecisions made by entir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9:26:20Z</dcterms:created>
  <dc:creator>vijays</dc:creator>
  <dc:description/>
  <dc:language>en-US</dc:language>
  <cp:lastModifiedBy>CM</cp:lastModifiedBy>
  <dcterms:modified xsi:type="dcterms:W3CDTF">2009-12-14T12:34:27Z</dcterms:modified>
  <cp:revision>1555</cp:revision>
  <dc:subject/>
  <dc:title>  Communication Skills   </dc:title>
</cp:coreProperties>
</file>