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1161-DBFB-4F74-8ECF-83CF44ED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3EDA-0317-477B-9A38-30F60D64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C846-F92E-4185-9011-08CAF9DF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2148-2DD6-4145-8828-E5627F96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70E-D4D7-4D4A-BDFB-00E926AA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AE5-26D1-4B47-9A86-263CE13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B2D-11BC-4F48-97AE-3748F9B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26A-43AD-44DF-8B97-345D2FC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8C2-65AB-433E-AE2F-BC69A4B5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E626-7906-4F93-AC22-C6FBB6CF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EC0-1309-4264-84E4-3BBF544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6A8A-F7E0-46AC-9270-7822355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67B-D4DD-4DEE-874F-B34F54C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059-2324-419D-9A66-0F79E84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7DF0-9508-4E87-8F6A-30FB619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2B1-1BF4-4BF8-9C29-7C174067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DA6-8FEE-4115-9F0B-AFD23825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008A-51DB-4425-A40D-0E4C5D9E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086B-4F78-4D0C-9E0E-FDB758E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F074-D7CD-43C3-BACE-2524FDCF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0E4D-D597-4D4F-865D-5E18880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D315-F7E6-4B01-A26B-BA79D8B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2CF5-944A-4CB6-8758-B19C72B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4366-ECC6-4A66-8797-BEE2628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1E3C-E5DF-43B6-B2DE-A00A82A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9332-D4E1-4086-AFF6-E8596EC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C6A9-A16C-4D94-A70A-10B933F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41F2-A23C-43AB-A497-EF6A858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AEB7-DE23-41C6-92DF-EF4DC450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2083-59C3-4F9D-BC66-4715F1FF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6A4B-BAA8-401C-95EF-5DC0A675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F60F-B18F-42E3-95A1-9B55AF9C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053C-8B81-4E10-AF4D-EADB190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E898-5D70-4D44-B6C8-B8EDFC41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F10C-B5DE-4999-921C-CFD0444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F04F-79B9-4F36-8579-90898DD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9581-6F23-4AE4-B0A0-4E39B41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0243-442E-4838-9435-FE94360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B877-F34D-4B7E-A553-4158C9C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6205-1370-4A15-A1D2-73140DA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4F79-A497-4A8C-9482-F34D076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6B2C-6CC7-4BAE-8E1A-86F1E353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C0FE-7B3D-4FE4-A78F-6518C14A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70D0-C45F-497E-A72A-65220D4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9C97-D0A8-47C9-8D74-359DA58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58FB-7773-4F09-B454-07ED1E4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52A9-58AE-446E-AC2B-990BD2F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04E4-15A4-408C-AF4A-750C16F7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179-E6BB-449D-AB12-B10BDA9805EE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893-677F-49B9-8ED9-DC866AA93E33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49C-442E-4806-9723-31F6C52E2D11}" type="slidenum"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CA9D-ADC0-4550-A82B-466B864556B5}" type="slidenum"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How to Writ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(Part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(For when you want to set up your own spectactular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successful software busines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is section helps your writing process because it gives you an idea of what lenders and investors want to see in a finished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r ability to understand your financiers’ motives can mean the difference between getting financing or coming up empty-h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must create a sound business plan and present it, and yourself, in a way that appeals to lenders’ and investors’ needs for security and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(If you have already got financial backing you can skip this p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ypes of Fu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omeone gives you money in exchange for your promise to pay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uld be a bank, friend, family memb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ender will almost always chage interest, which compensates th lender for the risk that you won’t pay back the lo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Usually lender will have you sign papers spelling out the loa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imple concep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ever many people put great energy into arranging to borrow money, but think little about the hard work required to pay i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ypes fo Fu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omeone gives you money in exchange for your promise to pay i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ould be a bank, friend, family membe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nder will almost always chage interest, which compensates th lender for the risk that you won’t pay back the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Usually lender will have you sign papers spelling out the loan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imple concep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owever many people put great energy into arranging to borrow money, but think little about the hard work required to pay it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any different types of loans available, e.g. Fully amortised, balloon, secured, unsecure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ypes of Fu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Equity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n equity investor buys a portion of your business and becomes part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quity investor shares in your profits when you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business plan should include a forecast of when and how you will repay the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enerally, the riskier the investment, the higher the returns sought by the inv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egal forms of owning equity invest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eneral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imited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rp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ypes of Fu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Loans and Equity Investments Comp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Loan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Lender has no profit participation or management s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Interest payments are often a deductible business exp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Loans from close friends/family can have flexible repayment te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Loan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May have to make repayments when your need for cash is grea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May have to assign security interest in your prope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Under most circumstances, you can be personally sued for unpaid balance of the lo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Equity investment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You can be flexible about repayment requir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Investor-partners often offer valuable advice and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If you business loses money or goes bust, you probably won’t have to repay your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s our business plan should include a forecast of when and how you will repay the inves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Equity investment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Equity investors require a larger share of the pro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Your shareholders and partners have a legal right to be informed about significant business 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They can sue you if they feel their rights are compromi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Loan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are better for business if th ecash flow allows for realistic repayment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Equity investment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are often the best way to finance start-up ventures becasue of flexible repayment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ays to Raise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Money Sources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oney from Your Personal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riends, Relatives and Business Acquain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reative Cost-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quity in Other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Money from Your Personal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ost common form of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Quintessential capitalis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on’t have to worry about loan re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enhance your borrowing capacity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Friends, Relatives and Business Acquai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ig contrast with banks or stranger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1349"/>
              </a:spcBef>
              <a:buClr>
                <a:srgbClr val="9999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vailablity of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1349"/>
              </a:spcBef>
              <a:buClr>
                <a:srgbClr val="9999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he interest rate or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uld be in the form of a gift, a loan, or equity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oan-gift hybrid: no interest, pay it back when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oever gives the loan and whatever the conditions, highly advisable to write everything down... You don’t want to fall out with your family or frie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Creative Cost-C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ot really a funding source but one of most effective ways to finance a small business = make do with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.g. work from home, share expensive equip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ost-cutting won’t work in every situation, but the principle should be remembered – only borrow or raise outside capital if you absolutley can’t do with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Equity in Other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Raise money by selling existing assets or by pledging your equity in them as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(equity is the difference between the market value or property you won and what you owe against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borrowing against the value of your car minus anything you still owe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omewhere between family and institu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eople how really want you to succeed or are passionate about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lmost becomes like a co-op, investors ar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y get better terms than with commercial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omewhere between family and institu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eople how really want you to succeed or are passionate about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lmost becomes like a co-op, investors ar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y get better terms than with commercial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ays to Raise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ommon Money Sources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s far as small businesses &amp; start-ups go, banks are usually very cau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anks </a:t>
            </a:r>
            <a:r>
              <a:rPr b="0" lang="ga-IE" sz="24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want to see written business plans when submitting a loa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anks don’t make equity investments – they always want their (depositors’) money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yone who invests equity in a business in the hope of futur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Usually refers to a group of businesses that look for hot companies in which they can make larg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 the US, typically won’t consider any company investment smaller than $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refer companies in emerging technolog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mputers, genetic engineering, biotech, green technologies, and medical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Ways to Raise Money -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mon 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econdary Sources of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Government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emi-state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Local County Enterpris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Local Authority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nterprise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niversity Incubator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br>
              <a:rPr sz="32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ays to Raise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f No-One Will Finance Your Business, Try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o back to people who seemed initially interested but ultimately turned you down – find out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 get same answer from several people this gives you something to work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lso, peoples’ circumstances might have changed (might have more funds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isit lots of banks – you will know the questions they will ask and improve your p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ip: try a long-shot bank first, and the most like on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and Financial Stat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Draft two important doc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special business accomplishment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financi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Business Accomplishment C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nvestors want to be certain you have the education, experience and d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V shows potential backers you can achiev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t the traditional “job seekers”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 statement of everything you have accomplished that has direct bearing on your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Business Accomplishment C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eople will not part with €€€ unless they get a positive feeling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rust &amp; lik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Be prepared for full dis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e honest in your CV (though not in extr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Do not lie or try cover up serious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Student Enterprise Compet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€12k Bolton Trust DIT Student Enterprise 2010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The main objective of the competition is to foster a spirit of entrepreneurship among DIT students and to encourage and support a rigorous business planning approach to entrepreneurial activities.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680000"/>
            <a:ext cx="3200400" cy="133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15120" y="6033960"/>
            <a:ext cx="71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www.dit.ie/researchandenterprise/studententerprisecompeti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Business Accomplishment C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ke list of </a:t>
            </a:r>
            <a:r>
              <a:rPr b="0" lang="ga-IE" sz="24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job and experience with positive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ist the business areas you work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ales, management, logistics, I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ist the specific things you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is list is the raw material for your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n’t be humble – if it was good, lis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Business Accomplishment C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rite short statment for each item on the list relating it to your ability to run 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mphasis knowledge of how your potential business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Highlight your knowledge of and respect for financial re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Business Accomplishment C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rite first draft of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Between 1-3 pages long depending on you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f going into business with others, included their CV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 a loan or inv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tatement showing your personal assets, liabilities, income an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Tells you backers how you handl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imilar to a credit/loa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etermine your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sh and cash equival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rketable securities (stock, sha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sh Value of Life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ccounts and Notes Receivable (private loans given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rust Deeds &amp;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ersonal Property (valuable items, e.g. cars, motorbikes, musical instruments, electronic equipme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ther assets (pension, copyrights, patents, trademark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Determine your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Unecur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oans Secured by Real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oans Secured by Peronsal Property (equipment, vehicles, business inven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oans against Life Insuranc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Other Liabilities (college loans, debts to bookies, child support, taxma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et wort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ubtract total liabilities from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etermine Your Annu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ross Salary and Wages (employer, contract, nix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come From Receivables and Loan Re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ental Property Income (property, truck,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ividends and Inter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come From Business or Profession (if you already own a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ther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OTAL ANNUAL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etermine Your Annual Living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ortgage Payments or 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ther Loan Payments (credit card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surance Prem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iving Expenses (food, clothing, transport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ther Expenses (holidays, club memberships, child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OTAL ANNUAL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ith all the above informa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otal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otal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...complete Personal Financial St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85960" y="228600"/>
            <a:ext cx="71913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Draft Your Personal Financial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Verification of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e prepared to furnish documenation and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ax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redi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ankrupt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roperty d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r ti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rime to knowingly make false financial stat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Profit and Loss Forecas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br>
              <a:rPr sz="24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ecast how much money you will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emember, in this whole plan you are trying to figure 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much money you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you will spend it 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you will pay i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352680"/>
            <a:ext cx="8229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at is a Profit and Loss Forecas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 projection of how much you will sell and much profit you will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usiness profits result from three fig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ross sales/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os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ariable/incremental/dire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ixe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verhead/operating/fixed/discretiona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br>
              <a:rPr sz="1600"/>
            </a:b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omplete Your Profit and Loss Forec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ales revenue - Cost of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ixed Expenses (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rofit/(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Gross Profit – Total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90720" y="3200400"/>
          <a:ext cx="7238880" cy="1730520"/>
        </p:xfrm>
        <a:graphic>
          <a:graphicData uri="http://schemas.openxmlformats.org/drawingml/2006/table">
            <a:tbl>
              <a:tblPr/>
              <a:tblGrid>
                <a:gridCol w="2666880"/>
                <a:gridCol w="457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ges/Sal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ing/Book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roll Tax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t/L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re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ing and Adverti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expenses, e.g lawyers fees, car repairs, office supplies, postage, phone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Cash Flow Forecast and Capital Spending Pla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ash flow = the life blood of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hort-term cash flow is vital when starting off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ust have positive cash flow to be able to pay your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ash Flow Forecast shows potential backers that you understand and can manage day-to-day 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efining your guesses about how much money you w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oney needed to start a busi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pital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sh you need to spend before you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itial working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sh reserves you need to keep your business afloat before you begin to show profits every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sh flow from monthly sales is rarely enough to cover monthly expenses for first few months after new business o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Need to have extra cash set a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apid growth can also b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sh not coming in fast enough from sales to cover additional investmen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repare Your Capital Spending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ll the things you need to buy before your business brings in €1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905120" y="2819520"/>
          <a:ext cx="5105160" cy="2819160"/>
        </p:xfrm>
        <a:graphic>
          <a:graphicData uri="http://schemas.openxmlformats.org/drawingml/2006/table">
            <a:tbl>
              <a:tblPr/>
              <a:tblGrid>
                <a:gridCol w="2970000"/>
                <a:gridCol w="21351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dr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rni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b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831320" y="5881680"/>
            <a:ext cx="51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  <a:ea typeface="Arial"/>
              </a:rPr>
              <a:t>= Total capital required to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repare Your Cash Flow Forec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- Credi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- Payments for Credit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- Principal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- Extra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8320" y="350496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+ Collection of Credi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+ Credit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+ Depr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67004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 Forecast = how much money you’ll need to survive the first lean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080" y="2743200"/>
            <a:ext cx="291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it/(Loss)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6960" y="5715000"/>
            <a:ext cx="260244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  <a:ea typeface="Arial"/>
              </a:rPr>
              <a:t>Monthly Net 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  <a:ea typeface="Arial"/>
              </a:rPr>
              <a:t>Year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19040" y="0"/>
            <a:ext cx="65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Write Your Marketing and Person</a:t>
            </a: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nel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Pla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Your Marketing and Person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s</a:t>
            </a:r>
            <a:br>
              <a:rPr sz="18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o is your competition and how are you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o are your potential customers and how can you contact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xactly what steps will you take to reach your sales proje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can you hire the right people for your 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can you make sure that your employees work effectiv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Your Marketing and Person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s</a:t>
            </a:r>
            <a:br>
              <a:rPr sz="18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reviously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problem are you going to solve for your custom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aste, Trends and Technology: How Will the Future Affect Your 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ales Revenu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inish your plan by spelling out how you will achive your sale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Your Marketing and Person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s</a:t>
            </a:r>
            <a:br>
              <a:rPr sz="18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mpetit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ink like one of your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dentify 3 most likely ways you customers might solve their needs in addition to your business – this is you top com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ifferentiate your business From Th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ervices, products,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scribe Your Target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t’s personal – you’re selling to </a:t>
            </a:r>
            <a:r>
              <a:rPr b="0" lang="ga-IE" sz="16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person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vent a fictional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de how to reach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Networking, trade journals, trade shows, newspapers, viral campaign, em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est of all is... word of m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reate a marketing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much? Depend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Your Marketing and Person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s</a:t>
            </a:r>
            <a:br>
              <a:rPr sz="18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ersonnel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smaller the business, the greater the impact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dministrativ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alyse Your Business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ur employees should be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e Your Staff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many staff will you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e Job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e Your Personne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diting and Finalising Your Business Pla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9 Editing and Finalising Your Business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Lenders, investors, banks see a lot of 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resentation is vital to get your’s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9 Editing and Finalising Your Business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lan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e summary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troduces and emphasises the high points of you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tatement of total amount of money you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o you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you wan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much money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much money you expect 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9 Editing and Finalising Your Business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Final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ection 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ersonal go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itle Page and Table of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inal editing &amp;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ag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isuals - charts, graph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rint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nsider having plan professionally reviewed (biz consultant, accounta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9 Editing and Finalising Your Business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Quick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76360" y="1523520"/>
            <a:ext cx="4647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lan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siness 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ales Revenu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rofit and Los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pital Spend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sh Flow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ppendices: Support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Arial"/>
              </a:rPr>
              <a:t>Key Dates 2009/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5791320" cy="2279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670040"/>
            <a:ext cx="57819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9 Editing and Finalising Your Business Plan</a:t>
            </a:r>
            <a:br>
              <a:rPr sz="1600"/>
            </a:b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Ful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7760" y="1143000"/>
            <a:ext cx="3886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la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usiness Accomplish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arketing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ales Revenue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rofit and Loss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pital Spending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sh Flow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isks Facing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ersonn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pecific Business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ersonal Financial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ersonal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ppendices: Suppor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10. Selling Your Business Pla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0 Selling Your Business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ow to Ask for the Money You Ne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rite a telephone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elps you keep on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rrange face to face appoin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etter to meet 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asking for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et You Ba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e professional and natural – let your enthusiasm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sk for the mon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ank you for listening to my business plan. Will you invest/lend me the money I need to get starte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ave a copy of you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ry never to send copies of your plan before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hone in 7-10 days – remember to ask for the money you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0 Selling Your Business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ow To Approach Different Bac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Friends and Rel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e sure they can afford it and that you can pay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Never ask in soci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Make your presentation just as professional, if a bit less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Give the person a graceful “out” – it doesn’t mean they don’t lov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usiness Acquaint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People who really care about having your business succeed, e.g. small town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Your other bank business – mention your other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Security – tell banker how she will get her money back... with interest. Emphasise collat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e reaalistic – don’t over do the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e persistant – there are lots of bank, make sure you know why you were rejected. Address nagative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quity Investors (Venture Capita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More risk – more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overne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Hardest thing can be finding out which scheme can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0 Selling Your Business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at to Do When Someone Says “Y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f your proposal is good, it will be funded sooner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ossible that a lender will offer you less or at a higher rate... then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 not answer on the sp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ake proposal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ke sure you understand exactly what the term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f it is not good enough – go back and try to 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etter to say “no” than accept a bad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0 Selling Your Business Plan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lan In Advance For Legal Det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a financial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y will have all necessary forms and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a friend, family member or acqain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t’s up to you how to write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Remember... write the ter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y be better for all concerned to have a solicitor draw up a shor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How to Writ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(The E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(For when you want to set up your own spectactular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successful software busines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enefits of Writing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hoose the Righ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otential Sources of Money to Start of Expand You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rite Your Marketing and Personal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Editing and Finalis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ell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5360" y="6324480"/>
            <a:ext cx="386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  <a:ea typeface="Arial"/>
              </a:rPr>
              <a:t>Based on “How To Write a Business Plan, McKeever, Nolo Pres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otential Sources of Money to Start Your Busin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4. Potential Sources of Mon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ypes of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Equity Inves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Loans and Equity Investments Com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ommon Money Sources to Start or Expand a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Money from Your Personal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riends, Relatives and Business Acquain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Creative Cost-Cu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Equity in Other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econdary Sources of Financing for Start-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Government 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dvertising Your Project and Selling 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f No One Will Finance Your Business, Try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03T14:39:13Z</dcterms:modified>
  <cp:revision>1373</cp:revision>
  <dc:subject/>
  <dc:title>  Communication Skills   </dc:title>
</cp:coreProperties>
</file>