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8B03-1854-42DF-A68A-38078D8E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B509-BFAF-4A99-913F-28867A31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514C-0B4C-4807-A8A7-A689F52C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5686-5400-4599-AB7D-F3F35A81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6C1A-4327-4C3A-A945-A0B7E8BF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422F-932A-49D3-8ACB-AFE0FC2F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5FAB-29BD-4B0A-A1F4-1D46E106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EB31-C420-4E87-AC5F-9F107F32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C6EE-16EF-41D2-9463-32167D48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2F8C-BFED-4710-A1E3-A0EDDAF6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556E-A311-4E79-B2C9-A1B2EAB9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1B8B-6852-45DD-AFF9-C757261E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543B-3E49-4586-AD8F-C194F096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CD5A-3875-461A-B420-EC2F9F22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400E-80D5-4F59-A12D-D71DB688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D2AD-DF3E-4146-8919-0A953A9D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2D0F-18FC-4035-A588-C3BD3ED8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BBB3-E8E9-4713-87D0-8A3B8502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362F-2AE9-4CAF-A1BF-DE70501D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85D2-867D-48C4-B823-66219B80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B7C6-37AA-415D-B535-439397AB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76F2-019D-4BFF-91B5-4692A73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582F9-31BB-4280-B70D-FFB33338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2E57-F2F1-4CCC-9749-B159FDBE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18AC-498D-42D5-AFB8-5DA3EAB4442A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24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24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24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24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BBC-1739-4DE7-9A5B-51FC6F07B62D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5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5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mp.dit.ie/dgordon/courses/communications/index.html" TargetMode="External"/><Relationship Id="rId2" Type="http://schemas.openxmlformats.org/officeDocument/2006/relationships/hyperlink" Target="http://modulecatalogue.hosting.heanet.ie/catalogue/modules/BUSN1110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oday’s lecture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How to Write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(Part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(For when you want to set up your own spectactular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successful software business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828800" cy="1841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y Write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Improves Your Odds of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usiness is a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gamble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Gambling with bank’s or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investor’s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riting a business plan helps you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eat the od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ost new, small businesses don’t last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ost don’t have a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oincidence.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y Write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Helps You Keep on T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Anticipate problems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before they become dis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usiness Plan gives you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a clear path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toward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your results to your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lack &amp; white of your business plan will enable you to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face facts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when things aren’t work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Bookkeeping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Your responsibility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to create bookkeeping and accoun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napshot at a moment in time listing the monetary value of everything you own and everything you owe to 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f you make a profit you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f you don’t... you 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2240" y="536400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a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ty? In this world nothing is certain but death and taxes.</a:t>
            </a:r>
            <a:r>
              <a:rPr b="1" i="1" lang="ga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njamin Frank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curities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Raising money on the stock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Going IPO” – initial public o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4880" y="4114800"/>
            <a:ext cx="4185720" cy="252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Google Initial Public Offering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IPO Date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August 19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First Trade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11:56 am ET at $10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Price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$85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Exchange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NASD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Value of Offering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$1.67 b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Initial Market Cap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$23.1 b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5th Anniversary: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$580.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Your Management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Ultimate success rests on your ability ot implement your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More on this lat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Issues Specific to You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usines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ompetitive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oreign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o You Really Want to Own a Busines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Your Strong and Weak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Generaland Specific Skills Your Business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Your Likes and Dis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pecific Business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How to Use the Self-Evaluation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Reality Check: Banker’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Banker’s “Ide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easureing Up to the Banker’s “Ide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Use the Banker’s “Ide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Personal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earch for freed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ersonal Fulfill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guinely fulfilling experience – challenging, fun, exciting, passion, curiosity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Life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greater flexibility an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elf and p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ome entrepreneurs can get very wealt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motivates some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Right Livlih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cause-driven 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Module Homepag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350496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omp.dit.ie/dgordon/courses/communication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modulecatalogue.hosting.heanet.ie/catalogue/modules/BUSN1110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 u="sng">
                <a:solidFill>
                  <a:srgbClr val="000000"/>
                </a:solidFill>
                <a:uFillTx/>
                <a:latin typeface="Arial"/>
              </a:rPr>
              <a:t>Contact 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lman McMa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ajmcmahon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990720" y="1895400"/>
            <a:ext cx="69912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A prospective business owneer must make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wo primary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 decisions correct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must honestly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evaluate yourself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to decide whether you posses the skill and personality to succeed running a small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must choose the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 righ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 small business is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very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t will honestly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reflect your opinions and att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you are sloppy, rude, crafty or naively trusting... your business will mirr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your personal characteristic are more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... your business will be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mo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o succeed, you must ask people for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their money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every day and convince a majority of them to give it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y providing goods and services you are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reating relationships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with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lients, customers, patients, members, student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oesn’t matter what you call them... they are all exchanging money for the belief that you are giving them their money’s w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Your strong and weak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List your strengths and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nclude everything, even if not related to you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General and Specific Skills Your Busines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General – organised, flexibl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pecific – expert in Java, website devlopmen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hatever skills you don’t have, investors will be asking how to make up defe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Your Likes and Dis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List things you really like doing and those you 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clude everything, even if not related to you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s a business owner you will spend most of your waking hours in it.... if it doesn’t make you happy, you probably won’t be very good a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pecific Busines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xactly what do you want your business to accomplish for you... person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oney...? If so, how muc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ake the world a better place...?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e purpose of making these lists is to see if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YOU have what it 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pend time reading them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asking family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, trusted friends, or anyone whose judgement you 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Can they point out any obvious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inconsistencies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between your personality or skills and what you want to accompl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ese lists can provide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ackground material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for the fin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Excercises accomplished several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You have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looked inside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and asked yourself some basic questions about who you are and what you are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realistically qualified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Now have a bettter idea of whether you are prepared to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pay the personal price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required to be a successful small business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f s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ga-IE" sz="2000" spc="-1" strike="noStrike">
                <a:solidFill>
                  <a:srgbClr val="000000"/>
                </a:solidFill>
                <a:latin typeface="Arial"/>
              </a:rPr>
              <a:t>Yes, I am willing to make short-term sacrifices to achieve long-term benefits and do whatever is necessary – no matter the inconvenience – to reach my goa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Reality Check – Banker’s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anker’s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“Ideal” Loan Appl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(Existing business) A cash flow sufficient to make the loan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(New business) An owner who has a track record of profitability owning and operating the same sort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n owner with a sound, well thought-out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n owner with financial reserves and personal collateral suficient to solve the unexpected problems and fluctuations that affect all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you were this good you probably wouldn’t need a loa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Very few people embody the “ideal” ap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Reality Check – Banker’s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Next to “ideal”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 person who has worked for, or preferably managed, a successful business in the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am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omeone with sound experience managing one type of business, but now wants to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tart another type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(transferable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ay have to hire people who can augment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An excercise in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Reality Check – Banker’s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Use “Banker’s Ide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skeptical attitude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as counterweight to your optimism to achieve balanced view of your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hat is it that makes you think you will be one of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the minority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of small business people who will succeed.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3. Choose the Right Busines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Benefits of Writing a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hoose the Right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otential Sources of Money to Start of Expand You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Your Profit and Loss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Your Cash Flow Forecast and Capital Spending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rite Your Marketing and Personal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diting and Finalising Your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elling Your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360" y="6324480"/>
            <a:ext cx="386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  <a:ea typeface="Arial"/>
              </a:rPr>
              <a:t>Based on “How To Write a Business Plan, McKeever, Nolo Pres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3. Choosing the Right Busi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Be Sure You Like Your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Identify Your Type of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Business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Taste, Trends and Technology: How Will The Future Affect Your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Write Future Trends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Break-Even Analysis: Will Your Business Make Mone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Forecast Fixed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Forecast Gross Profit for Each Sales E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Forecast Your Break-Even Sales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What You Have Accomp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19920" y="5105520"/>
            <a:ext cx="83808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Ensure that you choose the “right” business for you - one tha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will work har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makes economic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Be Sure You Lik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atch out that you are not so blinded by one side of your business that you overlook all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.g. you love programming, but you hate custome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Ensure you are not overly emotional about your idea – do not loose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.g. dot.com boom, late 1990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Write a complete &amp; comprehensive description of your proposed busines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dentify Your Type of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ole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You have the “scratch”... What’s the “itch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E.g. Ironing service – clean shirts, saves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Business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rite out in detail how your business will solve your customers’ problems. Take your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ant to end up with realistic, well thought-ou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General business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problem do I solve for my custom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o is my typical (target) custom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will I communicate with my target custom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products and/or services will I provide? Are there any problems or services my customers may expect me to provide that I don’t pan 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ere will my business be locat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ere will I buy items I ne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hours will I oper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o will work for me and how will they be pai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o will handle the critical tasks like selling, ordering, bookkeeping, marketing and shipp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will I advertise and promote my busin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are the competition’s strengths and weakness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am I different from the competition, as seen through the eyes of my custom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pecific business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ow will I keep of advances in my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Does my location have enough drive-by or walk-in traffic to support my business or must I rely on heavy advertising for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igh-street or industrial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ow much inventory will I buy in comparison to my expected sales reven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pecific business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Whole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hich product lines will I carry and which will I order on dem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ill I carry accounts for my customers or work on cash on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re there any exclusive distributorships available to me?, e.g. authorised software re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ill I have to market all the products myself or will the manufacturers have marketing progra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Specific business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oes my manufacturing process create toxic or polluting materials? If so, how to deal with them and the local author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s there a pool of readily available, affordable skilled labour where I want to loc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ill I make products for inventory or per ord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ill I make one product only or a line of produ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I succeed on a small scale, do I plan to sell out to a larger company or try to compete nationally/internationa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s my competition from small or large fir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Specific business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m I sure of the selling price of my pro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m I sure of my projected costs? What will happen if my costs are higher than estim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m I sure of the time factors? What will happen if it takes longer than expected to complete and sell the pro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portions of the work will I contract with others to perform? Will I off-sh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s there a definitel buyer for my project? If not, what costs will I incur before it is so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, Trends and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Let’s assume you have a good description of your business and it’s something you like and know well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oes the world need, and is willing to pay for the, the product or service you want to sell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1. Benefits of Writing a Business Pla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, Trends and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ow does it your business idea fit with fit with today’s tas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s your business part of a 6-month f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as it more popular a few years ago and now starting to dec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No matter how good your technical, managerial skills, etc. your business will likely not succ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, Trends and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arder to predict than t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Like looking into a crystal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have a good sta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Right demographic for tech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Freshly minted graduates (exp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, Trends and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Large and small innovations - good for all enter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igh risk (small “mega” success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80% of new products introduced into the marketplace die a quick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echnology graveyards are v.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Fickl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Always something better right 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ntense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arge-scale venture require enormous cap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Expect to loose money for years during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ever... there is always the possibilty of striking it rich..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, Trends and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uture Trends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rite down your thoughts on what trends affect your business and where they will be in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No-one expects a perfect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Financial backers want to know you have thought through how your business will fit in the world in next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ricky financials ahead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6674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ow can you tell if your business will make money before you star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You can’t...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his is both scary and adventurous. If it was a sure thing... everyone would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Do a break-eve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ducated gu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an be used as a preliminary evaluation tool before doing a full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ales revenue (total sales each week/month/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ixed costs (overh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Gross profit for each sale (sales minus direct c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reakeven sales 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Month-by-month, for first 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ardest thing to do, but most important part of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Must be brutally honest – what you expect your sales to be, not what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oo high = won’t have enough money to 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oo low = won’t be able to handle all the business 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you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Retail Sales Revenue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Find annual sales revenue per square foot/meter of a comparable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ultiply that figure by your estimated floor space to derive an estimate of your annual sales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xample: A similar store shows €200 of sales per square foot. If you have 1,000 square feet of floor space your estimated sales revenue will be €200,000 (1,000 x €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ervice Business Sales Revenue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etermine the steps you need to go through to generate a billable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orecast how many times you can go through all those steps every week 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ultiply the number of billable sales by the amount you think you can get fo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s owner/manager, allow 30-40% of you time for non-revenue generating activities, e.g. admin, market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actor in that you may not be full capacity ini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xample: You can build one website per week. You get €10,000 per website. Total of 4 websites per month = €40,000 per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Manufacturing or Wholesale Business Sales Revenue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 combin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reveue per floorspace (like ret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process repetition (like 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xample: Importing computers to sell on. Warehouse can hold 10,000 computers. Can sell and ship 1,000 computers per month. Computer wholesales for €500. Total sales forecast = €5,000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Benefits of Writing a Business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What is a Business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Why Write a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Helps You Get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Helps You Decided to Proceed or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ets You Improve Your Business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mproves Your Odds of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Helps You Keep On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Bookkeeping and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ecurities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Your Managment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ssues Specific to Your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Project Development Sales Revenue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Project developers are not required to complete a monthly sales revenue forec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owever, need to know likely amount they can sell their project for before beginning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ll revenue comes when project is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Fixed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For most small businesses, difference between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success and failure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lies with keeping cost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Many start businesses in spare room, friends back office or low-rent (dingy)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Some go for flashy offices... and often go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Forecast 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raw up a list of fixed or regular monthly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termine what amount you are committed to pay each month €€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hones (fixed &amp; mob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hi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Bookkee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nclude discretionary items that exist but fluctuate, e.g. Advert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Decide how to pay youself – salary or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You must make at least this much to keep the business viable  €€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Gross Profit for Each Sales €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ow much of each €uro will be left after subtracting the costs of the goods s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hat number will pay fixed costs and determine your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his gives your a broad, quick profit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Forecast Gross Profit for Each Sales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Forecast Gross Profit for a Start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For each product or service that you sell, list every signle item that goes into the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Add up cost of each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Write selling price of the item below the total cost of the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ubtract the total cost from the selling price to derive gross profit from each s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Divide the selling price into the gross profit to derive the gross profit percentage for each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Repeat for each product you will sell (if many, group toget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Write down how much sales (€) you expect for each product or produc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Multiply the gross profit percentage by the total sales (€) to derive the (€) gross profit from each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Add together the total gross profit (€) figures to derive the total gross profit  (€)  for the year’s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Divide the gross profit (€) by the annual sales revenue to derive the average gross profit for the year’s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Completing this gives you an average gross profit percentage for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Your Breakeven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ow that you have fixed costs per month and average gross profit per sale, you can estimate how much revenue you will need to break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ivide fixed costs by average gross profits expressed as a dec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Breakeven Sales Revenue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43000" y="2438280"/>
            <a:ext cx="6858000" cy="2666880"/>
            <a:chOff x="1143000" y="2438280"/>
            <a:chExt cx="6858000" cy="2666880"/>
          </a:xfrm>
        </p:grpSpPr>
        <p:sp>
          <p:nvSpPr>
            <p:cNvPr id="226" name=""/>
            <p:cNvSpPr/>
            <p:nvPr/>
          </p:nvSpPr>
          <p:spPr>
            <a:xfrm>
              <a:off x="1143000" y="2438280"/>
              <a:ext cx="68580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2680" y="243828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15000" y="243828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9200" y="2514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1520" y="2514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7520" y="2514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92120" y="281916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 costs 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280" y="2801880"/>
              <a:ext cx="167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rage gross profit percentage expressed as a dec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1320" y="281916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keven sales reven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 divided by 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3000" y="43434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1600" y="4876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4876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33920" y="4876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47920" y="3352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20000" y="338616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a-I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 or 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Your Breakeven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to Calculate Your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f you are lucky enough that your breakeven sales forecast shows more money than you need to breakeve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imply multiply your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projected sales revenue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that is over the breakeven point by your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average gross profit 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Your Breakeven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Your Forecast Shows 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arefully check and double-check all your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 any business, only these three things can improve profi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Increase sales revenue by selling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Reduce 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Increase the gross profit percentage by raising prices or lowering your produc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What You Have Accomp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hose a business you know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dentified a need you can fill (the customer’s prob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scribed your business and how it will fill tha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cided that you business is the right idea at the righ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cided that you like your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Forecasted enough profits to make writing a complete business plan worth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o far you have been answering questions for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ow you need to sell your idea and you answers to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potential financial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ext up... How to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write a document that sells your idea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at is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A written statement that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s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analyses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 your business and gives detailed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projections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 about its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Included the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inancial aspects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 of starting or expanding you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ow much money you will need and how you will pay it 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y Write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Helps You Get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Lenders or investors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will not take you seriously without writte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hey want to see you have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throught through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critical issues and that you really understand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t teaches </a:t>
            </a:r>
            <a:r>
              <a:rPr b="1" i="1" lang="ga-IE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where money comes from and 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landlords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require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y Write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Helps You Decided to Proceed or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a-IE" sz="28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are the most important person you must conv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Business plan teaches you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how money flows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through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strengths and weakness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in your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hat are your realistic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hances of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y Write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Lets You Improve Your Business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Can see how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hanging parts of the plan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increases profits or accomplishes othe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ry out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financial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Fine tune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your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.g. see how increasing labour costs might affect your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9:26:20Z</dcterms:created>
  <dc:creator>vijays</dc:creator>
  <dc:description/>
  <dc:language>en-US</dc:language>
  <cp:lastModifiedBy>CM</cp:lastModifiedBy>
  <dcterms:modified xsi:type="dcterms:W3CDTF">2009-12-02T02:09:17Z</dcterms:modified>
  <cp:revision>1298</cp:revision>
  <dc:subject/>
  <dc:title>  Communication Skills   </dc:title>
</cp:coreProperties>
</file>