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3345B-7898-4F7B-A7C1-2F9E50A07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C15BE-83BC-4476-A7BF-01874A8A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2E875-183B-4CFF-AC25-93D4EDA8E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FAF5E-BD81-4B13-8F12-98033353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7C52-DADB-4D91-B4FB-70F61C4D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7D0C-2632-4120-BD0B-57938920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D8EE-80B7-42D0-9423-B6875508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E727-0C05-420C-A586-64707E59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EE91-D0FC-41E1-A6E4-BF9F8124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550D-9024-4669-A0C3-A880F7E4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83BA-29BF-4A62-A9A2-B63DB478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EE368-EB68-4438-A408-87E38FFB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C6EB-5625-456E-893E-7DD490DE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80F9-D0FB-4958-8636-E9283E26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37D55-77E1-4EC0-9C6E-0CACE414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AFE1-B7CA-4F1F-8D3B-16F84FCE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0DDF-C367-48D0-85F4-7D9474D2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43796-CF12-4663-96CA-9DF6CCEE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6E73B-48B0-4412-A79A-53BD0EF6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B58E2-4B50-44A7-967A-6FF3615F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B6D51-51C8-4F70-B9BF-EB6C3C9B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A5CC1-7200-4824-96C0-455FB26B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4EE6F-7DEA-4137-8F2B-F07AAC6C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F284C-0D52-469C-8CA0-7CAB7E02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E8FE-A42F-4A06-81E6-9DF1A02AAE3A}" type="slidenum">
              <a:rPr b="0" lang="ga-I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24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24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24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24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24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a-IE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2759-C007-4A0B-B1E4-EB1E2684D2AB}" type="slidenum">
              <a:rPr b="0" lang="ga-IE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15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15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mp.dit.ie/dgordon/courses/communications/index.html" TargetMode="External"/><Relationship Id="rId2" Type="http://schemas.openxmlformats.org/officeDocument/2006/relationships/hyperlink" Target="http://modulecatalogue.hosting.heanet.ie/catalogue/modules/BUSN1110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Today’s lecture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How to Write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Business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(Part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1400" spc="-1" strike="noStrike">
                <a:solidFill>
                  <a:srgbClr val="000000"/>
                </a:solidFill>
                <a:latin typeface="Arial"/>
              </a:rPr>
              <a:t>(For when you want to set up your own spectactular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1400" spc="-1" strike="noStrike">
                <a:solidFill>
                  <a:srgbClr val="000000"/>
                </a:solidFill>
                <a:latin typeface="Arial"/>
              </a:rPr>
              <a:t>successful software business!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4724280"/>
            <a:ext cx="1828800" cy="1841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01028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. Benefits of Writing a Business Plan 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Why Write a Business Pla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Improves Your Odds of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Business is a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gamble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Gambling with bank’s or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investor’s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Writing a business plan helps you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eat the od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Most new, small businesses don’t last very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Most don’t have a business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Coincidence..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. Benefits of Writing a Business Plan 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Why Write a Business Pla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Helps You Keep on Tr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Anticipate problems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before they become disa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Business Plan gives you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a clear path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toward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your results to your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Black &amp; white of your business plan will enable you to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face facts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when things aren’t working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. Benefits of Writing a Business Plan 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Issues Beyond the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Bookkeeping and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Your responsibility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to create bookkeeping and accoun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Balance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snapshot at a moment in time listing the monetary value of everything you own and everything you owe to other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. Benefits of Writing a Business Plan 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Issues Beyond the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If you make a profit you p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If you don’t... you d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21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21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2240" y="5364000"/>
            <a:ext cx="83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ga-I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ertainty? In this world nothing is certain but death and taxes.</a:t>
            </a:r>
            <a:r>
              <a:rPr b="1" i="1" lang="ga-I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Benjamin Frank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. Benefits of Writing a Business Plan 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Issues Beyond the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Securities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Raising money on the stock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Going IPO” – initial public off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21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21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4880" y="4114800"/>
            <a:ext cx="4185720" cy="2527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Google Initial Public Offering Det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IPO Date: 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August 19,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First Trade: 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11:56 am ET at $100.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Price: 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$85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Exchange: 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NASD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Value of Offering: 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$1.67 b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Initial Market Cap: 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$23.1 b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5th Anniversary: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ga-IE" sz="1600" spc="-1" strike="noStrike">
                <a:solidFill>
                  <a:srgbClr val="000000"/>
                </a:solidFill>
                <a:latin typeface="Arial"/>
                <a:ea typeface="Arial"/>
              </a:rPr>
              <a:t>$580.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. Benefits of Writing a Business Plan 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Issues Beyond the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Your Management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Ultimate success rests on your ability ot implement your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More on this late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21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. Benefits of Writing a Business Plan 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Issues Beyond the Pl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Issues Specific to Your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Busines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Competitive pri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Foreign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Do You Really Want to Own a Busines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Self-evaluation Excerc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Your Strong and Weak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Generaland Specific Skills Your Business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Your Likes and Disl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Specific Business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How to Use the Self-Evaluation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Reality Check: Banker’s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Banker’s “Ide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Measureing Up to the Banker’s “Ide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Use the Banker’s “Ide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Personal go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search for freed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Personal Fulfill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guinely fulfilling experience – challenging, fun, exciting, passion, curiosity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Lifestyle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greater flexibility and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self and pe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Mo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some entrepreneurs can get very wealt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motivates some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Right Livliho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0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cause-driven busin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600" spc="-1" strike="noStrike">
                <a:solidFill>
                  <a:srgbClr val="000000"/>
                </a:solidFill>
                <a:latin typeface="Arial"/>
              </a:rPr>
              <a:t>Module Homepage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3504960"/>
            <a:ext cx="8991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comp.dit.ie/dgordon/courses/communication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modulecatalogue.hosting.heanet.ie/catalogue/modules/BUSN1110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 u="sng">
                <a:solidFill>
                  <a:srgbClr val="000000"/>
                </a:solidFill>
                <a:uFillTx/>
                <a:latin typeface="Arial"/>
              </a:rPr>
              <a:t>Contact 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olman McMah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ajmcmahon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990720" y="1895400"/>
            <a:ext cx="69912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Self-Evaluation Excerci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A prospective business owneer must make </a:t>
            </a: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two primary</a:t>
            </a: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 decisions correct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1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You must honestly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evaluate yourself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to decide whether you posses the skill and personality to succeed running a small busi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21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You must choose the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 right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Self-Evaluation Excerci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 small business is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very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t will honestly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reflect your opinions and attitu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f you are sloppy, rude, crafty or naively trusting... your business will mirror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f your personal characteristic are more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... your business will be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more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To succeed, you must ask people for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their money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 every day and convince a majority of them to give it to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By providing goods and services you are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reating relationships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 with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clients, customers, patients, members, student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Doesn’t matter what you call them... they are all exchanging money for the belief that you are giving them their money’s wo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Self-Evaluation Excerci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Your strong and weak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List your strengths and weak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Include everything, even if not related to your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General and Specific Skills Your Business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General – organised, flexible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Specific – expert in Java, website devlopment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Whatever skills you don’t have, investors will be asking how to make up defe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Self-Evaluation Excerci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Your Likes and Dis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List things you really like doing and those you don’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nclude everything, even if not related to your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s a business owner you will spend most of your waking hours in it.... if it doesn’t make you happy, you probably won’t be very good at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Specific Business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Exactly what do you want your business to accomplish for you... person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Money...? If so, how much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Make the world a better place...? H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Self-Evaluation Excerci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The purpose of making these lists is to see if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YOU have what it 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Spend time reading them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asking family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, trusted friends, or anyone whose judgement you re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Can they point out any obvious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inconsistencies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between your personality or skills and what you want to accompli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These lists can provide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ackground material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for the final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Self-Evaluation Excercis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Excercises accomplished several th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You have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looked inside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and asked yourself some basic questions about who you are and what you are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realistically qualified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to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Now have a bettter idea of whether you are prepared to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pay the personal price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required to be a successful small business ow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If s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ga-IE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ga-IE" sz="2000" spc="-1" strike="noStrike">
                <a:solidFill>
                  <a:srgbClr val="000000"/>
                </a:solidFill>
                <a:latin typeface="Arial"/>
              </a:rPr>
              <a:t>Yes, I am willing to make short-term sacrifices to achieve long-term benefits and do whatever is necessary – no matter the inconvenience – to reach my goa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Reality Check – Banker’s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Banker’s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“Ideal” Loan Appl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(Existing business) A cash flow sufficient to make the loan pa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(New business) An owner who has a track record of profitability owning and operating the same sort of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n owner with a sound, well thought-out business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n owner with financial reserves and personal collateral suficient to solve the unexpected problems and fluctuations that affect all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f you were this good you probably wouldn’t need a loa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Very few people embody the “ideal” ap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Reality Check – Banker’s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Next to “ideal”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A person who has worked for, or preferably managed, a successful business in the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sam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Someone with sound experience managing one type of business, but now wants to </a:t>
            </a: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start another type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 (transferable ski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May have to hire people who can augment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An excercise in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Reality Check – Banker’s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Use “Banker’s Ide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skeptical attitude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as counterweight to your optimism to achieve balanced view of your pro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What is it that makes you think you will be one of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the minority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of small business people who will succeed..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200" spc="-1" strike="noStrike">
                <a:solidFill>
                  <a:srgbClr val="ffffff"/>
                </a:solidFill>
                <a:latin typeface="Arial"/>
              </a:rPr>
              <a:t>3. Choose the Right Busines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Benefits of Writing a Business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Do You Really Want to Own a Busin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Choose the Right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Potential Sources of Money to Start of Expand Your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Your CV and Financial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Your Profit and Loss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Your Cash Flow Forecast and Capital Spending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rite Your Marketing and Personal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Editing and Finalising Your Business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Selling Your Business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5360" y="6324480"/>
            <a:ext cx="386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000" spc="-1" strike="noStrike">
                <a:solidFill>
                  <a:srgbClr val="000000"/>
                </a:solidFill>
                <a:latin typeface="Arial"/>
                <a:ea typeface="Arial"/>
              </a:rPr>
              <a:t>Based on “How To Write a Business Plan, McKeever, Nolo Press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3. Choosing the Right Busin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Be Sure You Like Your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Describe Your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Identify Your Type of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Business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Taste, Trends and Technology: How Will The Future Affect Your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Ta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Write Future Trends Stat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Break-Even Analysis: Will Your Business Make Mone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Forecast Sales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Forecast Fixed Co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Forecast Gross Profit for Each Sales Eu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Arial"/>
              </a:rPr>
              <a:t>Forecast Your Break-Even Sales Reven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400" spc="-1" strike="noStrike">
                <a:solidFill>
                  <a:srgbClr val="000000"/>
                </a:solidFill>
                <a:latin typeface="Arial"/>
              </a:rPr>
              <a:t>What You Have Accompl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19920" y="5105520"/>
            <a:ext cx="83808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Ensure that you choose the “right” business for you - one that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you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you l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you will work hard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makes economic s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Be Sure You Like Your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Watch out that you are not so blinded by one side of your business that you overlook all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e.g. you love programming, but you hate customer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Ensure you are not overly emotional about your idea – do not loose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e.g. dot.com boom, late 1990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Describe Your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Write a complete &amp; comprehensive description of your proposed busines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Identify Your Type of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Re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ole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Project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You have the “scratch”... What’s the “itch”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E.g. Ironing service – clean shirts, saves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Business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rite out in detail how your business will solve your customers’ problems. Take your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ant to end up with realistic, well thought-out 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Describe Your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General business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 problem do I solve for my custom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o is my typical (target) custom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How will I communicate with my target custom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 products and/or services will I provide? Are there any problems or services my customers may expect me to provide that I don’t pan 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ere will my business be locat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ere will I buy items I ne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 hours will I opera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o will work for me and how will they be pai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o will handle the critical tasks like selling, ordering, bookkeeping, marketing and shipping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How will I advertise and promote my busine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What are the competition’s strengths and weakness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How am I different from the competition, as seen through the eyes of my customer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Describe Your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Specific business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R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How will I keep of advances in my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Does my location have enough drive-by or walk-in traffic to support my business or must I rely on heavy advertising for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High-street or industrial p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How much inventory will I buy in comparison to my expected sales reven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Describe Your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Specific business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Whole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Which product lines will I carry and which will I order on dem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Will I carry accounts for my customers or work on cash on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Are there any exclusive distributorships available to me?, e.g. authorised software res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Will I have to market all the products myself or will the manufacturers have marketing progra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Describe Your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Specific business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Does my manufacturing process create toxic or polluting materials? If so, how to deal with them and the local authori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s there a pool of readily available, affordable skilled labour where I want to loc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ill I make products for inventory or per ord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ill I make one product only or a line of produ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f I succeed on a small scale, do I plan to sell out to a larger company or try to compete nationally/internationa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s my competition from small or large fir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Describe Your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Specific business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Projec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m I sure of the selling price of my pro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m I sure of my projected costs? What will happen if my costs are higher than estim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m I sure of the time factors? What will happen if it takes longer than expected to complete and sell the projec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What portions of the work will I contract with others to perform? Will I off-sh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s there a definitel buyer for my project? If not, what costs will I incur before it is sol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Tastes, Trends and Tech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Let’s assume you have a good description of your business and it’s something you like and know well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Does the world need, and is willing to pay for the, the product or service you want to sell.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4200" spc="-1" strike="noStrike">
                <a:solidFill>
                  <a:srgbClr val="ffffff"/>
                </a:solidFill>
                <a:latin typeface="Arial"/>
              </a:rPr>
              <a:t>1. Benefits of Writing a Business Plan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Tastes, Trends and Tech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T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How does it your business idea fit with fit with today’s tas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Is your business part of a 6-month f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Was it more popular a few years ago and now starting to dec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No matter how good your technical, managerial skills, etc. your business will likely not succ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Tastes, Trends and Tech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Harder to predict than ta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Like looking into a crystal b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You have a good sta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Right demographic for tech inno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Freshly minted graduates (expe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Tastes, Trends and Tech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Large and small innovations - good for all enterp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igh risk (small “mega” success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80% of new products introduced into the marketplace die a quick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Technology graveyards are v. f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Fickle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Always something better right beh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Intense com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Large-scale venture require enormous cap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Expect to loose money for years during 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ever... there is always the possibilty of striking it rich..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Tastes, Trends and Technolog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Future Trends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Write down your thoughts on what trends affect your business and where they will be in 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No-one expects a perfect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Financial backers want to know you have thought through how your business will fit in the world in next 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Tricky financials ahead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46674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How can you tell if your business will make money before you start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You can’t...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This is both scary and adventurous. If it was a sure thing... everyone would do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Do a break-even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Educated gu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Can be used as a preliminary evaluation tool before doing a full business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Sales revenue (total sales each week/month/y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Fixed costs (overhe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Gross profit for each sale (sales minus direct co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lnSpc>
                <a:spcPct val="80000"/>
              </a:lnSpc>
              <a:spcBef>
                <a:spcPts val="15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Breakeven sales reve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Forecast Sales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Month-by-month, for first 2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Hardest thing to do, but most important part of busines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Must be brutally honest – what you expect your sales to be, not what you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Too high = won’t have enough money to op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Too low = won’t be able to handle all the business 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you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Forecast Sales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Retail Sales Revenue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Find annual sales revenue per square foot/meter of a comparable 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Multiply that figure by your estimated floor space to derive an estimate of your annual sales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Example: A similar store shows €200 of sales per square foot. If you have 1,000 square feet of floor space your estimated sales revenue will be €200,000 (1,000 x €2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Forecast Sales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Service Business Sales Revenue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Determine the steps you need to go through to generate a billable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Forecast how many times you can go through all those steps every week o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Multiply the number of billable sales by the amount you think you can get for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s owner/manager, allow 30-40% of you time for non-revenue generating activities, e.g. admin, marketing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Factor in that you may not be full capacity initi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Example: You can build one website per week. You get €10,000 per website. Total of 4 websites per month = €40,000 per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Forecast Sales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Manufacturing or Wholesale Business Sales Revenue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A combination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reveue per floorspace (like ret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process repetition (like serv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1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Example: Importing computers to sell on. Warehouse can hold 10,000 computers. Can sell and ship 1,000 computers per month. Computer wholesales for €500. Total sales forecast = €5,000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000000"/>
                </a:solidFill>
                <a:latin typeface="Arial"/>
              </a:rPr>
              <a:t>Benefits of Writing a Business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What is a Business Pl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Why Write a Business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Helps You Get 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Helps You Decided to Proceed or 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Lets You Improve Your Business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Improves Your Odds of Su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Helps You Keep On T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Issues Beyond the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Bookkeeping and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T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Securities La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Your Managment Sk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Issues Specific to Your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Forecast Sales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Project Development Sales Revenue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Project developers are not required to complete a monthly sales revenue forec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However, need to know likely amount they can sell their project for before beginning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All revenue comes when project is s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Forecast Fixed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For most small businesses, difference between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success and failure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lies with keeping cost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Many start businesses in spare room, friends back office or low-rent (dingy)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Some go for flashy offices... and often go b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Forecast Fixe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Draw up a list of fixed or regular monthly 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Determine what amount you are committed to pay each month €€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Payroll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In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Phones (fixed &amp; mobi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Shi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Bookkee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Include discretionary items that exist but fluctuate, e.g. Adverti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Decide how to pay youself – salary or pro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You must make at least this much to keep the business viable  €€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Forecast Gross Profit for Each Sales €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How much of each €uro will be left after subtracting the costs of the goods so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That number will pay fixed costs and determine your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This gives your a broad, quick profit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1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Forecast Gross Profit for Each Sales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Forecast Gross Profit for a Start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For each product or service that you sell, list every signle item that goes into the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Add up cost of each i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Write selling price of the item below the total cost of the i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Subtract the total cost from the selling price to derive gross profit from each s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Divide the selling price into the gross profit to derive the gross profit percentage for each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Repeat for each product you will sell (if many, group togeth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Write down how much sales (€) you expect for each product or product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Multiply the gross profit percentage by the total sales (€) to derive the (€) gross profit from each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Add together the total gross profit (€) figures to derive the total gross profit  (€)  for the year’s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1049"/>
              </a:spcBef>
              <a:buClr>
                <a:srgbClr val="00007d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000000"/>
                </a:solidFill>
                <a:latin typeface="Arial"/>
              </a:rPr>
              <a:t>Divide the gross profit (€) by the annual sales revenue to derive the average gross profit for the year’s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600" spc="-1" strike="noStrike">
                <a:solidFill>
                  <a:srgbClr val="000000"/>
                </a:solidFill>
                <a:latin typeface="Arial"/>
              </a:rPr>
              <a:t>Completing this gives you an average gross profit percentage for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Forecast Your Breakeven Sales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Now that you have fixed costs per month and average gross profit per sale, you can estimate how much revenue you will need to breake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Divide fixed costs by average gross profits expressed as a dec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Breakeven Sales Revenue Fore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43000" y="2438280"/>
            <a:ext cx="6858000" cy="2666880"/>
            <a:chOff x="1143000" y="2438280"/>
            <a:chExt cx="6858000" cy="2666880"/>
          </a:xfrm>
        </p:grpSpPr>
        <p:sp>
          <p:nvSpPr>
            <p:cNvPr id="226" name=""/>
            <p:cNvSpPr/>
            <p:nvPr/>
          </p:nvSpPr>
          <p:spPr>
            <a:xfrm>
              <a:off x="1143000" y="2438280"/>
              <a:ext cx="685800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52680" y="243828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15000" y="243828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9200" y="2514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a-I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21520" y="2514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a-I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07520" y="2514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a-I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92120" y="2819160"/>
              <a:ext cx="18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ga-I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xed costs p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81280" y="2801880"/>
              <a:ext cx="16765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ga-I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verage gross profit percentage expressed as a dec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91320" y="2819160"/>
              <a:ext cx="205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ga-I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eakeven sales reven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ga-I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 divided by 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43000" y="4343400"/>
              <a:ext cx="685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71600" y="48765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95880" y="48765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33920" y="48765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47920" y="33526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20000" y="338616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a-I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th or 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Forecast Your Breakeven Sales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How to Calculate Your Pro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If you are lucky enough that your breakeven sales forecast shows more money than you need to breakeven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Simply multiply your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projected sales revenue</a:t>
            </a: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 that is over the breakeven point by your </a:t>
            </a:r>
            <a:r>
              <a:rPr b="1" lang="ga-IE" sz="1800" spc="-1" strike="noStrike">
                <a:solidFill>
                  <a:srgbClr val="000000"/>
                </a:solidFill>
                <a:latin typeface="Arial"/>
              </a:rPr>
              <a:t>average gross profit perce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Forecast Your Breakeven Sales Re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f Your Forecast Shows a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1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Carefully check and double-check all your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5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In any business, only these three things can improve profi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5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Increase sales revenue by selling m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5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Reduce fixe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15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Increase the gross profit percentage by raising prices or lowering your product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osing the Right Business</a:t>
            </a:r>
            <a:br>
              <a:rPr sz="1600"/>
            </a:br>
            <a:r>
              <a:rPr b="1" lang="ga-IE" sz="2400" spc="-1" strike="noStrike">
                <a:solidFill>
                  <a:srgbClr val="000000"/>
                </a:solidFill>
                <a:latin typeface="Arial"/>
              </a:rPr>
              <a:t>Break-even Analysis: Will Your Business Make Mon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What You Have Accompl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Chose a business you know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Identified a need you can fill (the customer’s probl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Described your business and how it will fill that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Decided that you business is the right idea at the righ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Decided that you like your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800" spc="-1" strike="noStrike">
                <a:solidFill>
                  <a:srgbClr val="000000"/>
                </a:solidFill>
                <a:latin typeface="Arial"/>
              </a:rPr>
              <a:t>Forecasted enough profits to make writing a complete business plan worth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So far you have been answering questions for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your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Now you need to sell your idea and you answers to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potential financial 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Next up... How to </a:t>
            </a:r>
            <a:r>
              <a:rPr b="1" lang="ga-IE" sz="2000" spc="-1" strike="noStrike">
                <a:solidFill>
                  <a:srgbClr val="000000"/>
                </a:solidFill>
                <a:latin typeface="Arial"/>
              </a:rPr>
              <a:t>write a document that sells your idea</a:t>
            </a:r>
            <a:r>
              <a:rPr b="0" lang="ga-I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. Benefits of Writing a Business Plan 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What is a Business Pla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A written statement that </a:t>
            </a: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describes</a:t>
            </a: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analyses</a:t>
            </a: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 your business and gives detailed </a:t>
            </a: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projections</a:t>
            </a: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 about its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Included the </a:t>
            </a: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financial aspects</a:t>
            </a:r>
            <a:r>
              <a:rPr b="0" lang="ga-IE" sz="3200" spc="-1" strike="noStrike">
                <a:solidFill>
                  <a:srgbClr val="000000"/>
                </a:solidFill>
                <a:latin typeface="Arial"/>
              </a:rPr>
              <a:t> of starting or expanding your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How much money you will need and how you will pay it ba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. Benefits of Writing a Business Plan 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Why Write a Business Pla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Helps You Get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Lenders or investors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will not take you seriously without writte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They want to see you have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throught through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critical issues and that you really understand your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It teaches </a:t>
            </a:r>
            <a:r>
              <a:rPr b="1" i="1" lang="ga-IE" sz="28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where money comes from and g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landlords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require business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. Benefits of Writing a Business Plan 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Why Write a Business Pla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Helps You Decided to Proceed or S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ga-IE" sz="2800" spc="-1" strike="noStrike" u="sng">
                <a:solidFill>
                  <a:srgbClr val="000000"/>
                </a:solidFill>
                <a:uFillTx/>
                <a:latin typeface="Arial"/>
              </a:rPr>
              <a:t>You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are the most important person you must conv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Business plan teaches you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how money flows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through your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strengths and weakness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in your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What are your realistic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chances of su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600" spc="-1" strike="noStrike">
                <a:solidFill>
                  <a:srgbClr val="000000"/>
                </a:solidFill>
                <a:latin typeface="Arial"/>
              </a:rPr>
              <a:t>1. Benefits of Writing a Business Plan </a:t>
            </a:r>
            <a:br>
              <a:rPr sz="1600"/>
            </a:b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Why Write a Business Pla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200" spc="-1" strike="noStrike">
                <a:solidFill>
                  <a:srgbClr val="000000"/>
                </a:solidFill>
                <a:latin typeface="Arial"/>
              </a:rPr>
              <a:t>Lets You Improve Your Business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Can see how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changing parts of the plan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increases profits or accomplishes other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Try out </a:t>
            </a: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alternative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financial proj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21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2800" spc="-1" strike="noStrike">
                <a:solidFill>
                  <a:srgbClr val="000000"/>
                </a:solidFill>
                <a:latin typeface="Arial"/>
              </a:rPr>
              <a:t>Fine tune</a:t>
            </a:r>
            <a:r>
              <a:rPr b="0" lang="ga-IE" sz="2800" spc="-1" strike="noStrike">
                <a:solidFill>
                  <a:srgbClr val="000000"/>
                </a:solidFill>
                <a:latin typeface="Arial"/>
              </a:rPr>
              <a:t> your fore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18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2400" spc="-1" strike="noStrike">
                <a:solidFill>
                  <a:srgbClr val="000000"/>
                </a:solidFill>
                <a:latin typeface="Arial"/>
              </a:rPr>
              <a:t>e.g. see how increasing labour costs might affect your pro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09:26:20Z</dcterms:created>
  <dc:creator>vijays</dc:creator>
  <dc:description/>
  <dc:language>en-US</dc:language>
  <cp:lastModifiedBy>CM</cp:lastModifiedBy>
  <dcterms:modified xsi:type="dcterms:W3CDTF">2009-12-02T02:09:17Z</dcterms:modified>
  <cp:revision>1298</cp:revision>
  <dc:subject/>
  <dc:title>  Communication Skills   </dc:title>
</cp:coreProperties>
</file>