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41.jpeg" ContentType="image/jpeg"/>
  <Override PartName="/ppt/media/image32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58.png" ContentType="image/png"/>
  <Override PartName="/ppt/media/image21.png" ContentType="image/png"/>
  <Override PartName="/ppt/media/image60.png" ContentType="image/png"/>
  <Override PartName="/ppt/media/image59.wmf" ContentType="image/x-wmf"/>
  <Override PartName="/ppt/media/image22.wmf" ContentType="image/x-wmf"/>
  <Override PartName="/ppt/media/image20.wmf" ContentType="image/x-wmf"/>
  <Override PartName="/ppt/media/image57.wmf" ContentType="image/x-wmf"/>
  <Override PartName="/ppt/media/image16.wmf" ContentType="image/x-wmf"/>
  <Override PartName="/ppt/media/image4.wmf" ContentType="image/x-wmf"/>
  <Override PartName="/ppt/media/image28.jpeg" ContentType="image/jpeg"/>
  <Override PartName="/ppt/media/image27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1.wmf" ContentType="image/x-wmf"/>
  <Override PartName="/ppt/media/image33.png" ContentType="image/png"/>
  <Override PartName="/ppt/media/image10.wmf" ContentType="image/x-wmf"/>
  <Override PartName="/ppt/media/image53.png" ContentType="image/png"/>
  <Override PartName="/ppt/media/image56.jpeg" ContentType="image/jpeg"/>
  <Override PartName="/ppt/media/image34.png" ContentType="image/png"/>
  <Override PartName="/ppt/media/image36.png" ContentType="image/png"/>
  <Override PartName="/ppt/media/image61.wmf" ContentType="image/x-wmf"/>
  <Override PartName="/ppt/media/image39.png" ContentType="image/png"/>
  <Override PartName="/ppt/media/image13.wmf" ContentType="image/x-wmf"/>
  <Override PartName="/ppt/media/image40.jpeg" ContentType="image/jpeg"/>
  <Override PartName="/ppt/media/image44.png" ContentType="image/png"/>
  <Override PartName="/ppt/media/image42.jpeg" ContentType="image/jpeg"/>
  <Override PartName="/ppt/media/image43.png" ContentType="image/png"/>
  <Override PartName="/ppt/media/image45.wmf" ContentType="image/x-wmf"/>
  <Override PartName="/ppt/media/image46.wmf" ContentType="image/x-wmf"/>
  <Override PartName="/ppt/media/image5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FDB6-56AA-4DBF-BEA8-89807F3B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7445-BCE7-4900-89AF-0DD8C79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4335-FD74-4733-9D28-F6B38EAA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AEA1-85B3-4D87-971F-EC289410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A035-BD55-43A7-AD80-463EB299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5376-B4BC-4BE2-B1F9-91C3492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7E6-C008-4ADC-A6E8-8E729F3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4838-2A2D-4B62-8776-659B802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921-AF09-4F5D-BF53-9E657903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CB2-9195-445C-9524-8527D6B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6164-7279-48F6-A111-FF00E4D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49AA-BE4B-43DA-BBDD-B0D65EE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3715-DE7C-4059-8A06-5FDE3BF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E684-BC04-4C23-BE7A-6E24657C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786-C216-4F66-9ED0-A4BFF9ED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DC1-90F4-4A38-A6A3-8F88BB00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7D8-39A3-497A-AB7A-83C63F7B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8B9B-20B7-4964-8A51-2C0DCFCA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FAFE-0D2B-4AE6-825F-2991FF0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03E3-2FE9-4E7C-962F-E11EE168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E6C9-9BC9-4C06-9E5D-FDBE15A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356C-9863-459F-95FF-CB6E5FE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2ABD-2267-4D7A-B7B5-363DD3D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01C2-8F3E-4F73-844F-B05B142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FB1-ED66-4F3E-AD87-3BE13A80C722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1C7-8C4E-4C2C-94F5-7FF41CF05710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Study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Based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What Smart Students Know” by Adam Robi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Principles of high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Ultimately, college is designed to teach you to think for yourself, not to repeat what textbooks and teachers tell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ubjects do not always seem interesting and relevant, but being actively engaged in learning them is better than being passively bored and not learn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ew things are as potentially difficult, frustrating or stressful as genuine learning, yet nothing is so rewarding and emp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well you do in college reflects your attitude and methods, not your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’re doing it for the grades or approval of other, you’re missing th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llege is a game... but a very important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4759200"/>
            <a:ext cx="10508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ersonal &amp; academic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you view your academic work says a 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bout how you view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elf-image has a powerful effect on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elf-fulfilling proph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erformace influences self-image,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ust understand what makes you tick as 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ee yourelf in a positive li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ttitude has developed over lifetime – won’t change over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130800"/>
            <a:ext cx="4898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ga-I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 never let schooling interfere with my educ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rk Tw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967440" y="990720"/>
            <a:ext cx="20242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A New Twist on an Ancient Method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400" spc="-1" strike="noStrike">
                <a:solidFill>
                  <a:srgbClr val="000000"/>
                </a:solidFill>
                <a:latin typeface="Arial"/>
              </a:rPr>
              <a:t>Socratic Meth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he Socratic Meth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Socr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Greek philosophe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470BC-399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 of the founders of Western philoso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n only through the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his student, P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wned for his contribution to the field of 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Question &amp; Answer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 dialogue with the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Used for centuries in colleges, e.g. Oxford and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Key to the Socratic Method is </a:t>
            </a:r>
            <a:r>
              <a:rPr b="0" lang="ga-IE" sz="1800" spc="-1" strike="noStrike" u="sng">
                <a:solidFill>
                  <a:srgbClr val="000000"/>
                </a:solidFill>
                <a:uFillTx/>
                <a:latin typeface="Arial"/>
              </a:rPr>
              <a:t>knowing what questions to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re imporant than merely knowing the ans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Once you know what questions to ask, finding and remembering the information will be a lot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ings will start to make a lot more 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977760"/>
            <a:ext cx="1422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 to Improve Stu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ternal dialogue between you and the material you are stud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sk and answer your own ques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81680" y="1905120"/>
            <a:ext cx="18385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t’s possible to answer these questions and size up material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n exampl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733920" y="4010040"/>
            <a:ext cx="1558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riend phones and asks if you’d like to go to a film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Have I seen the fil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f not, what have I heard about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o I want to see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Even if I don’t, would I go just to be with my frie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How will I get the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o else is g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Do I 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Am I avoiding anyone that might b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s there anything else I should be d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o I have other pla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If so, would I break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n I afford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at time is it ov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s there anything happening after the fil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How would my friend feel if I said n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f I say “no”, do I want to offer an excuse or suggest an alternati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122076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257800" y="4340160"/>
            <a:ext cx="111132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324480" y="3502080"/>
            <a:ext cx="1143000" cy="942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05520" y="2664000"/>
            <a:ext cx="971280" cy="973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162920" y="5029200"/>
            <a:ext cx="8985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2920" y="1447920"/>
            <a:ext cx="4070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Decision making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akes a split-seco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2400" spc="-1" strike="noStrike">
                <a:solidFill>
                  <a:srgbClr val="000000"/>
                </a:solidFill>
                <a:latin typeface="Arial"/>
              </a:rPr>
              <a:t>Hmm... Yes! Sure. Would love to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2400" spc="-1" strike="noStrike">
                <a:solidFill>
                  <a:srgbClr val="000000"/>
                </a:solidFill>
                <a:latin typeface="Arial"/>
              </a:rPr>
              <a:t>Hmm... No, sorry. Can’t make it tonight... I have exams coming up and have to study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bility to process vast amount of information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Keep this in perspective as examine the 12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5368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12 Ques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ternal dialogue between you and the material you are stud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sk and answer your own ques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981080"/>
            <a:ext cx="37339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1. What Is My Purpose For Reading Th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62320" y="14479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asy first question - can answer in a few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hen... read with purpose (like you are shopping...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tate your purpose – unlock th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f the text seems confusing &amp; tedious, it’s possible you haven’t defined you purpose fully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ome purposes for reading in colle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searching a 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tudying for an ex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ooking up imporata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canning for background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reparing for a class/group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2619360" cy="244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772400" y="2590920"/>
            <a:ext cx="10540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2. What Do I Already Know About This Topic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st people start assignments, reading, etc. without any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eading text is a strenous mental excerc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You must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warm up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t the start of term you may not know much about a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jot down some questions or notes about things you expect to learn in the re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fter reading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the title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but before you begin reading the text, quickly and briefly write down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at you know about the t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at the topic reminds you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at you’d like to know or expect to lea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on’t think it -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write 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hysical act of writing activates parts of your 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0" y="1066680"/>
            <a:ext cx="128268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5334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Warming up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as the effect of making you c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tarts process of generat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kes you aware of what you know and don’t about a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uts you on the lookout for 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aluable practice in resourcefu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cts as a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kes you the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efore you are influenced by the author, express your ow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ssens your dependence on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ncourages/forces you to think for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73960" y="4495680"/>
            <a:ext cx="14414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2209680"/>
            <a:ext cx="37339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3. What is The Big Pictu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kim through material first to get an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ext can be difficult to understand because it is linear (one fact after an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o understand -  you need to see the whole as well as the parts (the general stru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676520" cy="168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819520" y="44956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  <a:ea typeface="Arial"/>
              </a:rPr>
              <a:t>Like travel – get a general idea of route and destination before start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3. Big picture - what you are looking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Main ideas and 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ypical chapter only contains half-a-dozen main ideas. Get them before you get swamped with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mportant Terms and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on’t try learn them now, just familiaris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Overall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Recognise the order in which main ideas are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or this step, skip most of facts and min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ike getting to know someone – don’t get int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tails right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010280" y="4898880"/>
            <a:ext cx="16462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3. Big picture – where it’s f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eface and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uthor 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hapter summ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hapter or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irst and last para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ection 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ables, graphs, charts, pictures and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irst sentence of each para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flipH="1">
            <a:off x="6095880" y="28954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590920"/>
            <a:ext cx="518184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2nd vs 3rd Level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4. What is The Author Going to Say Nex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ry and stay one step ahead of the author, anticipating what’s coming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8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you’re ready 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Question 1 – defined your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Question 2 – warmed you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Question 3 – gave you the big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w you’re ready to drill d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086600" y="2795760"/>
            <a:ext cx="180828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Anticipation vs wai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keeps us alert and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assive and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author/lecturer should almost be answering your questions as you read/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is is part of the “dialogue” or interrog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n-passive role – keeps you actively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’s not about being right or wrong – it’s about not being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435560" y="2971800"/>
            <a:ext cx="822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Clues to anticip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Organis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roblem followed by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efinition followed by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eneral rule followed by exce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laim followed by re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ole followed by p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Question followed by 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use followed by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Grammatical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(examp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ntroduce a new idea: 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but, although, nevertheless, despite, however, ex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laborate on or emphasise the idea under discussion: 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and, moreover, also, further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Offer a conclusion: 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so, therefore, as a result, consequently, thus, h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rovide reasons for a conclusion: because, since, owning to, as a resul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rovode a list of itesm: </a:t>
            </a: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first, second, next 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574640" cy="1301760"/>
          </a:xfrm>
          <a:prstGeom prst="rect">
            <a:avLst/>
          </a:prstGeom>
          <a:ln w="0">
            <a:noFill/>
          </a:ln>
        </p:spPr>
      </p:pic>
      <p:sp>
        <p:nvSpPr>
          <p:cNvPr id="224" name="PubOvalCallout"/>
          <p:cNvSpPr/>
          <p:nvPr/>
        </p:nvSpPr>
        <p:spPr>
          <a:xfrm flipH="1">
            <a:off x="7391520" y="3581280"/>
            <a:ext cx="1295280" cy="114300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25640 h 1143000"/>
              <a:gd name="textAreaBottom" fmla="*/ 732240 h 1143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8120"/>
            <a:ext cx="449604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5. What Are The “Expert Questions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ach subject asks a unique set of questions that you need to keep in mind as you drill dee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352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Expert questions” in compu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s the doma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s the desired outco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re the constrain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s the histo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re there any legacy iss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is the most appropriate technology/langu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lternatives are t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dditional processes must be consider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f a certain type of question come up again and again in a text book, it is probably an “expert question” (study introductions and chapter summary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 will come to work out your own list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1657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Orientation question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.e. helping you get oriented to a subject/top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What is the definition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What is an example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What are the different types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What is X relate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What can X be compared wi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ener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o not vary from subject to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lso, the most popular exam-typ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3505320"/>
            <a:ext cx="64767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6. What Questions Does This Information Raise For 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ke it your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e aware of other questions the material should be raising in your m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pert” and “orientation” questions are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reate your own questions uniquely suited to your curiosity, interests, background, career direc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tart out with bas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Deep questio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o what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How is this significant? What does it tell me about other th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ays who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Is this a fact or someone’s opinion? How can this be verified? Does this depend on a particular point of view? Is it condit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What if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What would happen if...? What if I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What does this remind me of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Where have I seen something like this bef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2720" y="37479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(Fantas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2640" y="4724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(Analogies &amp; metaph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911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ff0000"/>
                </a:solidFill>
                <a:latin typeface="Arial"/>
                <a:ea typeface="Arial"/>
              </a:rPr>
              <a:t>Most important question. This question alone will lead to all oth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ff0000"/>
                </a:solidFill>
                <a:latin typeface="Arial"/>
                <a:ea typeface="Arial"/>
              </a:rPr>
              <a:t>If you remember nothing else, remember to ask this question constan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5507000">
            <a:off x="37800" y="552384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3813" y="9825"/>
                </a:moveTo>
                <a:arcTo wR="-7055" hR="-7055" stAng="-10323426" swAng="-10606510"/>
                <a:lnTo>
                  <a:pt x="205" y="8708"/>
                </a:lnTo>
                <a:arcTo wR="10800" hR="10800" stAng="-10129936" swAng="10606510"/>
                <a:lnTo>
                  <a:pt x="24170" y="12666"/>
                </a:lnTo>
                <a:lnTo>
                  <a:pt x="19010" y="16562"/>
                </a:lnTo>
                <a:lnTo>
                  <a:pt x="15113" y="114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9126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2nd Level (School)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eavy emphasis o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ead text &amp; mak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ighlight or underline items that seem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e-read text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evise/refin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e-read notes as many times as possible, as exa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654200" cy="1492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29400" y="5715000"/>
            <a:ext cx="18763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Dig, Dig Dig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ever-ending process – one question leading to the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Questioning is how you buil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t is also how you stay interested in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f you are bored in class/course/college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s it becuase you are doing too l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3962520"/>
            <a:ext cx="5181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7. What Information is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Questions 4-6 established a dialogue between you and the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w... rein in the question and information and begin the selec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areto’s Principle Zipf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1951200" cy="251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18255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152280" y="2971800"/>
            <a:ext cx="761976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areto’s Principle: 80-20 R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Vilfredo Pa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(1848-1923) Italian industrialist, sociologist, economist, and philosop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mportant legacy -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ly because of him, the field of economics evolved from a branch of social philosophy into a data intensive field of scientific research and mathematical equ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st well known for what became known as “The Pareto Principle” concerning the distribution of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areto observed tha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1906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% of the land in Italy was owned by 20% of the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roved through statistics and mathematical analysis that in any endeavor, 80% of results are generated by 20% of the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% of your sales come from 20% of your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80% of your revenue comes from 20% of your products, e.g. 5 products, 1 would be best s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629400" y="1295280"/>
            <a:ext cx="1662120" cy="2514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172200" y="4114800"/>
            <a:ext cx="2666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673200"/>
            <a:ext cx="7772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Zipf’s La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Kingsley Zi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02–1950) an American linguist and philologist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ied statistical occurrences in different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egacy - 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h of his effort can explain properties of the Internet, distribution of income within nations, and many other collections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pf's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le only a few words are used very often, many or most are used rarely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st frequently used word (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) appear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wice as often as the 2nd ranked work (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ree times as frequently as the 3rd ranked word (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en times as frequently as the 10th ranked word (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783400" y="1219320"/>
            <a:ext cx="1887480" cy="2590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3200400" cy="2239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577480" y="6553080"/>
            <a:ext cx="279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800" spc="-1" strike="noStrike">
                <a:solidFill>
                  <a:srgbClr val="000000"/>
                </a:solidFill>
                <a:latin typeface="Arial"/>
                <a:ea typeface="Arial"/>
              </a:rPr>
              <a:t>http://searchengineland.com/the-long-tail-of-search-12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areto, Zipf and Yo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t all information is create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ome is more imporant tha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 your brain a favou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on’t try and absorb everything (you won’t be able to any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mple - if you have 50 pages to read, the “80-20 Rule”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80% of important facts and ideas are going to be found on 20% of th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pages important –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pages less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f you have a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1 hour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o stu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minutes on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pend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minutes on the other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752480" y="2819520"/>
            <a:ext cx="2133720" cy="2743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Minor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and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270160"/>
            <a:ext cx="2133720" cy="62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Major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and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286000"/>
            <a:ext cx="2133720" cy="26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Focu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(read carefu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937040"/>
            <a:ext cx="2133720" cy="625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Skim/ign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380880" cy="2590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7848720" y="2285640"/>
            <a:ext cx="380880" cy="2590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228600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7848720" y="4952880"/>
            <a:ext cx="304560" cy="609840"/>
          </a:xfrm>
          <a:custGeom>
            <a:avLst/>
            <a:gdLst>
              <a:gd name="textAreaLeft" fmla="*/ 194760 w 304560"/>
              <a:gd name="textAreaRight" fmla="*/ 304920 w 3045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5400" y="4038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080" y="2362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8080" y="5105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8080" y="3429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2895480"/>
            <a:ext cx="152388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5562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61760" y="16905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Total Pages to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3800" y="156852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Total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Stud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2360" y="5599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100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24800" y="56386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Arial"/>
              </a:rPr>
              <a:t>6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Studying the 80-20 w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Challenge for the stud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hich information you should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hat information you should sk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hich information you should ignore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478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ow can you tell what’s important and what’s no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n first few weeks, </a:t>
            </a:r>
            <a:r>
              <a:rPr b="0" lang="ga-IE" sz="2800" spc="-1" strike="noStrike" u="sng">
                <a:solidFill>
                  <a:srgbClr val="000000"/>
                </a:solidFill>
                <a:uFillTx/>
                <a:latin typeface="Arial"/>
              </a:rPr>
              <a:t>everything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seem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ince main concepts are usually covered first, everything may well b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fter that, definitely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y facts or ideas needed to answer the “expert” or “orientation”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r thoughts, questions and reactions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y key terms, concepts or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696080" y="914400"/>
            <a:ext cx="1005120" cy="1295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467480" y="4648320"/>
            <a:ext cx="131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  <a:ea typeface="Arial"/>
              </a:rPr>
              <a:t>(Remember Bloom’s Taxonom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Drawbacks to “school” study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’s 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 feel busy studying but you are not really doing anything, i.e. you’re not really </a:t>
            </a:r>
            <a:r>
              <a:rPr b="0" i="1" lang="ga-IE" sz="1800" spc="-1" strike="noStrike" u="sng">
                <a:solidFill>
                  <a:srgbClr val="000000"/>
                </a:solidFill>
                <a:uFillTx/>
                <a:latin typeface="Arial"/>
              </a:rPr>
              <a:t>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ctive thinking connects the mind with th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’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Reading and re-reading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’s in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effecient way to memorise or understand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’s not practicing anything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acticing highlighting and re-reading (which isn’t on the ex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Where is the important stuff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beginning and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uthors open and close with most imporant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nything emphasised 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, etc. is a good in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gist of any chart o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idea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conveyed is the importan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chapter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dicates at least what the author thinks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Skimming and “speed reading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kimming is scanning a text to decide what’s important and what’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ssential skill for dealing with vast masses of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low down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when get to important ideas needing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peed up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when get to patches of insignificant or irreleva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es not mean speeding through </a:t>
            </a:r>
            <a:r>
              <a:rPr b="1" i="1" lang="ga-IE" sz="2400" spc="-1" strike="noStrike">
                <a:solidFill>
                  <a:srgbClr val="000000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18208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In lectures...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ay special attention to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e beginning and the end of the 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ything that goes on the board or in sl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ything lecturer repeats, emphasises or otherwise st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ecturer’s use of language/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your lecturer responds to questions or comments from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Your own thoughts, reactions and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ything your lecturer says after a long pause, takes a long time to explain or has difficulty expr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ything your lecturer discusses that is not covered in textbook, and especially when lecturer disagrees with text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ther your lecturer concentrates on details or tries to present the larger themes and the big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ther your lecturer keeps referring to material covered previ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Questions your lecturer raises but does not answer (rhetorical ques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Anything in hand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Remember: 80-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ocus on finding the import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kim or ignore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icking out important information will slash your studying time and increase your productivity dra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Use guidelines to identify the important information, e.g. answers to “expert”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eachers and lecturers provide many explicit and implicit clues to what information they deem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343400"/>
            <a:ext cx="7315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Taking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Previous sections dealt with </a:t>
            </a:r>
            <a:r>
              <a:rPr b="1" i="1" lang="ga-IE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you should be taking not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w take a look at </a:t>
            </a:r>
            <a:r>
              <a:rPr b="1" i="1" lang="ga-IE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1736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enefits of note ta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ote taking identifies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Keeps you eng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se as many senses as possible when reading/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se your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ssists with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se as few words as 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paraphrase, condense, di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rot="20767200">
            <a:off x="7102440" y="3809880"/>
            <a:ext cx="898560" cy="1335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>
            <a:off x="7010280" y="1219320"/>
            <a:ext cx="190512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Notes from rea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on’t take notes sentence by sen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Interrogate a section before deciding what’s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on’t look at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Forces you to recall, think and use your ow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reate a structure (with links) that you can under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on’t merely make 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ranslate diagrams, graphs, tables, charts into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nsures true understanding o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evelop your own symbols and abbrev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horthand makes it your 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rint rather than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lock writing encourages faster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Use loose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pread your notes out and see everything at a g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Notes from l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ookout for terms, buzz words, pet phras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Use later in exams and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ark items for later reseach and 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rint out and bring notes provided by lecturer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rk up as lecture goes a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n’t let your note taking fully distract you from listening and engaging with the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ote taking helps you stay engaged and active i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3rd Level Study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dependent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ritic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tudent responsible for ow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 more targeted, evolv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 u="sng">
                <a:solidFill>
                  <a:srgbClr val="000000"/>
                </a:solidFill>
                <a:uFillTx/>
                <a:latin typeface="Arial"/>
              </a:rPr>
              <a:t>Interrogat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the information to select only the important, valuabl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Organise and re-organis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ke connections between new material and what you already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ild genuine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77120" y="609480"/>
            <a:ext cx="1987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800600"/>
            <a:ext cx="5181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Orgaisation of material – exposes different patterns, connectins an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ow many different ways can the various pices of information be compa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hat items are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hat items are differ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hat items depend on each 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ow do different items compar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rms of the “expert” and “orien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ilding understanding (links, insigh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volves trial an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379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5181480"/>
            <a:ext cx="518148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formation has form an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ust “see” this form to truly understa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raphic words like “elephant” or “milk shake” are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bstract words like “democracy” or “magnetism” difficult for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elp by translating into concrete visu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505320" y="5638680"/>
            <a:ext cx="1137960" cy="881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 flipH="1">
            <a:off x="6400440" y="2133720"/>
            <a:ext cx="2398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Suggestions how to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mphasise relationships and relative importance with different shapes, sizes, colou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e creative (but don’t go over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Don’t rely on visuals provided by lecturer or books – make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Visuals won’t work for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xperi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2539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5562720"/>
            <a:ext cx="68580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mphasis so far on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Understanding preceeds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ow that you’ve absorbed the information and made it your own – need ways to remembe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orst way to memorise something is to repeat it over and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assive and 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echniques to coax your brain into retain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atterns, story, rhym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315200" y="5410080"/>
            <a:ext cx="1558800" cy="1341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934320" y="990720"/>
            <a:ext cx="177804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Memor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No such thing as a “bad”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Memory is not a sense, but a skill and can be per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Unlike understanding/comprehending, memorising is far mor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on’t have to memorise everything - depends on the course, module,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Exam vs.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Essay-style vs. multip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iology vs. philoso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Lecturer vs. lectu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Passive repetition (saying or seeing) is one of least effective ways of memorising information - it’s also b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volution did not equip your brain for stockpiling mountains of academic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ut has a huge capacity for retaining certain </a:t>
            </a:r>
            <a:r>
              <a:rPr b="1" i="1" lang="ga-IE" sz="12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Must present the information in a way that your brain can 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Hard-to-remember information piggybacks on the easy-to-rememb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Your brain needs a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4 Hoo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Rh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en General Keys for Memor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ry to understand it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reate a hook (picture, pattern, rhyme, 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ink it to something you already k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on’t bite off more than you can chew (don’t overload your br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Get emotionally involved (personalise 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Engage as many senses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mell the roses (absorbing your environment helps with later re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leep on it (review before bed and when first awa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Use it or lose it (access it, think about it, apply it – soon and of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Quiz yourself periodically (like excercising a musc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No right or wrong way – only general rules an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ork at it and develop personal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00200" y="1371600"/>
            <a:ext cx="5943600" cy="5105520"/>
            <a:chOff x="1600200" y="1371600"/>
            <a:chExt cx="5943600" cy="5105520"/>
          </a:xfrm>
        </p:grpSpPr>
        <p:sp>
          <p:nvSpPr>
            <p:cNvPr id="124" name=""/>
            <p:cNvSpPr/>
            <p:nvPr/>
          </p:nvSpPr>
          <p:spPr>
            <a:xfrm>
              <a:off x="1600200" y="1371600"/>
              <a:ext cx="5943600" cy="5105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440" y="579132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9520" y="441972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733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3048120"/>
              <a:ext cx="2743200" cy="685800"/>
            </a:xfrm>
            <a:custGeom>
              <a:avLst/>
              <a:gdLst/>
              <a:ahLst/>
              <a:rect l="l" t="t" r="r" b="b"/>
              <a:pathLst>
                <a:path w="1728" h="432">
                  <a:moveTo>
                    <a:pt x="240" y="0"/>
                  </a:moveTo>
                  <a:lnTo>
                    <a:pt x="0" y="432"/>
                  </a:lnTo>
                  <a:lnTo>
                    <a:pt x="1728" y="432"/>
                  </a:lnTo>
                  <a:lnTo>
                    <a:pt x="148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81640" y="137160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lnTo>
                    <a:pt x="1248" y="1056"/>
                  </a:lnTo>
                  <a:lnTo>
                    <a:pt x="624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3730680"/>
              <a:ext cx="3657600" cy="770040"/>
            </a:xfrm>
            <a:custGeom>
              <a:avLst/>
              <a:gdLst/>
              <a:ahLst/>
              <a:rect l="l" t="t" r="r" b="b"/>
              <a:pathLst>
                <a:path w="2304" h="485">
                  <a:moveTo>
                    <a:pt x="282" y="0"/>
                  </a:moveTo>
                  <a:lnTo>
                    <a:pt x="0" y="485"/>
                  </a:lnTo>
                  <a:lnTo>
                    <a:pt x="2304" y="482"/>
                  </a:lnTo>
                  <a:lnTo>
                    <a:pt x="2019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2960" y="4495680"/>
              <a:ext cx="4452840" cy="689040"/>
            </a:xfrm>
            <a:custGeom>
              <a:avLst/>
              <a:gdLst/>
              <a:ahLst/>
              <a:rect l="l" t="t" r="r" b="b"/>
              <a:pathLst>
                <a:path w="2805" h="434">
                  <a:moveTo>
                    <a:pt x="246" y="4"/>
                  </a:moveTo>
                  <a:lnTo>
                    <a:pt x="0" y="422"/>
                  </a:lnTo>
                  <a:lnTo>
                    <a:pt x="2805" y="434"/>
                  </a:lnTo>
                  <a:lnTo>
                    <a:pt x="2550" y="0"/>
                  </a:lnTo>
                  <a:lnTo>
                    <a:pt x="246" y="4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440" y="5172120"/>
              <a:ext cx="5181480" cy="619200"/>
            </a:xfrm>
            <a:custGeom>
              <a:avLst/>
              <a:gdLst/>
              <a:ahLst/>
              <a:rect l="l" t="t" r="r" b="b"/>
              <a:pathLst>
                <a:path w="3264" h="390">
                  <a:moveTo>
                    <a:pt x="234" y="0"/>
                  </a:moveTo>
                  <a:lnTo>
                    <a:pt x="0" y="390"/>
                  </a:lnTo>
                  <a:lnTo>
                    <a:pt x="3264" y="390"/>
                  </a:lnTo>
                  <a:lnTo>
                    <a:pt x="3033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5791320"/>
              <a:ext cx="5943600" cy="685800"/>
            </a:xfrm>
            <a:custGeom>
              <a:avLst/>
              <a:gdLst/>
              <a:ahLst/>
              <a:rect l="l" t="t" r="r" b="b"/>
              <a:pathLst>
                <a:path w="3744" h="432">
                  <a:moveTo>
                    <a:pt x="240" y="0"/>
                  </a:moveTo>
                  <a:lnTo>
                    <a:pt x="0" y="432"/>
                  </a:lnTo>
                  <a:lnTo>
                    <a:pt x="3744" y="432"/>
                  </a:lnTo>
                  <a:lnTo>
                    <a:pt x="3506" y="4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8200" y="6014880"/>
              <a:ext cx="33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/Rememb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3040" y="5329080"/>
              <a:ext cx="19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erst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360" y="464832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4040" y="39574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25080" y="327168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1320" y="234648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5943600"/>
            <a:ext cx="75438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685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12. How does this information fit in with what I already kn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ow... look at the whole universe of you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Take a few step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ee how new information fits in with what you already know about other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1771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ummaise your notes down to a singl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You are creating an ontology or perhaps a taxonomy (depending on the sub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xamine how your understanding has changed in narrow and wide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086600" y="4929120"/>
            <a:ext cx="2057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Adding to the fabric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e’re not so much building a wall as weaving a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y weaving it all together we become able to master complex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e can reduce multiple elements to one, single, fluid, system o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1827360" cy="1719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629400" y="1371600"/>
            <a:ext cx="166356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800" spc="-1" strike="noStrike">
                <a:solidFill>
                  <a:srgbClr val="ffffff"/>
                </a:solidFill>
                <a:latin typeface="Arial"/>
              </a:rPr>
              <a:t>Applying Socratic Method to lectures...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ga-IE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Lectures -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Best way to cover important topics (sele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nlike inanimate text book, lecturers have a sense of what students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ndicates what’s on 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Lectures - dis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eading – you set the 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listening – ecturer sets the 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Not always logical 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ecturer determine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ecturer does most of the tal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You are in a passive 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Often – little choice but to listen and tak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assivity makes it difficult to concentrate and listen atten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llusion – following along is not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Teaching is like an iceberg – students only see the very t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ays/hours of planning, organizing, selecting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tudents cannot always see how or why a topic is on the l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Productive l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Complete assignments from previous class, esp. recommend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Read a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Review your notes from previous 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Do this close to start of next l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ring notes from last class only – safety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e 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Interpreted as disrespect or lack of interest (or bot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Potential to miss 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Dec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Pay attention (or at last look like you a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Give feedback – nod, make eye 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Do not read books, newspaper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Even whispers can be heard at the head of the c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Pick a seat that allows you to concen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Front, back, window, beside a brainy friend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Ask for examples if you don’t understand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Easier to understand than abstract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Disagree respectfully – safety ma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Teachers have ego’s too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</a:rPr>
              <a:t>As soon as you can after a lecture, take a minute or two to summarise what was just covered in class (on paper, in your hea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000" spc="-1" strike="noStrike">
                <a:solidFill>
                  <a:srgbClr val="ffffff"/>
                </a:solidFill>
                <a:latin typeface="Arial"/>
              </a:rPr>
              <a:t>Study Techniques - reca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Based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hat Smart Students Know” by Adam Robi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12 Principles of High Performance Student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2nd Level vs. 3rd Level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2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t’s 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t’s b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t’s in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t’s not practicing anything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3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 more evolv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tudent is in control of ow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 u="sng">
                <a:solidFill>
                  <a:srgbClr val="000000"/>
                </a:solidFill>
                <a:uFillTx/>
                <a:latin typeface="Arial"/>
              </a:rPr>
              <a:t>Interrogate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e information to select only the important, valuab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Organise and re-organis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uild genuine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791320" y="2057400"/>
            <a:ext cx="2438280" cy="2059200"/>
            <a:chOff x="5791320" y="2057400"/>
            <a:chExt cx="2438280" cy="2059200"/>
          </a:xfrm>
        </p:grpSpPr>
        <p:sp>
          <p:nvSpPr>
            <p:cNvPr id="393" name=""/>
            <p:cNvSpPr/>
            <p:nvPr/>
          </p:nvSpPr>
          <p:spPr>
            <a:xfrm>
              <a:off x="5791320" y="2057400"/>
              <a:ext cx="2438280" cy="2057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8280" y="3838680"/>
              <a:ext cx="21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91360" y="3286080"/>
              <a:ext cx="14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48320" y="300996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8320" y="2733840"/>
              <a:ext cx="1124280" cy="276120"/>
            </a:xfrm>
            <a:custGeom>
              <a:avLst/>
              <a:gdLst/>
              <a:ahLst/>
              <a:rect l="l" t="t" r="r" b="b"/>
              <a:pathLst>
                <a:path w="1728" h="432">
                  <a:moveTo>
                    <a:pt x="240" y="0"/>
                  </a:moveTo>
                  <a:lnTo>
                    <a:pt x="0" y="432"/>
                  </a:lnTo>
                  <a:lnTo>
                    <a:pt x="1728" y="432"/>
                  </a:lnTo>
                  <a:lnTo>
                    <a:pt x="1488" y="0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04200" y="2057400"/>
              <a:ext cx="812520" cy="67644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lnTo>
                    <a:pt x="1248" y="1056"/>
                  </a:lnTo>
                  <a:lnTo>
                    <a:pt x="624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59680" y="3008520"/>
              <a:ext cx="1501560" cy="309600"/>
            </a:xfrm>
            <a:custGeom>
              <a:avLst/>
              <a:gdLst/>
              <a:ahLst/>
              <a:rect l="l" t="t" r="r" b="b"/>
              <a:pathLst>
                <a:path w="2304" h="485">
                  <a:moveTo>
                    <a:pt x="282" y="0"/>
                  </a:moveTo>
                  <a:lnTo>
                    <a:pt x="0" y="485"/>
                  </a:lnTo>
                  <a:lnTo>
                    <a:pt x="2304" y="482"/>
                  </a:lnTo>
                  <a:lnTo>
                    <a:pt x="2019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00920" y="3316320"/>
              <a:ext cx="1825560" cy="277920"/>
            </a:xfrm>
            <a:custGeom>
              <a:avLst/>
              <a:gdLst/>
              <a:ahLst/>
              <a:rect l="l" t="t" r="r" b="b"/>
              <a:pathLst>
                <a:path w="2805" h="434">
                  <a:moveTo>
                    <a:pt x="246" y="4"/>
                  </a:moveTo>
                  <a:lnTo>
                    <a:pt x="0" y="422"/>
                  </a:lnTo>
                  <a:lnTo>
                    <a:pt x="2805" y="434"/>
                  </a:lnTo>
                  <a:lnTo>
                    <a:pt x="2550" y="0"/>
                  </a:lnTo>
                  <a:lnTo>
                    <a:pt x="246" y="4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8280" y="3589560"/>
              <a:ext cx="2124360" cy="249120"/>
            </a:xfrm>
            <a:custGeom>
              <a:avLst/>
              <a:gdLst/>
              <a:ahLst/>
              <a:rect l="l" t="t" r="r" b="b"/>
              <a:pathLst>
                <a:path w="3264" h="390">
                  <a:moveTo>
                    <a:pt x="234" y="0"/>
                  </a:moveTo>
                  <a:lnTo>
                    <a:pt x="0" y="390"/>
                  </a:lnTo>
                  <a:lnTo>
                    <a:pt x="3264" y="390"/>
                  </a:lnTo>
                  <a:lnTo>
                    <a:pt x="3033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1320" y="3838680"/>
              <a:ext cx="2438280" cy="276120"/>
            </a:xfrm>
            <a:custGeom>
              <a:avLst/>
              <a:gdLst/>
              <a:ahLst/>
              <a:rect l="l" t="t" r="r" b="b"/>
              <a:pathLst>
                <a:path w="3744" h="432">
                  <a:moveTo>
                    <a:pt x="240" y="0"/>
                  </a:moveTo>
                  <a:lnTo>
                    <a:pt x="0" y="432"/>
                  </a:lnTo>
                  <a:lnTo>
                    <a:pt x="3744" y="432"/>
                  </a:lnTo>
                  <a:lnTo>
                    <a:pt x="3506" y="4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02640" y="3840120"/>
              <a:ext cx="20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/Rememb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09720" y="358164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ersta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16720" y="3276720"/>
              <a:ext cx="94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9080" y="3048120"/>
              <a:ext cx="10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4840" y="274320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2560" y="246060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he Socratic Meth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oc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Question &amp; Answ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 dialogue with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Key to the Socratic Method is </a:t>
            </a:r>
            <a:r>
              <a:rPr b="0" lang="ga-IE" sz="3200" spc="-1" strike="noStrike" u="sng">
                <a:solidFill>
                  <a:srgbClr val="000000"/>
                </a:solidFill>
                <a:uFillTx/>
                <a:latin typeface="Arial"/>
              </a:rPr>
              <a:t>knowing what questions to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Once you know what questions to ask, finding and remembering the information will be a lot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7162920" y="977760"/>
            <a:ext cx="1422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Principles of High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Nobody can teach you as well as 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erely listening to your lecturers and completing assignments is never en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Not everything you are assigned to read or asked to do is equally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Grades are just subjective opi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aking mistakes (and occisionally appearing foolish) is the price you pay for learning and impro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The point of a question is to get you to think – </a:t>
            </a:r>
            <a:r>
              <a:rPr b="0" i="1" lang="ga-IE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 simply to answer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Ultimately, college is designed to teach you to think for yourself, not to repeat what textbooks and teachers tell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ubjects do not always seem interesting and relevant, but being actively engaged in learning them is better than being passively bored and not learning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Few things are as potentially difficult, frustrating or stressful as genuine learning, yet nothing is so rewarding and empow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well you do in college reflects your attitude and methods, not your 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f you’re doing it for the grades or approval of other, you’re missing the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ollege is a game... but a very important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843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purpose for reading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do I already know about this top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big pic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the author going to say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are the “expert”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questions does this information raise for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information is important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araphrase and summariz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organis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can I picture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’s my hook for remembering this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does this information fit in with what I already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858000" y="83808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Next lectur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11:00-12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KA 3-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886200" y="5257800"/>
            <a:ext cx="1353960" cy="1523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752480" y="5518080"/>
            <a:ext cx="1689120" cy="10159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5943600" y="5583240"/>
            <a:ext cx="1600200" cy="982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438280" y="4191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mo b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make good cho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12 Principles of High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igh-performing students, consciously or unconscious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elieve the following about college and their learning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body can teach you as well as </a:t>
            </a: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erely listening to your lecturers and completing assignments is never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t everything you are assigned to read or asked to do is equall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rades are just subjective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king mistakes (and occisionally appearing foolish) is the price you pay for learning and im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1800" spc="-1" strike="noStrike">
                <a:solidFill>
                  <a:srgbClr val="000000"/>
                </a:solidFill>
                <a:latin typeface="Arial"/>
              </a:rPr>
              <a:t>He who asks a question looks foolish for 2 minutes. He who doesn't, remains foolish forev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point of a question is to get you to think – </a:t>
            </a: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simply to answer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18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1-24T16:16:57Z</dcterms:modified>
  <cp:revision>1242</cp:revision>
  <dc:subject/>
  <dc:title>  Communication Skills   </dc:title>
</cp:coreProperties>
</file>