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31.wmf" ContentType="image/x-wmf"/>
  <Override PartName="/ppt/media/image25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9.wmf" ContentType="image/x-wmf"/>
  <Override PartName="/ppt/media/image1.png" ContentType="image/png"/>
  <Override PartName="/ppt/media/image2.wmf" ContentType="image/x-wmf"/>
  <Override PartName="/ppt/media/image21.jpeg" ContentType="image/jpeg"/>
  <Override PartName="/ppt/media/image9.png" ContentType="image/png"/>
  <Override PartName="/ppt/media/image22.jpeg" ContentType="image/jpeg"/>
  <Override PartName="/ppt/media/image30.wmf" ContentType="image/x-wmf"/>
  <Override PartName="/ppt/media/image2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DC41-AE30-4B27-A8A1-A094BE63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6C14-1214-4655-8BDB-52EEE90D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0FCB-80C5-4E9F-BCA9-A37E4E19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23A8-C36B-437B-935B-657E7442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699-8E3C-4092-BFCF-7879E92B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2493-4BF8-406A-97C2-6428F364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87A-7577-40E1-B87B-9082F90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002C-2971-49F1-B584-922822F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13D-D823-4C0C-B5EB-FBF1748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6DFD-2556-40CC-8DF7-0344B118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AB6D-1552-4DDC-ADE4-4F62396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EC9F-B17D-4A61-B854-079B3D9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C87A-D8AA-4F36-94EF-B297FC7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894A-A3B3-4C17-A3E6-42343D3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CAE-EF24-491E-A963-40A10DA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376-F817-4A08-ABD8-D987D914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B70-06B1-40B4-9D49-D5EF089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EC0C-A760-4108-B3FA-539265B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598D-6E3B-4CCB-8C56-281292D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1870-5899-4E6A-8C50-BFDB826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2878-C23D-481A-8104-FBF3164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296F-B983-45C6-9437-E2B5A1F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563B-A6BE-4E66-8339-F980BACB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B9F7-5CAF-4ABE-B1DF-8626A4C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0954-3829-443B-883F-A2E98AB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F543-C2D5-4A19-A199-7B35C48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CEC9-FFD4-4734-8668-4E12A71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7C47-EC06-41B4-ABA5-C60D6DB4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A438-B4C5-4AC1-8124-FDF57023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9623-DEF1-420E-9D34-ECDE8193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9543-90FA-4492-8248-74B8A3E3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FE9A-6DE2-4776-B162-AB77E3AB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269E-A7DE-4035-A20D-BC9C1E17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0244-E358-4425-8457-14B79E9F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3832-E6FB-4991-911B-05F21C2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5C77-51CB-4EF4-816E-0CE70D79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A667-B20A-47BB-8D51-F786407E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93AA-1F6E-45D8-A8A4-307460E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8588-AF22-48D4-9F5C-47580F74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1203-E8DD-4778-B459-4DC2836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2945-F847-4F98-8D99-E7BB6486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B8B5-21D6-470F-B809-6538D9CA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1CDD-9E30-4595-BF91-AE59D25C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AB8B-C469-4A89-8E50-6237681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12EE-158D-459D-9172-D83194A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F2DE-4DFA-44EE-99DE-C5BD2DD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E6BF-8316-4194-9762-9272D82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2A64-C16C-482B-8A2F-F6D67E3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4A33-E65C-40C7-8F82-2BA736C62B05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693-CB09-43B4-BEFB-2FAA3479F624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072-DE05-436F-9884-3CDF12372C7F}" type="slidenum"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09F-6330-4C7F-B22D-7AD5726D6DE4}" type="slidenum"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7d"/>
                </a:solidFill>
                <a:latin typeface="Arial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7d"/>
                </a:solidFill>
                <a:latin typeface="Arial"/>
              </a:rPr>
              <a:t>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7d"/>
                </a:solidFill>
                <a:latin typeface="Arial"/>
              </a:rPr>
              <a:t>Exc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7d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315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32080" y="152280"/>
            <a:ext cx="5211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34308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7848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90920" y="-76320"/>
            <a:ext cx="4248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4449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200160"/>
            <a:ext cx="428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8487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19520" y="76320"/>
            <a:ext cx="4074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600" spc="-1" strike="noStrike">
                <a:solidFill>
                  <a:srgbClr val="ffffff"/>
                </a:solidFill>
                <a:latin typeface="Arial"/>
              </a:rPr>
              <a:t>The journey so far...</a:t>
            </a:r>
            <a:r>
              <a:rPr b="0" lang="ga-IE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1479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495680" cy="324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324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094360" y="838080"/>
            <a:ext cx="3674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42960" y="228600"/>
            <a:ext cx="6077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7848360" cy="6175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791320" y="4362480"/>
            <a:ext cx="3429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520" y="355680"/>
            <a:ext cx="8381880" cy="62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Reflect and evaluat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s a result of this excercise, write down 10 things that would help you in making future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ame and student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Benefits of Powerpoint Kara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xperience 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xperience public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mprov” reduces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ractice for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494480" y="2627280"/>
            <a:ext cx="1116000" cy="1335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53080" y="359100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391520" y="5032440"/>
            <a:ext cx="990360" cy="91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553080" y="1600200"/>
            <a:ext cx="9716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Arial"/>
              </a:rPr>
              <a:t>That’s it for today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Old English Text MT"/>
              </a:rPr>
              <a:t>Sumo be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Journey so far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piste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82080" y="95400"/>
            <a:ext cx="733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5000" spc="-1" strike="noStrike">
                <a:solidFill>
                  <a:srgbClr val="ffffff"/>
                </a:solidFill>
                <a:latin typeface="Arial"/>
              </a:rPr>
              <a:t>Last lecture... recap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Communications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Arial"/>
              </a:rPr>
              <a:t>Last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Meeting M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nformation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5000" spc="-1" strike="noStrike">
                <a:solidFill>
                  <a:srgbClr val="ffffff"/>
                </a:solidFill>
                <a:latin typeface="Arial"/>
              </a:rPr>
              <a:t>Communications 4</a:t>
            </a:r>
            <a:br>
              <a:rPr sz="5000"/>
            </a:br>
            <a:r>
              <a:rPr b="0" lang="ga-IE" sz="5000" spc="-1" strike="noStrike">
                <a:solidFill>
                  <a:srgbClr val="ffffff"/>
                </a:solidFill>
                <a:latin typeface="Arial"/>
              </a:rPr>
              <a:t>Powerpoint Karaok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Communications Skills - Ora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rot="21465600">
            <a:off x="914040" y="4038120"/>
            <a:ext cx="4419720" cy="2273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657520" cy="126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715200">
            <a:off x="4419360" y="914040"/>
            <a:ext cx="427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477120" y="4829040"/>
            <a:ext cx="1857240" cy="180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 rot="20367600">
            <a:off x="533160" y="685800"/>
            <a:ext cx="2463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Powerpoint Karaoke - PP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in-off from the traditional Karaoke, however instead of singing songs, the participants must present an Impromptu and random PPT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-Karaoke can be considered a training game that allows the participants to hone their rhetorical presentation skills with a flair for dialogue. It is also considered to be a form of Improv or as a type of Theatersport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-Karaoke made its world debut in January 2006 in Ber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oal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the possibility to improve one's rhetorical 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How does it work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andom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10 seconds to vie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Describ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hort discussion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 right or wrong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an be factual, historic, humourous, made u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1-16T11:27:28Z</dcterms:modified>
  <cp:revision>393</cp:revision>
  <dc:subject/>
  <dc:title>  Communication Skills   </dc:title>
</cp:coreProperties>
</file>