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8370-35E1-4577-B24D-4C4B45803264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1C48-029B-497D-9B2C-14AD39B35B6C}" type="slidenum"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84661-2752-49CE-A0B2-C21B4EE7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1898A-7162-4844-8BC9-A55BAC0B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9BCA-AACC-4371-8745-DE836415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4F28C-6B7D-4739-9786-37C54288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A6AA-4B3A-48DD-A3DB-D49EC02F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721E-59EE-4A06-910C-90B816D0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FFE0-AE96-4AB8-A345-D6CEAE38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FA86-27D8-45BD-AD4F-17883058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D6DB-31C3-4D03-B1AB-E4436299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4B54-57D7-47B2-BB8B-DBE087B5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BEBE-4777-47AD-A033-3E288CF0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400B6-C0BC-4D93-957C-ACE7002D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A744-790E-43D9-B755-5087FA1E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6D51-F375-4FFD-84C1-2743000F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9CF2-3714-4347-B29F-7A36E2F5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1B1E-83C0-425E-978D-1AC28D41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E025-AA11-4845-837E-AB788F8E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BD55-3125-442D-B229-B3764EDB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5F83C-552D-49D9-BCE2-0059D75B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66B6-09E7-4D4F-B8B8-AA1F1A26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9F28-6E47-4206-9902-C78DC079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488DB-AE7C-405B-82BE-51A1F11D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E27E-2561-413B-9BD5-3543D2B7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5CEAD-7EAE-4F00-995B-029952D0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8873-33E7-43C3-9EBA-F85BC94FCB47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2F73-3ACD-413B-B4AF-F0CD0A119845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oftwaretestinghelp.com/" TargetMode="External"/><Relationship Id="rId2" Type="http://schemas.openxmlformats.org/officeDocument/2006/relationships/hyperlink" Target="http://www.softwaretestinghelp.com/" TargetMode="External"/><Relationship Id="rId3" Type="http://schemas.openxmlformats.org/officeDocument/2006/relationships/hyperlink" Target="http://www.softwaretestinghelp.com/" TargetMode="External"/><Relationship Id="rId4" Type="http://schemas.openxmlformats.org/officeDocument/2006/relationships/hyperlink" Target="http://www.softwaretestinghelp.com/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5000" spc="-1" strike="noStrike">
                <a:solidFill>
                  <a:srgbClr val="ffffff"/>
                </a:solidFill>
                <a:latin typeface="Arial"/>
              </a:rPr>
              <a:t>Written Communications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13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cc"/>
                </a:solidFill>
                <a:latin typeface="Arial"/>
              </a:rPr>
              <a:t>Strengths and Weakn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bal Commun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3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ole of Body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3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k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ossible to give long list of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3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ten Commun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3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proof of 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3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kness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ritten words does not show a person’s actual  feel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7468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PROCESS OF COMM…(cntd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6324480"/>
            <a:ext cx="3581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Software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Times New Roman"/>
                <a:hlinkClick r:id="rId3"/>
              </a:rPr>
              <a:t>Testing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Times New Roman"/>
                <a:hlinkClick r:id="rId4"/>
              </a:rPr>
              <a:t> 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E35A6-109B-4BF4-994E-330955E174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5:18:54Z</dcterms:created>
  <dc:creator>CM</dc:creator>
  <dc:description/>
  <dc:language>en-US</dc:language>
  <cp:lastModifiedBy>CM</cp:lastModifiedBy>
  <dcterms:modified xsi:type="dcterms:W3CDTF">2009-11-08T19:05:14Z</dcterms:modified>
  <cp:revision>613</cp:revision>
  <dc:subject/>
  <dc:title>Slide 1</dc:title>
</cp:coreProperties>
</file>