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34608-1862-454C-B4FA-12158B588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7FAE9-E719-46AC-9E57-B18369F4C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1ADD3-711A-416F-92F3-002297EA1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3984E-726E-4D1E-9C84-4A170B83F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39739-9C6B-4E34-A6FB-FE718F170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0FA91-B86C-4FFA-A1FA-14A62521A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A100F-BFCF-4A6D-9A8E-1E766E748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97328-A17C-44DE-B9FB-66F85CA76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F1B35-EF18-45F3-9CAC-396B8957B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ED5A6-5946-416B-98B4-13ED98B0E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E06B0-E753-490D-AFEE-75BFA0460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1C54D-6711-4D94-882A-F92D86466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6834-9509-4B08-9F7D-FC1020654C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826920" y="1557360"/>
            <a:ext cx="7561440" cy="4978440"/>
          </a:xfrm>
          <a:prstGeom prst="rect">
            <a:avLst/>
          </a:prstGeom>
          <a:ln w="0">
            <a:noFill/>
          </a:ln>
        </p:spPr>
      </p:pic>
      <p:sp>
        <p:nvSpPr>
          <p:cNvPr id="42" name="PlaceHolder 1"/>
          <p:cNvSpPr>
            <a:spLocks noGrp="1"/>
          </p:cNvSpPr>
          <p:nvPr>
            <p:ph type="title"/>
          </p:nvPr>
        </p:nvSpPr>
        <p:spPr>
          <a:xfrm>
            <a:off x="250560" y="404640"/>
            <a:ext cx="87138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s Studies and Personal Development</a:t>
            </a:r>
            <a:endParaRPr b="0" lang="en-US" sz="2400" spc="-1" strike="noStrike">
              <a:solidFill>
                <a:srgbClr val="000000"/>
              </a:solidFill>
              <a:latin typeface="Arial"/>
            </a:endParaRPr>
          </a:p>
        </p:txBody>
      </p:sp>
      <p:sp>
        <p:nvSpPr>
          <p:cNvPr id="43" name="PlaceHolder 2"/>
          <p:cNvSpPr>
            <a:spLocks noGrp="1"/>
          </p:cNvSpPr>
          <p:nvPr>
            <p:ph type="subTitle"/>
          </p:nvPr>
        </p:nvSpPr>
        <p:spPr>
          <a:xfrm>
            <a:off x="2268000" y="836640"/>
            <a:ext cx="4456440" cy="100800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Damian Gord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Module Content (6/6)</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Personal development: </a:t>
            </a:r>
            <a:r>
              <a:rPr b="0" lang="en-GB" sz="3200" spc="-1" strike="noStrike">
                <a:solidFill>
                  <a:srgbClr val="000000"/>
                </a:solidFill>
                <a:latin typeface="Arial"/>
              </a:rPr>
              <a:t>Study skills, technical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ssessmen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Module is assessed as 100% </a:t>
            </a:r>
            <a:r>
              <a:rPr b="0" i="1" lang="en-US" sz="3200" spc="-1" strike="noStrike">
                <a:solidFill>
                  <a:srgbClr val="000000"/>
                </a:solidFill>
                <a:latin typeface="Arial"/>
              </a:rPr>
              <a:t>Continuous Assessment.</a:t>
            </a:r>
            <a:endParaRPr b="0" lang="en-US" sz="3200" spc="-1" strike="noStrike">
              <a:solidFill>
                <a:srgbClr val="000000"/>
              </a:solidFill>
              <a:latin typeface="Arial"/>
            </a:endParaRPr>
          </a:p>
        </p:txBody>
      </p:sp>
      <p:pic>
        <p:nvPicPr>
          <p:cNvPr id="64" name="" descr=""/>
          <p:cNvPicPr/>
          <p:nvPr/>
        </p:nvPicPr>
        <p:blipFill>
          <a:blip r:embed="rId1"/>
          <a:stretch/>
        </p:blipFill>
        <p:spPr>
          <a:xfrm>
            <a:off x="2503440" y="2897280"/>
            <a:ext cx="4444920" cy="334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619280" y="1847880"/>
            <a:ext cx="6048360" cy="4605480"/>
          </a:xfrm>
          <a:prstGeom prst="rect">
            <a:avLst/>
          </a:prstGeom>
          <a:ln w="0">
            <a:noFill/>
          </a:ln>
        </p:spPr>
      </p:pic>
      <p:sp>
        <p:nvSpPr>
          <p:cNvPr id="66" name="PlaceHolder 1"/>
          <p:cNvSpPr>
            <a:spLocks noGrp="1"/>
          </p:cNvSpPr>
          <p:nvPr>
            <p:ph type="title"/>
          </p:nvPr>
        </p:nvSpPr>
        <p:spPr>
          <a:xfrm>
            <a:off x="68580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w to write e-mails</a:t>
            </a: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w to write an e-mail</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riting e-mails is a sk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t takes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email, you can't assume </a:t>
            </a:r>
            <a:r>
              <a:rPr b="0" i="1" lang="en-US" sz="3200" spc="-1" strike="noStrike">
                <a:solidFill>
                  <a:srgbClr val="000000"/>
                </a:solidFill>
                <a:latin typeface="Arial"/>
              </a:rPr>
              <a:t>anything</a:t>
            </a:r>
            <a:r>
              <a:rPr b="0" lang="en-US" sz="3200" spc="-1" strike="noStrike">
                <a:solidFill>
                  <a:srgbClr val="000000"/>
                </a:solidFill>
                <a:latin typeface="Arial"/>
              </a:rPr>
              <a:t> about a sender's location, time, frame of mind, profession, interests, or future value to you. This means, among other things, that you need to be very, very careful about giving your receivers some contex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w to write an e-mai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ubject Line</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     </a:t>
            </a:r>
            <a:r>
              <a:rPr b="0" lang="en-IE" sz="2000" spc="-1" strike="noStrike">
                <a:solidFill>
                  <a:srgbClr val="000000"/>
                </a:solidFill>
                <a:latin typeface="Courier New"/>
              </a:rPr>
              <a:t>Need help with timet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	</a:t>
            </a:r>
            <a:r>
              <a:rPr b="0" lang="en-IE" sz="2000" spc="-1" strike="noStrike">
                <a:solidFill>
                  <a:srgbClr val="000000"/>
                </a:solidFill>
                <a:latin typeface="Courier New"/>
              </a:rPr>
              <a:t>   </a:t>
            </a:r>
            <a:r>
              <a:rPr b="0" lang="en-IE" sz="2000" spc="-1" strike="noStrike">
                <a:solidFill>
                  <a:srgbClr val="000000"/>
                </a:solidFill>
                <a:latin typeface="Courier New"/>
              </a:rPr>
              <a:t>Re: Need help with timet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	</a:t>
            </a:r>
            <a:r>
              <a:rPr b="0" lang="en-IE" sz="2000" spc="-1" strike="noStrike">
                <a:solidFill>
                  <a:srgbClr val="000000"/>
                </a:solidFill>
                <a:latin typeface="Courier New"/>
              </a:rPr>
              <a:t>   </a:t>
            </a:r>
            <a:r>
              <a:rPr b="0" lang="en-IE" sz="2000" spc="-1" strike="noStrike">
                <a:solidFill>
                  <a:srgbClr val="000000"/>
                </a:solidFill>
                <a:latin typeface="Courier New"/>
              </a:rPr>
              <a:t>Fwd: Need help with timet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	</a:t>
            </a:r>
            <a:r>
              <a:rPr b="0" lang="en-IE" sz="2000" spc="-1" strike="noStrike">
                <a:solidFill>
                  <a:srgbClr val="000000"/>
                </a:solidFill>
                <a:latin typeface="Courier New"/>
              </a:rPr>
              <a:t>   </a:t>
            </a:r>
            <a:r>
              <a:rPr b="0" lang="en-IE" sz="2000" spc="-1" strike="noStrike">
                <a:solidFill>
                  <a:srgbClr val="000000"/>
                </a:solidFill>
                <a:latin typeface="Courier New"/>
              </a:rPr>
              <a:t>URGENT: Need help with timet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     </a:t>
            </a:r>
            <a:r>
              <a:rPr b="0" lang="en-IE" sz="2000" spc="-1" strike="noStrike">
                <a:solidFill>
                  <a:srgbClr val="000000"/>
                </a:solidFill>
                <a:latin typeface="Courier New"/>
              </a:rPr>
              <a:t>REQ: Need help with timet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ourier New"/>
              </a:rPr>
              <a:t>     </a:t>
            </a:r>
            <a:r>
              <a:rPr b="0" lang="en-IE" sz="2000" spc="-1" strike="noStrike">
                <a:solidFill>
                  <a:srgbClr val="000000"/>
                </a:solidFill>
                <a:latin typeface="Courier New"/>
              </a:rPr>
              <a:t>FYI: Need help with time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w to write an e-mail</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ourier New"/>
              </a:rPr>
              <a:t>Mr./Ms. [</a:t>
            </a:r>
            <a:r>
              <a:rPr b="0" i="1" lang="en-IE" sz="2400" spc="-1" strike="noStrike">
                <a:solidFill>
                  <a:srgbClr val="000000"/>
                </a:solidFill>
                <a:latin typeface="Courier New"/>
              </a:rPr>
              <a:t>Full name</a:t>
            </a:r>
            <a:r>
              <a:rPr b="0" lang="en-IE" sz="2400" spc="-1" strike="noStrike">
                <a:solidFill>
                  <a:srgbClr val="000000"/>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ourier New"/>
              </a:rPr>
              <a:t>[Body of e-mail].</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ourier New"/>
              </a:rPr>
              <a:t>Regard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ourier New"/>
              </a:rPr>
              <a:t>Your nam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ourier New"/>
              </a:rPr>
              <a:t>Student Numb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ourier New"/>
              </a:rPr>
              <a:t>DT21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w to write an e-mail</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Quoting an e-mail</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 I am e-mailing you to request if you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 you have finished i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es </a:t>
            </a:r>
            <a:endParaRPr b="0" lang="en-US" sz="2000" spc="-1" strike="noStrike">
              <a:solidFill>
                <a:srgbClr val="000000"/>
              </a:solidFill>
              <a:latin typeface="Arial"/>
            </a:endParaRPr>
          </a:p>
        </p:txBody>
      </p:sp>
      <p:sp>
        <p:nvSpPr>
          <p:cNvPr id="76" name=""/>
          <p:cNvSpPr/>
          <p:nvPr/>
        </p:nvSpPr>
        <p:spPr>
          <a:xfrm>
            <a:off x="324000" y="2276640"/>
            <a:ext cx="502920" cy="1152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anim calcmode="lin" valueType="num">
                                      <p:cBhvr additive="repl">
                                        <p:cTn id="9" dur="500" fill="hold"/>
                                        <p:tgtEl>
                                          <p:spTgt spid="76"/>
                                        </p:tgtEl>
                                        <p:attrNameLst>
                                          <p:attrName>r</p:attrName>
                                        </p:attrNameLst>
                                      </p:cBhvr>
                                      <p:tavLst>
                                        <p:tav tm="0">
                                          <p:val>
                                            <p:strVal val="360"/>
                                          </p:val>
                                        </p:tav>
                                        <p:tav tm="100000">
                                          <p:val>
                                            <p:strVal val="0"/>
                                          </p:val>
                                        </p:tav>
                                      </p:tavLst>
                                    </p:anim>
                                    <p:animEffect filter="fade" transition="in">
                                      <p:cBhvr additive="repl">
                                        <p:cTn id="1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w to write an e-mail</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hange pronouns</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 I am e-mailing you to request if you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 you have finished [the assignme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w to write an e-mail</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Paragraph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email messages will be read in a document window with scrollbars. While scrollbars are nice, it makes it harder to visually track long paragraphs. Consider breaking up your paragraphs to only a few sentences apie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w to write an e-mail</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e Lengt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mail clients do not automatically wrap (adjust what words go on what line). This means that if there is a mismatch between your client's and your correspondent's in how they wrap lines, your correspondent may end up with a message that looks mess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try to keep your lines under sixty characters long. This is to leave a little room for the indentation or quote marks your correspondents may want if they need to quote pieces of your message in their repli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Module Aim</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module will introduce students to the theory of clear communication and to a range of practical communication skills. These skills will include writing basic technical and business documents, delivering oral presentations, studying effectively, networking productively,  listening actively and  participating fully in team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w to write an e-mail</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mile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acial gestures can be represented with what is called a "smiley": a textual drawing of a facial expression. The most common a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en-US" sz="2000" spc="-1" strike="noStrike">
                <a:solidFill>
                  <a:srgbClr val="000000"/>
                </a:solidFill>
                <a:latin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w to write an e-mail</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ggest status cue is your competence with the languag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have lots of misspellings, your subjects do not agree with your verbs, or you use the wrong word, people may assume that you are uneducated. From that, they may infer that you are not very clever. It doesn't matter that the correlation between language ability and intelligence is weak (especially among non-native speakers); lots of people will make that inference anywa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more, some people are literally insulted by getting email with errors, especially typographical errors. They feel that it is disrespectful to send email with blatant errors. (Note that you can use this to your advantage. If you want to flaunt your superior status, you can insert some typos deliberate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How to write an e-mail</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rony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W - By The Wa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YI - For Your Informati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HO - In My Humble/Honest Opini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FM - Read The Manual ("Manual" here refers to any documentati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L - [I] Laughed Out Loud [at what you wrot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N - Real Soon Now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FL - [I am] Rolling On The Floor Laughing [at what you wrote] </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less common, but show up occasionally: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FN - Ta-Ta For Now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A - Thanks In Advance (also sometimes written advTHANKSa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1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What was that all about ?</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endParaRPr b="0" lang="en-US" sz="3200" spc="-1" strike="noStrike">
              <a:solidFill>
                <a:srgbClr val="000000"/>
              </a:solidFill>
              <a:latin typeface="Arial"/>
            </a:endParaRPr>
          </a:p>
        </p:txBody>
      </p:sp>
      <p:pic>
        <p:nvPicPr>
          <p:cNvPr id="91" name="" descr=""/>
          <p:cNvPicPr/>
          <p:nvPr/>
        </p:nvPicPr>
        <p:blipFill>
          <a:blip r:embed="rId1"/>
          <a:stretch/>
        </p:blipFill>
        <p:spPr>
          <a:xfrm>
            <a:off x="108000" y="1571760"/>
            <a:ext cx="8856720" cy="4119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What was that all about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rite down the three most important ideas you encountered during the cl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wap with the person beside you, are their top three similar or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What was that all about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ave a look at the notes that you have taken, do they make sense? Write a question mark beside everything you are not sure of, and underline the key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wap with the person beside you, are their notes similar or differ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Module Descrip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the students’ academic performance, their career prospects, and ultimately their companies’ success through clear, concise, ethical and accurate communication.</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evelop the students’ critical thinking abilities, their social and interactive skills, their understanding of the principles underpinning communication problems, and a positive approach to communicating clearly in a diverse range of situation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reinforce students’ self-esteem through a greater understanding of communication principles and their    practice of a range of valuable communication skil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Learning Outcom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 draft and edit a wide range of basic business and technical documents, including reports, letters, instructions, specifications, memoranda and e-mail.</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formal oral presentations, using appropriate visual aids; to contribute effectively to group  interaction and performance</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 contemporary communication issues in organisations such as the role of new information technologies, intercultural communication, globalisation and legal and ethical issues.</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y appropriate study skills to bridge the gap from second level and third level</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appropriate technical skills for written deliverables</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more effectively communication skills such as questioning and listening skills, study skills, intercultural competencies and non-verbal inter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Module Content (1/6)</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troduction to Principles of Communication</a:t>
            </a:r>
            <a:r>
              <a:rPr b="0" lang="en-GB" sz="3200" spc="-1" strike="noStrike">
                <a:solidFill>
                  <a:srgbClr val="000000"/>
                </a:solidFill>
                <a:latin typeface="Arial"/>
              </a:rPr>
              <a:t>: Categories of human communication; importance of  effective communication for studies and career; role of communication in organisations; how the components of the communication process work; ways to improve interpersonal commun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Module Content (2/6)</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ffective Writing</a:t>
            </a:r>
            <a:r>
              <a:rPr b="0" lang="en-GB" sz="2800" spc="-1" strike="noStrike">
                <a:solidFill>
                  <a:srgbClr val="000000"/>
                </a:solidFill>
                <a:latin typeface="Arial"/>
              </a:rPr>
              <a:t>: Planning and drafting a document; revising, editing and proof-reading documents; organising information; layout, format and structure of  various documents; style of writing including references to tone, word choice, sentence structures; review of  most important principles of  grammar and punctuation; writing products including reports, technical documents, letters and e-mails; using the computer in writing projects; writing a curriculum vitae; note-taking and basic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Module Content (3/6)</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ral Presentation: </a:t>
            </a:r>
            <a:r>
              <a:rPr b="0" lang="en-GB" sz="3200" spc="-1" strike="noStrike">
                <a:solidFill>
                  <a:srgbClr val="000000"/>
                </a:solidFill>
                <a:latin typeface="Arial"/>
              </a:rPr>
              <a:t>Major steps in preparing an oral presentation; verbal and non-verbal aspects of delivering a presentation; structuring a presentation; criteria for evaluating presentations; use of visual aids; basics of interview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Module Content (4/6)</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terpersonal and Organisational Communication Skills: </a:t>
            </a:r>
            <a:r>
              <a:rPr b="0" lang="en-GB" sz="3200" spc="-1" strike="noStrike">
                <a:solidFill>
                  <a:srgbClr val="000000"/>
                </a:solidFill>
                <a:latin typeface="Arial"/>
              </a:rPr>
              <a:t>Communicating in teams: listening skills; participating more effectively at meetings; the vocabulary of meetings and roles of committee personnel; handling conflict at meetings;  the categories and functions of  non-verbal communication and its role in effective communication; giving effective feedbac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Module Content (5/6)</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ntemporary Issues in Communication</a:t>
            </a:r>
            <a:r>
              <a:rPr b="0" lang="en-GB" sz="3200" spc="-1" strike="noStrike">
                <a:solidFill>
                  <a:srgbClr val="000000"/>
                </a:solidFill>
                <a:latin typeface="Arial"/>
              </a:rPr>
              <a:t>: Information technology and its implications for individual and organisational communication; globalisation and intercultural communication; legal and ethical aspects of communication; autonomy in work; rate of change and its implications for communic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22:08:51Z</dcterms:created>
  <dc:creator>dgordon</dc:creator>
  <dc:description/>
  <dc:language>en-US</dc:language>
  <cp:lastModifiedBy>dgordon</cp:lastModifiedBy>
  <dcterms:modified xsi:type="dcterms:W3CDTF">2009-09-26T01:01:51Z</dcterms:modified>
  <cp:revision>8</cp:revision>
  <dc:subject/>
  <dc:title>Communications Studies and Personal Development </dc:title>
</cp:coreProperties>
</file>