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E31-7B9E-4992-B040-F75F93AA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555-A3DE-4405-B915-D17F9FCB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B2C-4177-4D34-A651-100CA6FF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05C-1B67-492F-8C05-CC579E04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1A4-D46B-49A0-AF12-4D259060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EFE-2067-4651-9602-F4D91D47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696-1D95-41CF-9BFD-7C03E8C2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D88-3C83-4F06-A356-8EC1322B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6EC-EC78-45AB-AFA9-EBBC3A68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895-B0D6-4B0E-A640-44DDD379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785-DA72-4AFE-B0C3-CBCD9AB3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038-A70E-47E0-B5D2-0E71A3BA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7632-D03A-4218-91F5-4A2344C2613F}" type="slidenum">
              <a:rPr b="0" lang="ga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al to Equip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mpu-Global-Hyper-Mega-Net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[Firstname Lastname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Communications &amp; Personal Development (BUSN11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Year 1, Semest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chool of Comp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c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in Computing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T211/1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ublin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e Date: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09-12-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4400" spc="-1" strike="noStrike">
                <a:solidFill>
                  <a:srgbClr val="000000"/>
                </a:solidFill>
                <a:latin typeface="Arial"/>
              </a:rPr>
              <a:t>Presen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10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2 minutes to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Content, design, layout, etc. at your own dis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Save file nam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DT211_ITPresentation_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_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ZIP and email to lecturer with other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8:50:51Z</dcterms:created>
  <dc:creator>CM</dc:creator>
  <dc:description/>
  <dc:language>en-US</dc:language>
  <cp:lastModifiedBy>CM</cp:lastModifiedBy>
  <dcterms:modified xsi:type="dcterms:W3CDTF">2009-11-04T09:05:20Z</dcterms:modified>
  <cp:revision>8</cp:revision>
  <dc:subject/>
  <dc:title>Proposal to Equip  Compu-Global-Hyper-Mega-Net  </dc:title>
</cp:coreProperties>
</file>