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452-2C88-4F83-BA9C-D62DD6E6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A46-761F-449F-A718-CE5D089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213-FCCA-4BED-A7E2-3E497D6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947-B878-4453-835F-B538FA64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C61-9C25-4784-8E1F-731B7B28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4580-53F5-4741-991F-DF2B94E6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F7E-3109-48DA-B9C4-CE13C23E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15B-43A9-4B4E-ACEC-50D2DB5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1739-B13D-40AB-BFB3-2B7B5BB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174E-C531-4998-8DBA-06EECE12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5D1B-4707-400A-9BCA-87D5BF1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C7A-31A5-4A77-B459-F96D8DC9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D5FC-465A-419C-AFA9-6248EB98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F26-B849-430C-BF07-4C2D1CD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455D-CFDF-4453-9C0F-1530072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2E1-EB72-43F8-BA4E-7B952C0E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2FAB-5E12-40CB-BE74-7D36EE74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EB0-97FC-4AAD-BBB6-FC763C70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DF2-4A21-4B17-B59C-EE75DAA0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0C0-59BF-4546-B9BE-47DFC809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C86-C6DB-46E9-AC34-D329BB0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507-E6BF-4FA6-B79F-6B56490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2FE-B09D-4C1F-B895-4112D36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812-7EC4-439D-8523-F53A8CD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E7FB-74CD-42D4-ABCB-023E8B88D8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12D-69B0-48BF-B085-F11EA5678F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6666"/>
                </a:solidFill>
                <a:latin typeface="Arial"/>
              </a:rPr>
              <a:t>AT System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Verdana"/>
              </a:rPr>
              <a:t>Lecture 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54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5386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697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507960"/>
            <a:ext cx="640872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44520"/>
            <a:ext cx="633564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76908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8407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0"/>
          <a:ext cx="7129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0"/>
                    <a:ext cx="71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ww.ssiacymru.org.uk/media/pdf/2/8/community_equipment_-_national_minimum_standards_guidance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184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Retail Model 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Self assessment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rograms such as SARA (www.asksara.org.uk) and SmartAss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www.adlsmartcare.co.uk) are computer-based self assessment tools. Using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mputer may be alien to some people (70% of people aged 65 or more 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ever used 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Retail Model 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727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0240" y="1484280"/>
            <a:ext cx="8483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186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677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6121440" cy="424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63920" y="112536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2011 EU Report on Intern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82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ec.europa.eu/information_society/activities/einclusion/library/studies/assistive_market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AT Assessment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871380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5960" y="6308640"/>
            <a:ext cx="58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Access to Assistive Technology, Deloitte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Models </a:t>
            </a:r>
            <a:br>
              <a:rPr sz="3200"/>
            </a:br>
            <a:r>
              <a:rPr b="0" lang="en-IE" sz="2000" spc="-1" strike="noStrike">
                <a:solidFill>
                  <a:srgbClr val="006666"/>
                </a:solidFill>
                <a:latin typeface="Arial"/>
              </a:rPr>
              <a:t>M=Medical: S=Social: C=Consumer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ATA requir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08720" cy="2979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4032360"/>
            <a:ext cx="799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05408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24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3240" y="260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Netherlan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65760" y="1557360"/>
            <a:ext cx="2747880" cy="388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1989000"/>
            <a:ext cx="485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rm “Trusted Assessor” was orig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ined to describe staff, such as assistant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workers, who had undergone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because of their growing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roviding people with disability equip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part of delivering community care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as envisaged that their work w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in the realms of ‘straightforward’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low risk needs, leaving qualifie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ncentrate on people with more compl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ris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8880" y="62064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Trusted Assessor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3160" y="5876280"/>
            <a:ext cx="68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ww.cot.co.uk/sites/default/files/.../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ompetenc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1:03:55Z</dcterms:created>
  <dc:creator>Trish MacKeogh</dc:creator>
  <dc:description/>
  <dc:language>en-US</dc:language>
  <cp:lastModifiedBy>Support</cp:lastModifiedBy>
  <dcterms:modified xsi:type="dcterms:W3CDTF">2012-03-26T18:41:45Z</dcterms:modified>
  <cp:revision>15</cp:revision>
  <dc:subject/>
  <dc:title>AT Systems</dc:title>
</cp:coreProperties>
</file>