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png" ContentType="image/png"/>
  <Override PartName="/ppt/media/image6.png" ContentType="image/png"/>
  <Override PartName="/ppt/media/image5.wmf" ContentType="image/x-wmf"/>
  <Override PartName="/ppt/media/image10.png" ContentType="image/png"/>
  <Override PartName="/ppt/media/image4.wmf" ContentType="image/x-wmf"/>
  <Override PartName="/ppt/media/image3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948488" cy="10083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541A-50AA-4E1D-97C2-23397A126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9DCB-DC51-4356-B80B-B7056FC0D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A87A-7128-45F0-A6E8-B25472B62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CDAF-650A-4AB9-BFFE-029AD93C1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5F6F6-EF15-43DB-9143-0D162A857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CCF10-87EF-44D0-8F88-9C9820961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9DE03-5CCE-48E8-BC76-30C7C6500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BD8CD-3EEB-4232-8AFF-43EF27B1B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A2F36-9F89-46EF-BF03-09FB85811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61C15-B623-403F-85C1-0C3A6D389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9B70C-9377-4593-93DC-58EF8C301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6C3D-CBC4-4E1A-A275-49A633EE1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5E893-409B-4E9F-A579-3E2F4088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365BB-245D-42DB-AECC-FB5A07207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DD2D1-F229-4CD9-8D2F-B8A7A9DCB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73FA8-73EB-4ABC-BD3A-BBC382E60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6C44E-ED95-4816-82BD-3DC0B61ED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E1D8-2118-44E2-B852-B881FBEF0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EA08-96DD-440F-82A0-E9BA4F6D4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52E3-B57A-424B-8DFB-AA4244AD3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D53E-827E-4CDF-A9E8-14E69D91C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0BDE-65A2-4F08-91E7-017BD6E88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3EE7-7847-495A-8E8A-EB40DB053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0489-1164-464B-BC0C-5AD63DE5B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88B3E-50EE-4CE3-88CD-B861AC17AD4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929E2-991F-4F98-ABFC-E42B8679CFE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6666"/>
                </a:solidFill>
                <a:latin typeface="Arial"/>
              </a:rPr>
              <a:t>AT Systems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900" spc="-1" strike="noStrike">
                <a:solidFill>
                  <a:srgbClr val="000000"/>
                </a:solidFill>
                <a:latin typeface="Verdana"/>
              </a:rPr>
              <a:t>Lecture 8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79280" y="404640"/>
            <a:ext cx="87854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26920" y="333360"/>
            <a:ext cx="7345440" cy="60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900000" y="404640"/>
            <a:ext cx="7704360" cy="59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835280" y="333360"/>
            <a:ext cx="553860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692360" y="189000"/>
            <a:ext cx="6264360" cy="57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187280" y="907920"/>
            <a:ext cx="6697800" cy="52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403280" y="507960"/>
            <a:ext cx="6408720" cy="59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32000" y="344520"/>
            <a:ext cx="6335640" cy="60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042920" y="692280"/>
            <a:ext cx="6769080" cy="56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116000" y="404640"/>
            <a:ext cx="6840720" cy="59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13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971640" y="0"/>
          <a:ext cx="712944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0"/>
                    <a:ext cx="71294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827360"/>
            <a:ext cx="82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www.ssiacymru.org.uk/media/pdf/2/8/community_equipment_-_national_minimum_standards_guidance.pdf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195640" y="189000"/>
            <a:ext cx="41846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Retail Model UK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11280" y="1827360"/>
            <a:ext cx="8353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900" spc="-1" strike="noStrike">
                <a:solidFill>
                  <a:srgbClr val="000000"/>
                </a:solidFill>
                <a:latin typeface="Verdana"/>
              </a:rPr>
              <a:t>Self assessment program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Programs such as SARA (www.asksara.org.uk) and SmartAssis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(www.adlsmartcare.co.uk) are computer-based self assessment tools. Using 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computer may be alien to some people (70% of people aged 65 or more ha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Verdana"/>
              </a:rPr>
              <a:t>never used one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6666"/>
                </a:solidFill>
                <a:latin typeface="Arial"/>
              </a:rPr>
              <a:t>Retail Model UK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258920" y="1484280"/>
            <a:ext cx="772776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60240" y="1484280"/>
            <a:ext cx="848376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518680" cy="60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9167760" cy="52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6121440" cy="42483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563920" y="1125360"/>
            <a:ext cx="39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Verdana"/>
              </a:rPr>
              <a:t>2011 EU Report on Internal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8360" y="5950080"/>
            <a:ext cx="828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http://ec.europa.eu/information_society/activities/einclusion/library/studies/assistive_market/index_en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6666"/>
                </a:solidFill>
                <a:latin typeface="Arial"/>
              </a:rPr>
              <a:t>AT Assessment proces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14065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79280" y="3213000"/>
            <a:ext cx="8713800" cy="30956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335960" y="6308640"/>
            <a:ext cx="58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urce: Access to Assistive Technology, Deloitte, 200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6666"/>
                </a:solidFill>
                <a:latin typeface="Arial"/>
              </a:rPr>
              <a:t>Models </a:t>
            </a:r>
            <a:br>
              <a:rPr sz="3200"/>
            </a:br>
            <a:r>
              <a:rPr b="0" lang="en-IE" sz="2000" spc="-1" strike="noStrike">
                <a:solidFill>
                  <a:srgbClr val="006666"/>
                </a:solidFill>
                <a:latin typeface="Arial"/>
              </a:rPr>
              <a:t>M=Medical: S=Social: C=Consumer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11280" y="1771560"/>
            <a:ext cx="799308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6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6666"/>
                </a:solidFill>
                <a:latin typeface="Arial"/>
              </a:rPr>
              <a:t>DATA required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11280" y="1197000"/>
            <a:ext cx="8208720" cy="29797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55640" y="4032360"/>
            <a:ext cx="799308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50920" y="1054080"/>
            <a:ext cx="7993080" cy="51116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924360" y="333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43240" y="26028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6666"/>
                </a:solidFill>
                <a:latin typeface="Arial"/>
              </a:rPr>
              <a:t>Netherland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83516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765760" y="1557360"/>
            <a:ext cx="2747880" cy="38876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68360" y="1989000"/>
            <a:ext cx="4857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term “Trusted Assessor” was origin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ined to describe staff, such as assistants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pport workers, who had undergone speci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 because of their growing impor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providing people with disability equipmen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 part of delivering community care servi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was envisaged that their work would 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thin the realms of ‘straightforward’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latively low risk needs, leaving qualified 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concentrate on people with more complex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igher risk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198880" y="620640"/>
            <a:ext cx="398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The Trusted Assessor U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73160" y="5876280"/>
            <a:ext cx="68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www.cot.co.uk/sites/default/files/.../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Competence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framework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.pdf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0T11:03:55Z</dcterms:created>
  <dc:creator>Trish MacKeogh</dc:creator>
  <dc:description/>
  <dc:language>en-US</dc:language>
  <cp:lastModifiedBy>Support</cp:lastModifiedBy>
  <dcterms:modified xsi:type="dcterms:W3CDTF">2012-03-26T18:41:45Z</dcterms:modified>
  <cp:revision>15</cp:revision>
  <dc:subject/>
  <dc:title>AT Systems</dc:title>
</cp:coreProperties>
</file>