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174B5-04E2-487F-8D5B-6871E06BC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EE160-470E-4598-8DAD-00586A50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410F2-5534-41B3-B083-4DC78D12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454DA-1ED1-44BB-9365-DF3C721B8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66FDD-3620-4907-A77F-FE8E6590D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0034F-24E2-43DF-9CF9-71FBD3A98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D4929-5CEF-43B8-9ED4-095B424E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34C9D-DEC2-4F12-B72B-5DBA8FE8A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66D41-57C0-4279-9FAA-A8CBE722A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233D8-BD87-4D3E-A5DA-740F5BF40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A6715-57E4-4AFE-B0F0-EE59CA514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1A09-170F-444D-A55B-6743A802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7FBDF-5E69-4BFC-A3BC-F7672AF38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900EF-A618-4AFE-8C8C-215C99F87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E266F-02A6-401F-86FC-67837A605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B8E31-263D-4E5E-A3D7-E8EEBA9D9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B98D4-4F05-4DF2-B545-0643CB0BD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2418-B2D6-47E7-AA66-4E06F6938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ED8CC-7C6A-4FB0-B5C2-972C620B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4355-60ED-48F8-B17B-C80672640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E5EB-15D6-4065-B3B7-5535E6C19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4E3F-9814-4536-A281-BA26DCBB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0DC8-872F-46D7-92C4-D88A6FF9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1CAF-EC2D-42C0-B141-B6887B9BE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F5C8-483D-45C8-8003-D25D47A290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D3F8-574C-43FE-9564-40DF573E5E82}"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 to Leadership</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ry O’Sulliva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27</a:t>
            </a:r>
            <a:r>
              <a:rPr b="0" lang="en-GB" sz="3200" spc="-1" strike="noStrike" baseline="30000">
                <a:solidFill>
                  <a:srgbClr val="000000"/>
                </a:solidFill>
                <a:latin typeface="Tahoma"/>
              </a:rPr>
              <a:t>th</a:t>
            </a:r>
            <a:r>
              <a:rPr b="0" lang="en-GB" sz="3200" spc="-1" strike="noStrike">
                <a:solidFill>
                  <a:srgbClr val="000000"/>
                </a:solidFill>
                <a:latin typeface="Tahoma"/>
              </a:rPr>
              <a:t> February 20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and Action!</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sion without action is merely a dream.  Action without vision just passes the time.  Vision with action can change the worl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J.A. Barker 199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velopment of a Vision</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keholders – who are they and what do they wa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vironmental factor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uiding Values &amp; Principles – Core Valu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rganisational analysis e.g. SWO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hange Manag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otential Barriers</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Europa Hotel Belfas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We are ladies and gentlemen serving ladies and gentlem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artin Luther King, 1963</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I have a dream that one day my four children will live in a nation where they will not be judged by the colours of their skin but by the content of their character.  I have a dream tod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rack Obama, 2008</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Yes we can!</a:t>
            </a: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Is feidir linn?)</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Skill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 least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rganisationa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ministrativ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uman – very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 managemen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tiva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ceptual – most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ategic planning</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i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Archetypes</a:t>
            </a:r>
            <a:br>
              <a:rPr sz="4400"/>
            </a:br>
            <a:r>
              <a:rPr b="0" lang="en-GB" sz="3200" spc="-1" strike="noStrike">
                <a:solidFill>
                  <a:srgbClr val="333399"/>
                </a:solidFill>
                <a:latin typeface="Tahoma"/>
              </a:rPr>
              <a:t>Ben Walden, 2008</a:t>
            </a:r>
            <a:endParaRPr b="0" lang="en-US" sz="32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Great King</a:t>
            </a:r>
            <a:r>
              <a:rPr b="0" lang="en-GB" sz="3200" spc="-1" strike="noStrike">
                <a:solidFill>
                  <a:srgbClr val="333399"/>
                </a:solidFill>
                <a:latin typeface="Tahoma"/>
              </a:rPr>
              <a:t>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 Static Masculine – Order</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Great Mother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 </a:t>
            </a:r>
            <a:r>
              <a:rPr b="0" lang="en-GB" sz="2800" spc="-1" strike="noStrike">
                <a:solidFill>
                  <a:srgbClr val="009900"/>
                </a:solidFill>
                <a:latin typeface="Tahoma"/>
              </a:rPr>
              <a:t>Static Feminine – Nurture</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arrior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ff0000"/>
                </a:solidFill>
                <a:latin typeface="Tahoma"/>
              </a:rPr>
              <a:t>Dynamic Masculine – Action</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ad00"/>
                </a:solidFill>
                <a:latin typeface="Tahoma"/>
              </a:rPr>
              <a:t>Medicine Woman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 </a:t>
            </a:r>
            <a:r>
              <a:rPr b="0" lang="en-GB" sz="2800" spc="-1" strike="noStrike">
                <a:solidFill>
                  <a:srgbClr val="d6ad00"/>
                </a:solidFill>
                <a:latin typeface="Tahoma"/>
              </a:rPr>
              <a:t>Dynamic Feminine - Change</a:t>
            </a:r>
            <a:endParaRPr b="0" lang="en-US" sz="28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2000"/>
                                        <p:tgtEl>
                                          <p:spTgt spid="1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 dur="2000"/>
                                        <p:tgtEl>
                                          <p:spTgt spid="13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5" dur="2000"/>
                                        <p:tgtEl>
                                          <p:spTgt spid="131">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 dur="2000"/>
                                        <p:tgtEl>
                                          <p:spTgt spid="131">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3" dur="2000"/>
                                        <p:tgtEl>
                                          <p:spTgt spid="131">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8" dur="2000"/>
                                        <p:tgtEl>
                                          <p:spTgt spid="131">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1" dur="2000"/>
                                        <p:tgtEl>
                                          <p:spTgt spid="131">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31">
                                            <p:txEl>
                                              <p:pRg st="6" end="6"/>
                                            </p:txEl>
                                          </p:spTgt>
                                        </p:tgtEl>
                                        <p:attrNameLst>
                                          <p:attrName>style.visibility</p:attrName>
                                        </p:attrNameLst>
                                      </p:cBhvr>
                                      <p:to>
                                        <p:strVal val="visible"/>
                                      </p:to>
                                    </p:set>
                                    <p:animEffect filter="fade" transition="in">
                                      <p:cBhvr additive="repl">
                                        <p:cTn id="36" dur="2000"/>
                                        <p:tgtEl>
                                          <p:spTgt spid="131">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39" dur="20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d00"/>
                </a:solidFill>
                <a:latin typeface="Tahoma"/>
              </a:rPr>
              <a:t>Medicine Woman – Change</a:t>
            </a:r>
            <a:br>
              <a:rPr sz="4400"/>
            </a:br>
            <a:r>
              <a:rPr b="0" lang="en-GB" sz="4400" spc="-1" strike="noStrike">
                <a:solidFill>
                  <a:srgbClr val="d6ad00"/>
                </a:solidFill>
                <a:latin typeface="Tahoma"/>
              </a:rPr>
              <a:t>Character Qualiti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Visionar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Creates chang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Enthusiastic</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t>
            </a:r>
            <a:r>
              <a:rPr b="0" lang="en-GB" sz="2800" spc="-1" strike="noStrike">
                <a:solidFill>
                  <a:srgbClr val="d6ad00"/>
                </a:solidFill>
                <a:latin typeface="Tahoma"/>
              </a:rPr>
              <a:t>Spark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Imaginative</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Paints Pictures</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with words)</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Cre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daptab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Demonstr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nimat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Inspir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Dynam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Experimen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00"/>
                </a:solidFill>
                <a:latin typeface="Tahoma"/>
              </a:rPr>
              <a:t>Great Mother – Nurture</a:t>
            </a:r>
            <a:br>
              <a:rPr sz="4400"/>
            </a:br>
            <a:r>
              <a:rPr b="0" lang="en-GB" sz="4400" spc="-1" strike="noStrike">
                <a:solidFill>
                  <a:srgbClr val="009900"/>
                </a:solidFill>
                <a:latin typeface="Tahoma"/>
              </a:rPr>
              <a:t>Character Qualitie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assu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Suppor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spons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Helpfu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la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cep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adiates Warmth</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Encourag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Empathet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Sha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lax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Welcom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Builds Tru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Develops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ahoma"/>
              </a:rPr>
              <a:t>Warrior – Action</a:t>
            </a:r>
            <a:br>
              <a:rPr sz="4400"/>
            </a:br>
            <a:r>
              <a:rPr b="0" lang="en-GB" sz="4400" spc="-1" strike="noStrike">
                <a:solidFill>
                  <a:srgbClr val="ff0000"/>
                </a:solidFill>
                <a:latin typeface="Tahoma"/>
              </a:rPr>
              <a:t>Character Qualiti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spi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Persuas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elling Vi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mpet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trong Will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nfid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allenging</a:t>
            </a:r>
            <a:endParaRPr b="0" lang="en-US" sz="2800" spc="-1" strike="noStrike">
              <a:solidFill>
                <a:srgbClr val="000000"/>
              </a:solidFill>
              <a:latin typeface="Tahoma"/>
            </a:endParaRPr>
          </a:p>
        </p:txBody>
      </p:sp>
      <p:sp>
        <p:nvSpPr>
          <p:cNvPr id="140"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otivat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Forcefu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ask focus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ff0000"/>
                </a:solidFill>
                <a:latin typeface="Tahoma"/>
              </a:rPr>
              <a:t>Call to Arm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Rous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stils belief</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nfron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utlin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is Leadership?</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ortance of Vis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Skill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Archetype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tuational Leadership Model</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Risks of Leading Chang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enari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ood King – Order</a:t>
            </a:r>
            <a:br>
              <a:rPr sz="4400"/>
            </a:br>
            <a:r>
              <a:rPr b="0" lang="en-GB" sz="4400" spc="-1" strike="noStrike">
                <a:solidFill>
                  <a:srgbClr val="333399"/>
                </a:solidFill>
                <a:latin typeface="Tahoma"/>
              </a:rPr>
              <a:t>Character Qualitie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Sets Objecti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aises succes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Inform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Recognises Effor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uthorit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Controlling influenc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ttention to detail</a:t>
            </a:r>
            <a:endParaRPr b="0" lang="en-US" sz="2800" spc="-1" strike="noStrike">
              <a:solidFill>
                <a:srgbClr val="000000"/>
              </a:solidFill>
              <a:latin typeface="Tahoma"/>
            </a:endParaRPr>
          </a:p>
        </p:txBody>
      </p:sp>
      <p:sp>
        <p:nvSpPr>
          <p:cNvPr id="143"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Delibera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ecis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Method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nalyt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Log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ssess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actic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Negative Leadership Potential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Good King – Too Much Order</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Bitter Old Man</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Great Mother – Over Nurtur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Devouring Mother</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arrior – Action Only</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ercenary Tyrant</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ad00"/>
                </a:solidFill>
                <a:latin typeface="Tahoma"/>
              </a:rPr>
              <a:t>Medicine Woman – Addicted to Chang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Madwoman</a:t>
            </a:r>
            <a:endParaRPr b="0" lang="en-US" sz="28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8" name="Picture 4" descr="situational leadership model"/>
          <p:cNvPicPr/>
          <p:nvPr/>
        </p:nvPicPr>
        <p:blipFill>
          <a:blip r:embed="rId1"/>
          <a:stretch/>
        </p:blipFill>
        <p:spPr>
          <a:xfrm>
            <a:off x="1835280" y="189000"/>
            <a:ext cx="6408720" cy="640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often involves challenging people (including yourself) to live up to their words, to close the gap between their espoused value and their behaviou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t is often about helping groups make difficult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2"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can come from any place within or even outside an organisa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more authority you have, the more you risk when you exercise leadership.</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is dangerous because you are rarely authorised to le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87280" y="2602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4"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f leadership were about giving people good news the job would be easy.</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ople do not resist change as such.  People resist los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You place yourself in the line when you tell people what they </a:t>
            </a:r>
            <a:r>
              <a:rPr b="0" i="1" lang="en-IE" sz="3200" spc="-1" strike="noStrike">
                <a:solidFill>
                  <a:srgbClr val="000000"/>
                </a:solidFill>
                <a:latin typeface="Tahoma"/>
              </a:rPr>
              <a:t>need</a:t>
            </a:r>
            <a:r>
              <a:rPr b="0" lang="en-IE" sz="3200" spc="-1" strike="noStrike">
                <a:solidFill>
                  <a:srgbClr val="000000"/>
                </a:solidFill>
                <a:latin typeface="Tahoma"/>
              </a:rPr>
              <a:t> to hear rather than what they </a:t>
            </a:r>
            <a:r>
              <a:rPr b="0" i="1" lang="en-IE" sz="3200" spc="-1" strike="noStrike">
                <a:solidFill>
                  <a:srgbClr val="000000"/>
                </a:solidFill>
                <a:latin typeface="Tahoma"/>
              </a:rPr>
              <a:t>want </a:t>
            </a:r>
            <a:r>
              <a:rPr b="0" lang="en-IE" sz="3200" spc="-1" strike="noStrike">
                <a:solidFill>
                  <a:srgbClr val="000000"/>
                </a:solidFill>
                <a:latin typeface="Tahoma"/>
              </a:rPr>
              <a:t>to he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6"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problems that require leadership are those that the experts cannot solve</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solution to these </a:t>
            </a:r>
            <a:r>
              <a:rPr b="0" i="1" lang="en-IE" sz="3200" spc="-1" strike="noStrike">
                <a:solidFill>
                  <a:srgbClr val="000000"/>
                </a:solidFill>
                <a:latin typeface="Tahoma"/>
              </a:rPr>
              <a:t>adaptive challenges </a:t>
            </a:r>
            <a:r>
              <a:rPr b="0" lang="en-IE" sz="3200" spc="-1" strike="noStrike">
                <a:solidFill>
                  <a:srgbClr val="000000"/>
                </a:solidFill>
                <a:latin typeface="Tahoma"/>
              </a:rPr>
              <a:t>lie not in technical answers, but rather in people themselv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uccessful leaders in any field tend to emphasize personal relationshi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8"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member when you ask people to participate in adaptive change, you are asking a lot.  You may be asking them to choose between two values, both important to the way they understand themselves.</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You may be asking people to close the distance between their espoused values and their actual behaviou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60"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y significant adaptive change that benefits the organisation as a whole may clearly and tangibly hurt some of those who thrived under the status quo.  If people simply cannot or will not go along with change, then they will become casualti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f you signal your unwillingness to sustain casualties, you invite people to ignore your goa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1</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isis Situ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gnificant Budget Cuts/Loss of Busines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should a leader beh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is Leadership?</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5" name="Picture 4" descr="leadership-penguin"/>
          <p:cNvPicPr/>
          <p:nvPr/>
        </p:nvPicPr>
        <p:blipFill>
          <a:blip r:embed="rId1"/>
          <a:stretch/>
        </p:blipFill>
        <p:spPr>
          <a:xfrm>
            <a:off x="1042920" y="1989000"/>
            <a:ext cx="792180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2</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aumatic Ev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a small company/organisation a colleague’s mother dies suddenly and unexpectedl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the leader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udolph Giuliani</a:t>
            </a:r>
            <a:br>
              <a:rPr sz="4400"/>
            </a:br>
            <a:r>
              <a:rPr b="0" lang="en-GB" sz="4400" spc="-1" strike="noStrike">
                <a:solidFill>
                  <a:srgbClr val="333399"/>
                </a:solidFill>
                <a:latin typeface="Tahoma"/>
              </a:rPr>
              <a:t>Mayor of New York in 2001</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Weddings Discretionary Funerals Mandatory</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3</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flict situation in the organis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ff is split on a particular iss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should a leader beh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Wanted</a:t>
            </a:r>
            <a:br>
              <a:rPr sz="4400"/>
            </a:br>
            <a:r>
              <a:rPr b="0" lang="en-GB" sz="4400" spc="-1" strike="noStrike">
                <a:solidFill>
                  <a:srgbClr val="333399"/>
                </a:solidFill>
                <a:latin typeface="Tahoma"/>
              </a:rPr>
              <a:t>“The Perfect Leader”</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iracle worker who can do more with less, pacify rival groups, endure chronic second guessing, tolerate low levels of support, process large volumes of paper and work double shifts (at least 75 nights per year), he or she will have carte blanche to innovate, but cannot spend much money, replace any personnel or upset any constituency.</a:t>
            </a:r>
            <a:endParaRPr b="0" lang="en-US" sz="2800" spc="-1" strike="noStrike">
              <a:solidFill>
                <a:srgbClr val="000000"/>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Michael Fullan, 1995</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ank You</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Question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V Management</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Management is doing things righ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is doing the right th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ter J. Druck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 Theory of Leadership</a:t>
            </a:r>
            <a:br>
              <a:rPr sz="4400"/>
            </a:br>
            <a:r>
              <a:rPr b="0" lang="en-GB" sz="4400" spc="-1" strike="noStrike">
                <a:solidFill>
                  <a:srgbClr val="333399"/>
                </a:solidFill>
                <a:latin typeface="Tahoma"/>
              </a:rPr>
              <a:t>– R.J. Starrat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ssumption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implies a relationship with other peop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is something that is exercised over time rather than in a single act or even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takes place in relation to some organisation, agency, institution or commun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Leadership is no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not present simply because a person occupies a “leadership posi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more than a style, a trait, a group of behaviours, or a degree of effectivenes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not a part that is identified as encompassing a whole, e.g. risk-taking, decisiveness, foresigh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haracteristics of Leadership</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oted in mea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erges out of a vis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erges out of a dramatic sen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quires the articulation of a vis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bodies the vision in organisational structur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tinuous or periodic renewal of the institu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ortance of Vision</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ters &amp; Austin, 1985</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Vision is a concise statement/picture of where the organisation and its people are he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leadership the issue is not the substance of the vision but the importance of having one, being able to communicate it and implement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comes first!</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rts with a single individu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committee’s vision” – be w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eam or fantasy – a sense of the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ndwagon or hear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ware! – too many attempts at the vision process can create apath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9:09:12Z</dcterms:created>
  <dc:creator>cdvec</dc:creator>
  <dc:description/>
  <dc:language>en-US</dc:language>
  <cp:lastModifiedBy>Rory O'Sullivan</cp:lastModifiedBy>
  <dcterms:modified xsi:type="dcterms:W3CDTF">2012-02-26T16:30:56Z</dcterms:modified>
  <cp:revision>12</cp:revision>
  <dc:subject/>
  <dc:title>Introduction to Leadership</dc:title>
</cp:coreProperties>
</file>