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6453-3B7D-49F7-B4A9-5EA83205E4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The arguments for the use of games in education are tha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The multi-sensory environment offered by virtual gaming worlds caters for multiple learning sty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Games provide extensive opportunities for </a:t>
            </a: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drill &amp; practice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which reinforces information 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Games can help develop higher order skills such as critical thinking, strategic thinking, problem solving, and team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871380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12400" y="4075920"/>
            <a:ext cx="871380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425232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840" y="1197000"/>
            <a:ext cx="425232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12400" y="4075920"/>
            <a:ext cx="425232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7840" y="4075920"/>
            <a:ext cx="425232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2805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58640" y="1197000"/>
            <a:ext cx="2805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805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12400" y="4075920"/>
            <a:ext cx="2805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58640" y="4075920"/>
            <a:ext cx="2805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4520" y="4075920"/>
            <a:ext cx="2805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12400" y="1197000"/>
            <a:ext cx="87138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871380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425232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7840" y="1197000"/>
            <a:ext cx="425232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4440" y="88560"/>
            <a:ext cx="844884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425232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1197000"/>
            <a:ext cx="425232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12400" y="4075920"/>
            <a:ext cx="425232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12400" y="1197000"/>
            <a:ext cx="87138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425232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1197000"/>
            <a:ext cx="425232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7840" y="4075920"/>
            <a:ext cx="425232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425232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1197000"/>
            <a:ext cx="425232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12400" y="4075920"/>
            <a:ext cx="871380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871380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12400" y="4075920"/>
            <a:ext cx="871380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425232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197000"/>
            <a:ext cx="425232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2400" y="4075920"/>
            <a:ext cx="425232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7840" y="4075920"/>
            <a:ext cx="425232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2805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58640" y="1197000"/>
            <a:ext cx="2805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805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12400" y="4075920"/>
            <a:ext cx="2805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58640" y="4075920"/>
            <a:ext cx="2805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4520" y="4075920"/>
            <a:ext cx="280548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871380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425232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7840" y="1197000"/>
            <a:ext cx="425232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4440" y="88560"/>
            <a:ext cx="844884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425232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840" y="1197000"/>
            <a:ext cx="425232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12400" y="4075920"/>
            <a:ext cx="425232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425232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197000"/>
            <a:ext cx="425232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7840" y="4075920"/>
            <a:ext cx="425232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425232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197000"/>
            <a:ext cx="425232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12400" y="4075920"/>
            <a:ext cx="871380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920" y="88920"/>
            <a:ext cx="8964720" cy="668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2400" y="1197000"/>
            <a:ext cx="871380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3192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398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8920" y="88920"/>
            <a:ext cx="539640" cy="10350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E589-A02A-44D3-9686-BF3C46428B57}" type="slidenum">
              <a:rPr b="0" lang="en-GB" sz="16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br>
              <a:rPr sz="1600"/>
            </a:br>
            <a:r>
              <a:rPr b="0" lang="en-GB" sz="1600" spc="-1" strike="noStrike">
                <a:solidFill>
                  <a:srgbClr val="0033cc"/>
                </a:solidFill>
                <a:latin typeface="Arial"/>
              </a:rPr>
              <a:t>of</a:t>
            </a:r>
            <a:br>
              <a:rPr sz="1600"/>
            </a:br>
            <a:r>
              <a:rPr b="0" lang="en-GB" sz="1600" spc="-1" strike="noStrike">
                <a:solidFill>
                  <a:srgbClr val="0033cc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88920" y="88920"/>
            <a:ext cx="8964720" cy="66801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365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8892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39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1.png"/><Relationship Id="rId4" Type="http://schemas.openxmlformats.org/officeDocument/2006/relationships/image" Target="../media/image2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95360" y="1701720"/>
            <a:ext cx="67392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33cc"/>
                </a:solidFill>
                <a:latin typeface="Arial"/>
              </a:rPr>
              <a:t>Serious Gordon:</a:t>
            </a:r>
            <a:br>
              <a:rPr sz="4400"/>
            </a:br>
            <a:r>
              <a:rPr b="0" lang="en-IE" sz="4000" spc="-1" strike="noStrike">
                <a:solidFill>
                  <a:srgbClr val="0033cc"/>
                </a:solidFill>
                <a:latin typeface="Arial"/>
              </a:rPr>
              <a:t>Using Serious Games To Teach Kitchen Food Safety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3320" y="104760"/>
            <a:ext cx="2209680" cy="16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3320" y="3435480"/>
            <a:ext cx="2209680" cy="165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03320" y="5102280"/>
            <a:ext cx="2209680" cy="16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03320" y="1770120"/>
            <a:ext cx="2209680" cy="16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700360" y="3720960"/>
            <a:ext cx="6335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rian Mac Namee, Pauline Rooney, Patrick Lindstrom, Andrew Ritchie, Frances Boylan &amp; Greg Burk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33cc"/>
                </a:solidFill>
                <a:latin typeface="Arial"/>
              </a:rPr>
              <a:t>Screenshots (cont…)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871380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80920" y="1174680"/>
            <a:ext cx="736308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33cc"/>
                </a:solidFill>
                <a:latin typeface="Arial"/>
              </a:rPr>
              <a:t>Screenshots (cont…)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871380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3040" y="1214280"/>
            <a:ext cx="872352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33cc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871380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formal evaluations have take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articipants were quizzed on kitchen food safety before and after playing Serious Gor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eople who took part in the experiment tended to fare better in the second quiz than the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We need to do much bet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33cc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871380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re were some interesting lessons learned over the course of the pro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rtists are required for a serious game development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ofessional voice actors and script writers are worth the exp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oof of concept demos are invalu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xpected learning outcomes should be defined in detail as early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33cc"/>
                </a:solidFill>
                <a:latin typeface="Arial"/>
              </a:rPr>
              <a:t>Future Work &amp; Questions Raised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871380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re are some obvious pieces of work that need to be done n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mprove the look of the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et Faceposer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Undertake a rigorous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re are also a number of interesting questions that arose from the proj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s some kind of NPC AI editor required to make this serious game development vi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How does fun versus learning balan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ingle player or multi-play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2400" y="1298520"/>
            <a:ext cx="87138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8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0" spc="-1" strike="noStrike">
                <a:solidFill>
                  <a:srgbClr val="000000"/>
                </a:solidFill>
                <a:latin typeface="Chiller"/>
              </a:rPr>
              <a:t>?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33cc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871380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esentation out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erious games &amp; digital game bas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ood safety in the kit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 development of Serious Gor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erious Gordon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ere n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33cc"/>
                </a:solidFill>
                <a:latin typeface="Arial"/>
              </a:rPr>
              <a:t>Serious Games &amp;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igital Game-Based Learni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997520" y="1477800"/>
            <a:ext cx="3173400" cy="2716200"/>
            <a:chOff x="4997520" y="1477800"/>
            <a:chExt cx="3173400" cy="27162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5005440" y="1480680"/>
              <a:ext cx="3160800" cy="2376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7" name=""/>
            <p:cNvSpPr/>
            <p:nvPr/>
          </p:nvSpPr>
          <p:spPr>
            <a:xfrm>
              <a:off x="5655960" y="3825720"/>
              <a:ext cx="187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Hazmat Hotz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97520" y="1477800"/>
              <a:ext cx="3173400" cy="268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944640" y="1477800"/>
            <a:ext cx="3173400" cy="2708280"/>
            <a:chOff x="944640" y="1477800"/>
            <a:chExt cx="3173400" cy="270828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949320" y="1481040"/>
              <a:ext cx="3167280" cy="2376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1" name=""/>
            <p:cNvSpPr/>
            <p:nvPr/>
          </p:nvSpPr>
          <p:spPr>
            <a:xfrm>
              <a:off x="1644120" y="3817800"/>
              <a:ext cx="17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America’s Ar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44640" y="1477800"/>
              <a:ext cx="3173400" cy="268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19040" y="4494240"/>
            <a:ext cx="8256600" cy="189144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0" i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key i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to privilege one arena over the other but to find the synergy between pedagogy and engageme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0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obert van Ec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The Food Safety Authority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8713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U regulations on food hygiene now st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…</a:t>
            </a:r>
            <a:r>
              <a:rPr b="0" i="1" lang="en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food handlers are supervised and instructed and or trained in food hygiene matters commensurate with their work activity.”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36377" t="20292" r="35695" b="15026"/>
          <a:stretch/>
        </p:blipFill>
        <p:spPr>
          <a:xfrm>
            <a:off x="334800" y="3576600"/>
            <a:ext cx="1549440" cy="217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89280" y="3489480"/>
            <a:ext cx="701496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IE" sz="2700" spc="-1" strike="noStrike">
                <a:solidFill>
                  <a:srgbClr val="000000"/>
                </a:solidFill>
                <a:latin typeface="Arial"/>
              </a:rPr>
              <a:t>Guide to Food Safety Training: Level 1 - Induction Skills and Level 2 - Additional Skills for Food and Non-Food Handlers (Food Service, Retail and Manufacturing Sectors)”, Food Safety Authority of Ireland. (200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Kitchen Food Safety Competenci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871380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1280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ear and maintain uniform/protective clothing hygien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intain a high standard of hand-wa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intain a high standard of personal hyg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monstrate correct hygiene practice if suffering from ailments/illnesses that may affect the safety of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void unhygienic practices in a food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monstrate safe food handling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intain staff facilities in a hygienic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bey food safety 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Keep work areas 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33cc"/>
                </a:solidFill>
                <a:latin typeface="Arial"/>
              </a:rPr>
              <a:t>Developing Serious Gordo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871380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21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Key features of the development of Serious Gord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21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 multi-disciplinary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21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 expected learning outcomes for the game matched the competencies outlined by the food safet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21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 storyboard was developed to map out how the game would proc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21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velopers built proof of concept demos for each game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216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 script editor and a voice actor were h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33cc"/>
                </a:solidFill>
                <a:latin typeface="Arial"/>
              </a:rPr>
              <a:t>The Source Engin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530532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Source engine provides a comprehensive suite of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dditional functionality was added to the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7800" y="3681360"/>
            <a:ext cx="5267520" cy="295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700600" y="1309680"/>
            <a:ext cx="319104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700600" y="4087800"/>
            <a:ext cx="319104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33cc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871380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8360" y="3998880"/>
            <a:ext cx="3598920" cy="269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98360" y="1198440"/>
            <a:ext cx="3598920" cy="2698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17800" y="3486240"/>
            <a:ext cx="1474920" cy="922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817800" y="4446720"/>
            <a:ext cx="1474920" cy="1106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3817800" y="2341440"/>
            <a:ext cx="1474920" cy="1106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3817800" y="5591160"/>
            <a:ext cx="1474920" cy="1106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3817800" y="1198440"/>
            <a:ext cx="1474920" cy="1106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5326200" y="1198440"/>
            <a:ext cx="3598560" cy="2698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5326200" y="3998880"/>
            <a:ext cx="35985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4440" y="88560"/>
            <a:ext cx="8448840" cy="10364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33cc"/>
                </a:solidFill>
                <a:latin typeface="Arial"/>
              </a:rPr>
              <a:t>Screenshot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2400" y="1197000"/>
            <a:ext cx="871380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82720" y="1198440"/>
            <a:ext cx="735948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0:36:18Z</dcterms:created>
  <dc:creator>Brian Mac Namee</dc:creator>
  <dc:description/>
  <dc:language>en-US</dc:language>
  <cp:lastModifiedBy>Brian Mac Namee</cp:lastModifiedBy>
  <dcterms:modified xsi:type="dcterms:W3CDTF">2006-11-22T11:05:31Z</dcterms:modified>
  <cp:revision>64</cp:revision>
  <dc:subject/>
  <dc:title>Serious Gordon: Kitchen Food Safety In Half Life 2</dc:title>
</cp:coreProperties>
</file>